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BE51-F345-4C42-8BBE-12186490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AF3-A4DC-4BF4-AD42-56F44197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BA4-7713-425D-86A4-69879B72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898-5A6C-4BD4-A1F9-2215DDAE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1B8-CACA-4A95-940E-AF1BB0F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BD0-87C8-4793-9B0E-FE0AE808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7A8-E304-4D96-A17B-F31F91BE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B7B-7540-4714-92B1-E2ABE779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A65-F531-4B2D-9555-4A731908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783-22EF-4AA1-9334-39B5BD8B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1F8-27AF-43E1-8E5F-5EBE485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982-B37A-421D-8809-58E356C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F5AB-A1CC-41F1-9193-1A755DB87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23520" y="2103480"/>
            <a:ext cx="782172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Valoración de Empre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8920" y="414972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ván Alvarez 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Estados Financieros son la fuente de información financiera para una gran diversidad de usu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r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ul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es financieros comunes y estand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 los recursos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posee la empresa a una momento determi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stra además las fuentes de financiamiento de estos act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ro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iv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o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rimon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Object 7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943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alla forma en que la empresa genera sus resultados (utilidades o pérdi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mpla resultados del giro (operacionales), distintos al giro (no operacionales, incluyendo financieros) e impu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resultados no repartidos como dividendos van aumentando el Patrimonio de la empresa (Utilidades Reteni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6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85800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do de Flujo de Efectivo (o Flujo de Ca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alla flujos de caj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fect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generados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la empresa durante un cierto perí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identifican fluj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aldo neto de flujo de efectivo debe corresponder entonces a la variación de la Caja del período y registrada en el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1030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5734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000" y="380880"/>
            <a:ext cx="83898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jetivos del Semi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ender los fundamentos de valoriz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visar los elementos necesarios para valorizar un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uente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y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corpor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licar metodología en 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visar situa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o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terminar el valor de una empresa es un objetivo muy importante en la toma de decisiones financieras tale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quisic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sio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ones bursáti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es de expa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Valoració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n diversos métodos para determinar el valor d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re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 contable (valor en lib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 bursá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 del múlti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de caja descon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étodos de Valoración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344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 CO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define como la diferencia entre el activo y el pasivo de una empresa; es decir, el patrimonio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debilidad de este método radica en que el valor en libros de los activos fijos no reflejen su valor de mercado (terrenos, edificios, maquinarias y equipos varios). Lo mismo es aplicable a los rubros de inventarios y cuentas por cob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ariación del método del valor contable consiste en realizar ajustes a los activos y pasivos a valor de mercado para obtener un patrimonio neto ajus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3440" y="91440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39760" y="6477120"/>
            <a:ext cx="281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Tahoma"/>
              </a:rPr>
              <a:t>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03440" y="1142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ALOR BURSA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fine como el producto del número de acciones de una empresa por el el precio o cotización de su acción en Bol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39760" y="2971800"/>
            <a:ext cx="499428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03440" y="91440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3440" y="38862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ebilidad de este método radic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se puede aplicar a las empresas que cotizan en las Bolsas de Val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mercados de valores están expuestos a shocks exógenos que afectan el real valor de las acciones de las empre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étodos de Valoración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03440" y="1142640"/>
            <a:ext cx="77724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ETODO DEL MULTIPL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iste en el Price Earnings Ratio (PER) de empresas similares que sí se cotizan en Bolsa, y proyecta el valor de la empresa en función a sus utilidades actuales o esper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indicador sobre las expectativas de crecimiento de la indu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ebilidad de este método radic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empresas de un mismo sector pueden ser no comparables (endeudamiento, capacidad instalada, organización, integración vertical u horizontal, entre ot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mercados de valores están expuestos a shocks exógenos que afectan el real valor de las acciones de las em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étodos de Valoración (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0344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DESCONTAD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iste en proyectar los flujos de caja generados por las operaciones de la empresa y traerlos a valor presente, descontándolos a una tasa que refleje el costo de oportunidad del capital y el riesgo del negocio (valor económic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valor patrimonial se obtiene descontando al valor económico el valor actual de la deu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e método permitir obtener el valor más aproximado sobre el real valor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ebilidad de este método radica en obtener el verdadero costo de oportunidad de capital o tasa de descu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étodos de Valoración (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335268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ALOR * PATRIM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84320" y="2286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ALOR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84320" y="4800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02080" y="1981080"/>
            <a:ext cx="457200" cy="3505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94280" y="205740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780"/>
                </a:lnTo>
                <a:cubicBezTo>
                  <a:pt x="10800" y="4680"/>
                  <a:pt x="5400" y="5580"/>
                  <a:pt x="0" y="5580"/>
                </a:cubicBezTo>
                <a:cubicBezTo>
                  <a:pt x="5400" y="5580"/>
                  <a:pt x="10800" y="6480"/>
                  <a:pt x="10800" y="738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45280" y="2133720"/>
            <a:ext cx="35812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Flujos Proyec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Análisis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Análisis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osto de oportunidad del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Riesgo país,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Riesgo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94280" y="4495680"/>
            <a:ext cx="301680" cy="1067040"/>
          </a:xfrm>
          <a:custGeom>
            <a:avLst/>
            <a:gdLst>
              <a:gd name="textAreaLeft" fmla="*/ 192960 w 301680"/>
              <a:gd name="textAreaRight" fmla="*/ 302040 w 3016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45280" y="464832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Análisis de 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Valor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762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étodos de Valoración (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1840" y="1117440"/>
            <a:ext cx="4923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FLUJO DE CAJA DESCON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29:55Z</dcterms:created>
  <dc:creator>IALVAREZ</dc:creator>
  <dc:description/>
  <dc:language>en-US</dc:language>
  <cp:lastModifiedBy>IALVAREZ</cp:lastModifiedBy>
  <dcterms:modified xsi:type="dcterms:W3CDTF">2008-03-19T13:06:35Z</dcterms:modified>
  <cp:revision>6</cp:revision>
  <dc:subject/>
  <dc:title>Diapositiva 1</dc:title>
</cp:coreProperties>
</file>