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C4A-B0A6-4C54-A336-B395548898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88620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886200" y="8686800"/>
            <a:ext cx="2970360" cy="455760"/>
            <a:chOff x="3886200" y="8686800"/>
            <a:chExt cx="2970360" cy="455760"/>
          </a:xfrm>
        </p:grpSpPr>
        <p:sp>
          <p:nvSpPr>
            <p:cNvPr id="633" name=""/>
            <p:cNvSpPr/>
            <p:nvPr/>
          </p:nvSpPr>
          <p:spPr>
            <a:xfrm>
              <a:off x="3886200" y="8686800"/>
              <a:ext cx="29703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86200" y="8989920"/>
              <a:ext cx="29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0" y="868680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8620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886200" y="8686800"/>
            <a:ext cx="2970360" cy="455760"/>
            <a:chOff x="3886200" y="8686800"/>
            <a:chExt cx="2970360" cy="455760"/>
          </a:xfrm>
        </p:grpSpPr>
        <p:sp>
          <p:nvSpPr>
            <p:cNvPr id="641" name=""/>
            <p:cNvSpPr/>
            <p:nvPr/>
          </p:nvSpPr>
          <p:spPr>
            <a:xfrm>
              <a:off x="3886200" y="8686800"/>
              <a:ext cx="29703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86200" y="8989920"/>
              <a:ext cx="29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0" y="868680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88620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886200" y="8686800"/>
            <a:ext cx="2970360" cy="455760"/>
            <a:chOff x="3886200" y="8686800"/>
            <a:chExt cx="2970360" cy="455760"/>
          </a:xfrm>
        </p:grpSpPr>
        <p:sp>
          <p:nvSpPr>
            <p:cNvPr id="649" name=""/>
            <p:cNvSpPr/>
            <p:nvPr/>
          </p:nvSpPr>
          <p:spPr>
            <a:xfrm>
              <a:off x="3886200" y="8686800"/>
              <a:ext cx="29703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6200" y="8989920"/>
              <a:ext cx="29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388620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886200" y="8686800"/>
            <a:ext cx="2970360" cy="455760"/>
            <a:chOff x="3886200" y="8686800"/>
            <a:chExt cx="2970360" cy="455760"/>
          </a:xfrm>
        </p:grpSpPr>
        <p:sp>
          <p:nvSpPr>
            <p:cNvPr id="657" name=""/>
            <p:cNvSpPr/>
            <p:nvPr/>
          </p:nvSpPr>
          <p:spPr>
            <a:xfrm>
              <a:off x="3886200" y="8686800"/>
              <a:ext cx="29703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86200" y="8989920"/>
              <a:ext cx="29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0" y="868680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297180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251-00FF-4691-9DFD-030895DA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3AA-4D78-47B3-8A2C-5AA0A9FC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896-0BCC-495E-A185-30A595F1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7F0-4A01-4AEF-8F8F-3BA2CA0A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074-5B68-495A-A606-3287EAB9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195-F9E1-403A-B2DF-07ABBAB8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F27-FD9C-4698-AFF3-9BA6D69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11E-AB70-48B8-894F-218981AF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8E0-3C6F-4113-A9C2-01B1740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FB6-7CB6-4B62-905A-74EC568A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A9F-D239-4A4A-810A-76DA5E6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E03-9EB5-4B29-B0F1-677F828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539 ECONOMÍA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OR RAÚL O´R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F61-679B-4271-951C-C239057DA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2133720"/>
            <a:ext cx="6553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SESIÓN N°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ternal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ienes de Li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cesoBienes Públ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725480"/>
            <a:ext cx="83818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stas emisiones generan un d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Hasta el nivel de producción 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, el ambiente es capaz de asimilar las descargas sin que éstas provoquen d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Al aumentar la producción más allá de 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estas descargas superan la capacidad asimilativa del ambiente y comienza a producirse daño ambiental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6888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3716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 Black"/>
              </a:rPr>
              <a:t>Cabe distinguir dos cu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(1)    </a:t>
            </a:r>
            <a:r>
              <a:rPr b="1" sz="2400" spc="-1" strike="noStrike">
                <a:solidFill>
                  <a:srgbClr val="000000"/>
                </a:solidFill>
                <a:latin typeface="Arial Black"/>
              </a:rPr>
              <a:t>La de  </a:t>
            </a:r>
            <a:r>
              <a:rPr b="1" i="1" sz="2400" spc="-1" strike="noStrike">
                <a:solidFill>
                  <a:srgbClr val="000000"/>
                </a:solidFill>
                <a:latin typeface="Arial Black"/>
              </a:rPr>
              <a:t>daños totales</a:t>
            </a:r>
            <a:r>
              <a:rPr b="1" sz="2400" spc="-1" strike="noStrike">
                <a:solidFill>
                  <a:srgbClr val="000000"/>
                </a:solidFill>
                <a:latin typeface="Arial Black"/>
              </a:rPr>
              <a:t> asociado al total producido (y por tanto el total emit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4840" y="22860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84480" y="1484280"/>
            <a:ext cx="6183000" cy="4745880"/>
            <a:chOff x="1284480" y="1484280"/>
            <a:chExt cx="6183000" cy="4745880"/>
          </a:xfrm>
        </p:grpSpPr>
        <p:sp>
          <p:nvSpPr>
            <p:cNvPr id="136" name=""/>
            <p:cNvSpPr/>
            <p:nvPr/>
          </p:nvSpPr>
          <p:spPr>
            <a:xfrm flipV="1">
              <a:off x="2693880" y="3279600"/>
              <a:ext cx="0" cy="257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3880" y="5859360"/>
              <a:ext cx="375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3360" y="5702400"/>
              <a:ext cx="31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124080"/>
              <a:ext cx="117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osto de Daño ($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284480" y="1483560"/>
              <a:ext cx="4228560" cy="43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93880" y="5234040"/>
              <a:ext cx="2194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3880" y="445284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88080" y="5234040"/>
              <a:ext cx="0" cy="625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57880" y="4452840"/>
              <a:ext cx="0" cy="14065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720" y="4295880"/>
              <a:ext cx="560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92600" y="3359160"/>
              <a:ext cx="1874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osto de Daño Total de la Contamin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3000" y="5859360"/>
              <a:ext cx="704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4040" y="5859360"/>
              <a:ext cx="704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0560" y="5859360"/>
              <a:ext cx="704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7080" y="5000760"/>
              <a:ext cx="46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295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(2)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La curva de </a:t>
            </a:r>
            <a:r>
              <a:rPr b="0" i="1" sz="2400" spc="-1" strike="noStrike">
                <a:solidFill>
                  <a:srgbClr val="000000"/>
                </a:solidFill>
                <a:latin typeface="Arial Black"/>
              </a:rPr>
              <a:t>daños marginales 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0" i="1" sz="2400" spc="-1" strike="noStrike">
                <a:solidFill>
                  <a:srgbClr val="000000"/>
                </a:solidFill>
                <a:latin typeface="Arial Black"/>
              </a:rPr>
              <a:t> costos marginales externos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(CM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l costo o daño total es la suma de los costos marginales exter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143000" y="2286000"/>
            <a:ext cx="7162920" cy="3037680"/>
            <a:chOff x="1143000" y="2286000"/>
            <a:chExt cx="7162920" cy="3037680"/>
          </a:xfrm>
        </p:grpSpPr>
        <p:sp>
          <p:nvSpPr>
            <p:cNvPr id="154" name=""/>
            <p:cNvSpPr/>
            <p:nvPr/>
          </p:nvSpPr>
          <p:spPr>
            <a:xfrm flipV="1">
              <a:off x="2362320" y="243792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4952880"/>
              <a:ext cx="365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48006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2286000"/>
              <a:ext cx="1219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osto Marginal Externo           ($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276720" y="2666880"/>
              <a:ext cx="2286000" cy="2286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2720" y="28195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osto Marginal Exte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2520" y="42670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37339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4080" y="49528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3920" y="49528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3400" y="49528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64484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Ahora se puede juntar t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624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87692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n ausencia de regulación la firma produce 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m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Impone un costo de daño ambiental total de C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m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97720" y="1828800"/>
            <a:ext cx="4612680" cy="3037680"/>
            <a:chOff x="2097720" y="1828800"/>
            <a:chExt cx="4612680" cy="3037680"/>
          </a:xfrm>
        </p:grpSpPr>
        <p:sp>
          <p:nvSpPr>
            <p:cNvPr id="170" name=""/>
            <p:cNvSpPr/>
            <p:nvPr/>
          </p:nvSpPr>
          <p:spPr>
            <a:xfrm flipH="1">
              <a:off x="3123360" y="2590920"/>
              <a:ext cx="2514600" cy="1828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514600" y="1904760"/>
              <a:ext cx="0" cy="251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4419720"/>
              <a:ext cx="365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514600" y="2590920"/>
              <a:ext cx="312408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124080" y="2514600"/>
              <a:ext cx="2590920" cy="190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124080" y="2285640"/>
              <a:ext cx="0" cy="2133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505320" y="2285640"/>
              <a:ext cx="0" cy="2133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67080" y="3657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581280"/>
              <a:ext cx="0" cy="8384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952880" y="2361960"/>
              <a:ext cx="0" cy="2057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2286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406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BMN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46040" y="44766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4956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449568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0600" y="44956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44956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5880" y="4343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410080" y="3276720"/>
              <a:ext cx="8384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2080" y="305604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97720" y="1828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600200"/>
            <a:ext cx="80010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Cuál será el nivel óptimo de producción q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3660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l nivel de producción que maximiza el beneficio social n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3660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Del gráfico, éste se obtien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BMNP = CME  Condición marginal cl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Porqué sucede esto? Una unidad más, o una menos del bien reduce el nivel de bienestar social, pero por diferentes raz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9256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9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1600200"/>
            <a:ext cx="8305920" cy="40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n conclusión, a nivel de la fi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l nivel óptimo (eficiente) de producción en presencia de una externalidad negativa es menor al de compe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5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q* &lt; 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m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5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Cero contaminación, por lo general, no es ópt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5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q*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888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9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1832040"/>
            <a:ext cx="83059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¿Qué sucede si hay varias firmas en el mercad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¿Cómo se ve lo anterior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Se agrega un costo marginal externo a cada nivel de Q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7600" indent="-193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Los costos marginales sociales son la suma de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Costo marginal privado + costo marginal extern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92560" y="27288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0" dur="1" fill="hold"/>
                                  <p:tgtEl>
                                    <p:spTgt spid="19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9256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00200" y="2017800"/>
            <a:ext cx="5037840" cy="3705480"/>
            <a:chOff x="1600200" y="2017800"/>
            <a:chExt cx="5037840" cy="3705480"/>
          </a:xfrm>
        </p:grpSpPr>
        <p:sp>
          <p:nvSpPr>
            <p:cNvPr id="199" name=""/>
            <p:cNvSpPr/>
            <p:nvPr/>
          </p:nvSpPr>
          <p:spPr>
            <a:xfrm>
              <a:off x="2334240" y="2166840"/>
              <a:ext cx="0" cy="30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34240" y="5246640"/>
              <a:ext cx="335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90760" y="3805920"/>
              <a:ext cx="887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78520" y="380592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90760" y="2953080"/>
              <a:ext cx="2271240" cy="2193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390760" y="2709000"/>
              <a:ext cx="2172240" cy="1828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0200" y="35452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CL" sz="2000" spc="-1" strike="noStrike" baseline="30000">
                  <a:solidFill>
                    <a:srgbClr val="000000"/>
                  </a:solidFill>
                  <a:latin typeface="Arial Black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84320" y="5269320"/>
              <a:ext cx="117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CL" sz="2000" spc="-1" strike="noStrike" baseline="30000">
                  <a:solidFill>
                    <a:srgbClr val="000000"/>
                  </a:solidFill>
                  <a:latin typeface="Arial Black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7440" y="2405160"/>
              <a:ext cx="237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Mg Social (CMP+C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31720" y="2887200"/>
              <a:ext cx="13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Mg Priv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57680" y="3666240"/>
              <a:ext cx="60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14400" y="5294160"/>
              <a:ext cx="46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s-ES_tradnl" sz="22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42840" y="2017800"/>
              <a:ext cx="356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788560" y="3068640"/>
              <a:ext cx="2207520" cy="1815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552840" y="3431160"/>
              <a:ext cx="2341800" cy="1542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70960" y="259596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3280" y="5263920"/>
              <a:ext cx="117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CL" sz="2000" spc="-1" strike="noStrike" baseline="30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84800" y="399348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CL" sz="2000" spc="-1" strike="noStrike" baseline="30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4120" y="4157640"/>
              <a:ext cx="1273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38160" y="4157640"/>
              <a:ext cx="0" cy="11005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190512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uego a nivel de mercado se concluye en presencia de externalidades negativas que, lo óptim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3841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Producir con Q* &lt; Qm   (Q*&gt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3841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Precio del bien: P* &gt;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n Qm hay una pérdida social, respecto de producir Q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11640" y="27288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2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17680" y="1031760"/>
            <a:ext cx="816912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Black"/>
              </a:rPr>
              <a:t>Una industria produce un bien que se vende a $9 por unidad. La producción del bien genera contaminación que no es deseable desde el punto de vista de la sociedad. Si el costo fijo de producir es de $5, y los costos variables y costos marginales externos están dados por los siguiente datos, encuentre la cantidad óptima a producir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s-MX" sz="2300" spc="-1" strike="noStrike">
                <a:solidFill>
                  <a:srgbClr val="000000"/>
                </a:solidFill>
                <a:latin typeface="Arial Black"/>
              </a:rPr>
              <a:t>) </a:t>
            </a:r>
            <a:r>
              <a:rPr b="0" lang="es-ES" sz="2300" spc="-1" strike="noStrike">
                <a:solidFill>
                  <a:srgbClr val="000000"/>
                </a:solidFill>
                <a:latin typeface="Arial Black"/>
              </a:rPr>
              <a:t>Para un empresario privad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Black"/>
              </a:rPr>
              <a:t>b)</a:t>
            </a:r>
            <a:r>
              <a:rPr b="0" lang="es-MX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300" spc="-1" strike="noStrike">
                <a:solidFill>
                  <a:srgbClr val="000000"/>
                </a:solidFill>
                <a:latin typeface="Arial Black"/>
              </a:rPr>
              <a:t>Para la socieda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5105520"/>
          <a:ext cx="7086600" cy="119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05520"/>
                    <a:ext cx="708660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76212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Black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14400"/>
            <a:ext cx="769608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Falla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l primer tipo de falla de mercado corresponde a externalidades. La próxima clase estudiaremos bienes de libre acceso y bienes públic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533520" y="1143000"/>
            <a:ext cx="9982440" cy="5396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224440" y="23004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Black"/>
              </a:rPr>
              <a:t>DATOS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838080" y="990720"/>
            <a:ext cx="10134360" cy="5543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617200" y="38088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PTIMO PRIV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55840" y="380880"/>
            <a:ext cx="62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PTIMO SOCIAL: C MG EXT = BMNP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838080" y="981000"/>
            <a:ext cx="107442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686800" cy="499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271160" y="306360"/>
            <a:ext cx="63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Black"/>
              </a:rPr>
              <a:t>COSTO MARGINAL EXTERNO Y BM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5238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uego la receta de “dejar hacer” a los mercados se viene abajo en presencia de una externalidad. Se requiere acción d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A continuación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veremos otras dos fallas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Veremos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luego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los enfoques de intervención que la economía y práctica sugieren. Más adelante examinaremos los instrumentos aplicables, sus ventajas y desventajas desde la óptic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80160" y="395280"/>
            <a:ext cx="24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2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1828800"/>
            <a:ext cx="70102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FALLAS DE MERCADO I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DE LIBRE ACCESO Y BIENE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8" dur="1" fill="hold"/>
                                  <p:tgtEl>
                                    <p:spTgt spid="2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1546200"/>
            <a:ext cx="81532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os Bienes Privados tienen dos característica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324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Riv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324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324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xcl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 Black"/>
              </a:rPr>
              <a:t>BIENES PUBLICOS Y DE LIBRE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191120" y="25146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4191120" y="33526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439092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l mercado también falla como asignador de recursos frente a bienes públicos y de libre acceso que no tienen alguna de estas caracterí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7696080" y="525780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0" dur="1" fill="hold"/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2057400"/>
            <a:ext cx="82296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"No rival" en el consumo implica que su consumo por una persona, no afecta el consumo del mismo bien por otra perso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Por ejemplo un escenario de gran belleza natural puede ser apreciada por dos personas sin que el goce de una afecte el goce de la o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 Black"/>
              </a:rPr>
              <a:t>BIENES PUBLICOS Y DE LIBRE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6" dur="1" fill="hold"/>
                                  <p:tgtEl>
                                    <p:spTgt spid="2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0880" y="1828800"/>
            <a:ext cx="82296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sto a diferencia de un bien "privado" (como una galleta) donde el consumo del bien por uno, impide el consumo del mismo bien por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o mismo sucede con el aire limpio y biodiversidad biológica: pueden ser aprovechadas por más de un consumi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n la pesca en cambio si hay rivalidad: lo que yo pesco ya no lo puede pescar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 Black"/>
              </a:rPr>
              <a:t>BIENES PUBLICOS Y DE LIBRE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848720" y="5562720"/>
            <a:ext cx="1143000" cy="8380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3" dur="1" fill="hold"/>
                                  <p:tgtEl>
                                    <p:spTgt spid="2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122560"/>
            <a:ext cx="7848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7800" indent="-196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No excluíble” o no apropiable significa de acceso libre para t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jemplo: pesca, un pa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 Black"/>
              </a:rPr>
              <a:t>BIENES PUBLICOS Y DE LIBRE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7667640" y="4437000"/>
            <a:ext cx="1143000" cy="8384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28840"/>
            <a:ext cx="79246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Examinaremos ahora lo que sucede con la receta anterior al existir </a:t>
            </a:r>
            <a:r>
              <a:rPr b="0" i="1" sz="2200" spc="-1" strike="noStrike">
                <a:solidFill>
                  <a:srgbClr val="000000"/>
                </a:solidFill>
                <a:latin typeface="Arial Black"/>
              </a:rPr>
              <a:t>externalidades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Definición: Una externalidad es un efecto no intencional del proceso productivo (o del consumo) y que afecta a terceros negativamente o positivamente.  La actividad de un agente  provoca una pérdida de bienestar a otro agente  y esta pérdida de bienestar es </a:t>
            </a:r>
            <a:r>
              <a:rPr b="0" i="1" sz="2200" spc="-1" strike="noStrike">
                <a:solidFill>
                  <a:srgbClr val="000000"/>
                </a:solidFill>
                <a:latin typeface="Arial Black"/>
              </a:rPr>
              <a:t>involuntaria y no compensada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Al ser negativa la externalidad genera un </a:t>
            </a:r>
            <a:r>
              <a:rPr b="0" i="1" sz="2200" spc="-1" strike="noStrike">
                <a:solidFill>
                  <a:srgbClr val="000000"/>
                </a:solidFill>
                <a:latin typeface="Arial Black"/>
              </a:rPr>
              <a:t>costo externo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sobre los afect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04960" y="152280"/>
            <a:ext cx="387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Black"/>
              </a:rPr>
              <a:t>EL PROBLEMA DE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Black"/>
              </a:rPr>
              <a:t>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e0043"/>
                </a:solidFill>
                <a:latin typeface="Arial"/>
              </a:rPr>
              <a:t>Diferentes tipos de b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819840" cy="35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74a81"/>
                </a:solidFill>
                <a:latin typeface="Times New Roman"/>
              </a:rPr>
              <a:t>Cuando pensamos en los bienes en la economía, es común agruparlos de acuerdo a las siguientes característ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474a81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474a81"/>
                </a:solidFill>
                <a:latin typeface="Times New Roman"/>
              </a:rPr>
              <a:t>¿El bien es excluí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474a81"/>
                </a:solidFill>
                <a:latin typeface="Times New Roman"/>
              </a:rPr>
              <a:t>¿El bien es riv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77960"/>
            <a:ext cx="777384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uatro Tipos de B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04760" y="2117520"/>
            <a:ext cx="5335560" cy="25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spcBef>
                <a:spcPts val="901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474a81"/>
                </a:solidFill>
                <a:latin typeface="Times New Roman"/>
              </a:rPr>
              <a:t>Bienes Pr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474a81"/>
                </a:solidFill>
                <a:latin typeface="Times New Roman"/>
              </a:rPr>
              <a:t>Bienes Púb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474a81"/>
                </a:solidFill>
                <a:latin typeface="Times New Roman"/>
              </a:rPr>
              <a:t>Recursos Comu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spcBef>
                <a:spcPts val="901"/>
              </a:spcBef>
              <a:buClr>
                <a:srgbClr val="f09a0e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474a81"/>
                </a:solidFill>
                <a:latin typeface="Times New Roman"/>
              </a:rPr>
              <a:t>Monopolio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9" dur="1" fill="hold"/>
                                  <p:tgtEl>
                                    <p:spTgt spid="2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16436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901"/>
              </a:spcBef>
              <a:buClr>
                <a:srgbClr val="ef9100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imes New Roman"/>
              </a:rPr>
              <a:t>Bienes Pr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ef9100"/>
              </a:buClr>
              <a:buSzPct val="7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74a81"/>
                </a:solidFill>
                <a:latin typeface="Times New Roman"/>
              </a:rPr>
              <a:t>Son excluíbles y riv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Clr>
                <a:srgbClr val="ef9100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imes New Roman"/>
              </a:rPr>
              <a:t>Bienes Púb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74a81"/>
                </a:solidFill>
                <a:latin typeface="Times New Roman"/>
              </a:rPr>
              <a:t>No son excluíbles ni riv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1" dur="1" fill="hold"/>
                                  <p:tgtEl>
                                    <p:spTgt spid="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  <p:animClr clrSpc="rgb">
                                <p:cBhvr>
                                  <p:cTn id="652" dur="1" fill="hold"/>
                                  <p:tgtEl>
                                    <p:spTgt spid="2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6402240" cy="2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901"/>
              </a:spcBef>
              <a:buClr>
                <a:srgbClr val="ef9100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imes New Roman"/>
              </a:rPr>
              <a:t>Recursos Comu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74a81"/>
                </a:solidFill>
                <a:latin typeface="Times New Roman"/>
              </a:rPr>
              <a:t>Son rivales pero no excluí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901"/>
              </a:spcBef>
              <a:buClr>
                <a:srgbClr val="ef9100"/>
              </a:buClr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imes New Roman"/>
              </a:rPr>
              <a:t>Monopolio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ef9100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74a81"/>
                </a:solidFill>
                <a:latin typeface="Times New Roman"/>
              </a:rPr>
              <a:t>Son excluíbles pero no riv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  <p:animClr clrSpc="rgb">
                                <p:cBhvr>
                                  <p:cTn id="675" dur="1" fill="hold"/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f91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30000" y="6018120"/>
            <a:ext cx="3600" cy="15480"/>
          </a:xfrm>
          <a:custGeom>
            <a:avLst/>
            <a:gdLst/>
            <a:ahLst/>
            <a:rect l="l" t="t" r="r" b="b"/>
            <a:pathLst>
              <a:path w="21600" h="86400">
                <a:moveTo>
                  <a:pt x="3600" y="0"/>
                </a:moveTo>
                <a:arcTo wR="3600" hR="3600" stAng="16200000" swAng="-5400000"/>
                <a:lnTo>
                  <a:pt x="0" y="82800"/>
                </a:lnTo>
                <a:arcTo wR="3600" hR="3600" stAng="10800000" swAng="-5400000"/>
                <a:lnTo>
                  <a:pt x="18000" y="86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779760" y="0"/>
            <a:ext cx="9916560" cy="6308280"/>
            <a:chOff x="-779760" y="0"/>
            <a:chExt cx="9916560" cy="6308280"/>
          </a:xfrm>
        </p:grpSpPr>
        <p:sp>
          <p:nvSpPr>
            <p:cNvPr id="258" name=""/>
            <p:cNvSpPr/>
            <p:nvPr/>
          </p:nvSpPr>
          <p:spPr>
            <a:xfrm>
              <a:off x="4726080" y="0"/>
              <a:ext cx="1366920" cy="3704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a50021"/>
                  </a:solidFill>
                  <a:latin typeface="Tahoma"/>
                </a:rPr>
                <a:t>¿Rival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920" y="575640"/>
              <a:ext cx="303840" cy="430920"/>
            </a:xfrm>
            <a:custGeom>
              <a:avLst/>
              <a:gdLst/>
              <a:ahLst/>
              <a:rect l="l" t="t" r="r" b="b"/>
              <a:pathLst>
                <a:path w="21600" h="30623">
                  <a:moveTo>
                    <a:pt x="80" y="0"/>
                  </a:moveTo>
                  <a:arcTo wR="80" hR="80" stAng="16200000" swAng="-5400000"/>
                  <a:lnTo>
                    <a:pt x="0" y="30543"/>
                  </a:lnTo>
                  <a:arcTo wR="80" hR="80" stAng="10800000" swAng="-5400000"/>
                  <a:lnTo>
                    <a:pt x="21520" y="30623"/>
                  </a:lnTo>
                  <a:arcTo wR="80" hR="80" stAng="5400000" swAng="-5400000"/>
                  <a:lnTo>
                    <a:pt x="21600" y="80"/>
                  </a:lnTo>
                  <a:arcTo wR="80" hR="8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474a81"/>
                  </a:solidFill>
                  <a:latin typeface="Tahoma"/>
                </a:rPr>
                <a:t>S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92480" y="575640"/>
              <a:ext cx="93600" cy="430920"/>
            </a:xfrm>
            <a:custGeom>
              <a:avLst/>
              <a:gdLst/>
              <a:ahLst/>
              <a:rect l="l" t="t" r="r" b="b"/>
              <a:pathLst>
                <a:path w="21600" h="99145">
                  <a:moveTo>
                    <a:pt x="117" y="0"/>
                  </a:moveTo>
                  <a:arcTo wR="117" hR="117" stAng="16200000" swAng="-5400000"/>
                  <a:lnTo>
                    <a:pt x="0" y="99028"/>
                  </a:lnTo>
                  <a:arcTo wR="117" hR="117" stAng="10800000" swAng="-5400000"/>
                  <a:lnTo>
                    <a:pt x="21483" y="99145"/>
                  </a:lnTo>
                  <a:arcTo wR="117" hR="117" stAng="5400000" swAng="-5400000"/>
                  <a:lnTo>
                    <a:pt x="21600" y="117"/>
                  </a:lnTo>
                  <a:arcTo wR="117" hR="11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8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9640" y="575640"/>
              <a:ext cx="509040" cy="43164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474a81"/>
                  </a:solidFill>
                  <a:latin typeface="Tahoma"/>
                </a:rPr>
                <a:t>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28600" y="1963440"/>
              <a:ext cx="303840" cy="430920"/>
            </a:xfrm>
            <a:custGeom>
              <a:avLst/>
              <a:gdLst/>
              <a:ahLst/>
              <a:rect l="l" t="t" r="r" b="b"/>
              <a:pathLst>
                <a:path w="21600" h="30623">
                  <a:moveTo>
                    <a:pt x="80" y="0"/>
                  </a:moveTo>
                  <a:arcTo wR="80" hR="80" stAng="16200000" swAng="-5400000"/>
                  <a:lnTo>
                    <a:pt x="0" y="30543"/>
                  </a:lnTo>
                  <a:arcTo wR="80" hR="80" stAng="10800000" swAng="-5400000"/>
                  <a:lnTo>
                    <a:pt x="21520" y="30623"/>
                  </a:lnTo>
                  <a:arcTo wR="80" hR="80" stAng="5400000" swAng="-5400000"/>
                  <a:lnTo>
                    <a:pt x="21600" y="80"/>
                  </a:lnTo>
                  <a:arcTo wR="80" hR="8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474a81"/>
                  </a:solidFill>
                  <a:latin typeface="Tahoma"/>
                </a:rPr>
                <a:t>S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47360" y="1963440"/>
              <a:ext cx="93600" cy="430920"/>
            </a:xfrm>
            <a:custGeom>
              <a:avLst/>
              <a:gdLst/>
              <a:ahLst/>
              <a:rect l="l" t="t" r="r" b="b"/>
              <a:pathLst>
                <a:path w="21600" h="99145">
                  <a:moveTo>
                    <a:pt x="117" y="0"/>
                  </a:moveTo>
                  <a:arcTo wR="117" hR="117" stAng="16200000" swAng="-5400000"/>
                  <a:lnTo>
                    <a:pt x="0" y="99028"/>
                  </a:lnTo>
                  <a:arcTo wR="117" hR="117" stAng="10800000" swAng="-5400000"/>
                  <a:lnTo>
                    <a:pt x="21483" y="99145"/>
                  </a:lnTo>
                  <a:arcTo wR="117" hR="117" stAng="5400000" swAng="-5400000"/>
                  <a:lnTo>
                    <a:pt x="21600" y="117"/>
                  </a:lnTo>
                  <a:arcTo wR="117" hR="11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8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1720" y="1216080"/>
              <a:ext cx="2403360" cy="3704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a50021"/>
                  </a:solidFill>
                  <a:latin typeface="Tahoma"/>
                </a:rPr>
                <a:t>Bienes Pr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3600" y="121608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40" y="0"/>
                  </a:moveTo>
                  <a:arcTo wR="140" hR="140" stAng="16200000" swAng="-5400000"/>
                  <a:lnTo>
                    <a:pt x="0" y="99433"/>
                  </a:lnTo>
                  <a:arcTo wR="140" hR="140" stAng="10800000" swAng="-5400000"/>
                  <a:lnTo>
                    <a:pt x="21460" y="99573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67400" y="173232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7480" y="173232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17160" y="1732320"/>
              <a:ext cx="611280" cy="57960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8120" y="1732320"/>
              <a:ext cx="1800" cy="339840"/>
            </a:xfrm>
            <a:custGeom>
              <a:avLst/>
              <a:gdLst/>
              <a:ahLst/>
              <a:rect l="l" t="t" r="r" b="b"/>
              <a:pathLst>
                <a:path w="21600" h="3402000">
                  <a:moveTo>
                    <a:pt x="144" y="0"/>
                  </a:moveTo>
                  <a:arcTo wR="144" hR="144" stAng="16200000" swAng="-5400000"/>
                  <a:lnTo>
                    <a:pt x="0" y="3401856"/>
                  </a:lnTo>
                  <a:arcTo wR="144" hR="144" stAng="10800000" swAng="-5400000"/>
                  <a:lnTo>
                    <a:pt x="21456" y="3402000"/>
                  </a:lnTo>
                  <a:arcTo wR="144" hR="144" stAng="5400000" swAng="-5400000"/>
                  <a:lnTo>
                    <a:pt x="21600" y="144"/>
                  </a:lnTo>
                  <a:arcTo wR="144" hR="14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50360" y="1732320"/>
              <a:ext cx="1069920" cy="33948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Helad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9320" y="1732320"/>
              <a:ext cx="73800" cy="338760"/>
            </a:xfrm>
            <a:custGeom>
              <a:avLst/>
              <a:gdLst/>
              <a:ahLst/>
              <a:rect l="l" t="t" r="r" b="b"/>
              <a:pathLst>
                <a:path w="21600" h="98773">
                  <a:moveTo>
                    <a:pt x="154" y="0"/>
                  </a:moveTo>
                  <a:arcTo wR="154" hR="154" stAng="16200000" swAng="-5400000"/>
                  <a:lnTo>
                    <a:pt x="0" y="98619"/>
                  </a:lnTo>
                  <a:arcTo wR="154" hR="154" stAng="10800000" swAng="-5400000"/>
                  <a:lnTo>
                    <a:pt x="21446" y="98773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67400" y="220572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7480" y="220572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63120" y="2205720"/>
              <a:ext cx="673560" cy="33948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Rop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69960" y="2205720"/>
              <a:ext cx="73800" cy="338760"/>
            </a:xfrm>
            <a:custGeom>
              <a:avLst/>
              <a:gdLst/>
              <a:ahLst/>
              <a:rect l="l" t="t" r="r" b="b"/>
              <a:pathLst>
                <a:path w="21600" h="98773">
                  <a:moveTo>
                    <a:pt x="154" y="0"/>
                  </a:moveTo>
                  <a:arcTo wR="154" hR="154" stAng="16200000" swAng="-5400000"/>
                  <a:lnTo>
                    <a:pt x="0" y="98619"/>
                  </a:lnTo>
                  <a:arcTo wR="154" hR="154" stAng="10800000" swAng="-5400000"/>
                  <a:lnTo>
                    <a:pt x="21446" y="98773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71360" y="2679480"/>
              <a:ext cx="125640" cy="366120"/>
            </a:xfrm>
            <a:custGeom>
              <a:avLst/>
              <a:gdLst/>
              <a:ahLst/>
              <a:rect l="l" t="t" r="r" b="b"/>
              <a:pathLst>
                <a:path w="21600" h="62825">
                  <a:moveTo>
                    <a:pt x="108" y="0"/>
                  </a:moveTo>
                  <a:arcTo wR="108" hR="108" stAng="16200000" swAng="-5400000"/>
                  <a:lnTo>
                    <a:pt x="0" y="62717"/>
                  </a:lnTo>
                  <a:arcTo wR="108" hR="108" stAng="10800000" swAng="-5400000"/>
                  <a:lnTo>
                    <a:pt x="21492" y="62825"/>
                  </a:lnTo>
                  <a:arcTo wR="108" hR="108" stAng="5400000" swAng="-5400000"/>
                  <a:lnTo>
                    <a:pt x="21600" y="108"/>
                  </a:lnTo>
                  <a:arcTo wR="108" hR="10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81520" y="2679480"/>
              <a:ext cx="153000" cy="366120"/>
            </a:xfrm>
            <a:custGeom>
              <a:avLst/>
              <a:gdLst/>
              <a:ahLst/>
              <a:rect l="l" t="t" r="r" b="b"/>
              <a:pathLst>
                <a:path w="21600" h="51617">
                  <a:moveTo>
                    <a:pt x="136" y="0"/>
                  </a:moveTo>
                  <a:arcTo wR="136" hR="136" stAng="16200000" swAng="-5400000"/>
                  <a:lnTo>
                    <a:pt x="0" y="51481"/>
                  </a:lnTo>
                  <a:arcTo wR="136" hR="136" stAng="10800000" swAng="-5400000"/>
                  <a:lnTo>
                    <a:pt x="21464" y="51617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91760" y="2715120"/>
              <a:ext cx="2853000" cy="55476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arreter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ongestionadas (sin peaj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4960" y="267948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50" y="0"/>
                  </a:moveTo>
                  <a:arcTo wR="150" hR="150" stAng="16200000" swAng="-5400000"/>
                  <a:lnTo>
                    <a:pt x="0" y="99423"/>
                  </a:lnTo>
                  <a:arcTo wR="150" hR="150" stAng="10800000" swAng="-5400000"/>
                  <a:lnTo>
                    <a:pt x="21450" y="99573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83840" y="1216080"/>
              <a:ext cx="2884680" cy="3704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a50021"/>
                  </a:solidFill>
                  <a:latin typeface="Tahoma"/>
                </a:rPr>
                <a:t>Monopolio Natu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056880" y="121608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40" y="0"/>
                  </a:moveTo>
                  <a:arcTo wR="140" hR="140" stAng="16200000" swAng="-5400000"/>
                  <a:lnTo>
                    <a:pt x="0" y="99433"/>
                  </a:lnTo>
                  <a:arcTo wR="140" hR="140" stAng="10800000" swAng="-5400000"/>
                  <a:lnTo>
                    <a:pt x="21460" y="99573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7600" y="173232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37320" y="173232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15320" y="1732320"/>
              <a:ext cx="3463200" cy="27720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tección contra incend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7280" y="1732320"/>
              <a:ext cx="73800" cy="338760"/>
            </a:xfrm>
            <a:custGeom>
              <a:avLst/>
              <a:gdLst/>
              <a:ahLst/>
              <a:rect l="l" t="t" r="r" b="b"/>
              <a:pathLst>
                <a:path w="21600" h="98773">
                  <a:moveTo>
                    <a:pt x="154" y="0"/>
                  </a:moveTo>
                  <a:arcTo wR="154" hR="154" stAng="16200000" swAng="-5400000"/>
                  <a:lnTo>
                    <a:pt x="0" y="98619"/>
                  </a:lnTo>
                  <a:arcTo wR="154" hR="154" stAng="10800000" swAng="-5400000"/>
                  <a:lnTo>
                    <a:pt x="21446" y="98773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7600" y="220572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37320" y="220572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90160" y="2205720"/>
              <a:ext cx="1662480" cy="33948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TV por C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44560" y="2205720"/>
              <a:ext cx="73800" cy="338760"/>
            </a:xfrm>
            <a:custGeom>
              <a:avLst/>
              <a:gdLst/>
              <a:ahLst/>
              <a:rect l="l" t="t" r="r" b="b"/>
              <a:pathLst>
                <a:path w="21600" h="98773">
                  <a:moveTo>
                    <a:pt x="154" y="0"/>
                  </a:moveTo>
                  <a:arcTo wR="154" hR="154" stAng="16200000" swAng="-5400000"/>
                  <a:lnTo>
                    <a:pt x="0" y="98619"/>
                  </a:lnTo>
                  <a:arcTo wR="154" hR="154" stAng="10800000" swAng="-5400000"/>
                  <a:lnTo>
                    <a:pt x="21446" y="98773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9400" y="2679480"/>
              <a:ext cx="125640" cy="366120"/>
            </a:xfrm>
            <a:custGeom>
              <a:avLst/>
              <a:gdLst/>
              <a:ahLst/>
              <a:rect l="l" t="t" r="r" b="b"/>
              <a:pathLst>
                <a:path w="21600" h="62825">
                  <a:moveTo>
                    <a:pt x="108" y="0"/>
                  </a:moveTo>
                  <a:arcTo wR="108" hR="108" stAng="16200000" swAng="-5400000"/>
                  <a:lnTo>
                    <a:pt x="0" y="62717"/>
                  </a:lnTo>
                  <a:arcTo wR="108" hR="108" stAng="10800000" swAng="-5400000"/>
                  <a:lnTo>
                    <a:pt x="21492" y="62825"/>
                  </a:lnTo>
                  <a:arcTo wR="108" hR="108" stAng="5400000" swAng="-5400000"/>
                  <a:lnTo>
                    <a:pt x="21600" y="108"/>
                  </a:lnTo>
                  <a:arcTo wR="108" hR="10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48480" y="2679480"/>
              <a:ext cx="153000" cy="366120"/>
            </a:xfrm>
            <a:custGeom>
              <a:avLst/>
              <a:gdLst/>
              <a:ahLst/>
              <a:rect l="l" t="t" r="r" b="b"/>
              <a:pathLst>
                <a:path w="21600" h="51617">
                  <a:moveTo>
                    <a:pt x="136" y="0"/>
                  </a:moveTo>
                  <a:arcTo wR="136" hR="136" stAng="16200000" swAng="-5400000"/>
                  <a:lnTo>
                    <a:pt x="0" y="51481"/>
                  </a:lnTo>
                  <a:arcTo wR="136" hR="136" stAng="10800000" swAng="-5400000"/>
                  <a:lnTo>
                    <a:pt x="21464" y="51617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4120" y="2715120"/>
              <a:ext cx="3472200" cy="55548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arreteras no congestion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(con peaj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84840" y="3188520"/>
              <a:ext cx="970200" cy="58032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0720" y="315288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50" y="0"/>
                  </a:moveTo>
                  <a:arcTo wR="150" hR="150" stAng="16200000" swAng="-5400000"/>
                  <a:lnTo>
                    <a:pt x="0" y="99423"/>
                  </a:lnTo>
                  <a:arcTo wR="150" hR="150" stAng="10800000" swAng="-5400000"/>
                  <a:lnTo>
                    <a:pt x="21450" y="99573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57880" y="117828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57880" y="117828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57880" y="117828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7880" y="117828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7880" y="117828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57880" y="117828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88840" y="1178280"/>
              <a:ext cx="33120" cy="37800"/>
            </a:xfrm>
            <a:custGeom>
              <a:avLst/>
              <a:gdLst>
                <a:gd name="textAreaLeft" fmla="*/ 360 w 33120"/>
                <a:gd name="textAreaRight" fmla="*/ 32760 w 3312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4619">
                  <a:moveTo>
                    <a:pt x="1350" y="0"/>
                  </a:moveTo>
                  <a:arcTo wR="1350" hR="1350" stAng="16200000" swAng="-5400000"/>
                  <a:lnTo>
                    <a:pt x="0" y="23269"/>
                  </a:lnTo>
                  <a:arcTo wR="1350" hR="1350" stAng="10800000" swAng="-5400000"/>
                  <a:lnTo>
                    <a:pt x="20250" y="2461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88840" y="1178280"/>
              <a:ext cx="331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88840" y="117828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22320" y="1178280"/>
              <a:ext cx="3600000" cy="37800"/>
            </a:xfrm>
            <a:prstGeom prst="roundRect">
              <a:avLst>
                <a:gd name="adj" fmla="val 625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22320" y="1178280"/>
              <a:ext cx="3600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2320" y="117828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22320" y="117828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22320" y="117828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53640" y="117828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53640" y="117828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53640" y="117828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84600" y="1178280"/>
              <a:ext cx="3376800" cy="37800"/>
            </a:xfrm>
            <a:prstGeom prst="roundRect">
              <a:avLst>
                <a:gd name="adj" fmla="val 625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4600" y="1178280"/>
              <a:ext cx="33768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61760" y="117828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61760" y="117828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61760" y="117828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870760" y="1178280"/>
              <a:ext cx="32760" cy="3780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4887">
                  <a:moveTo>
                    <a:pt x="1350" y="0"/>
                  </a:moveTo>
                  <a:arcTo wR="1350" hR="1350" stAng="16200000" swAng="-5400000"/>
                  <a:lnTo>
                    <a:pt x="0" y="23537"/>
                  </a:lnTo>
                  <a:arcTo wR="1350" hR="1350" stAng="10800000" swAng="-5400000"/>
                  <a:lnTo>
                    <a:pt x="20250" y="2488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870760" y="1178280"/>
              <a:ext cx="32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70760" y="117828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903880" y="1178280"/>
              <a:ext cx="142560" cy="37800"/>
            </a:xfrm>
            <a:prstGeom prst="roundRect">
              <a:avLst>
                <a:gd name="adj" fmla="val 625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903880" y="1178280"/>
              <a:ext cx="1425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46440" y="1178280"/>
              <a:ext cx="32760" cy="3780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4887">
                  <a:moveTo>
                    <a:pt x="1350" y="0"/>
                  </a:moveTo>
                  <a:arcTo wR="1350" hR="1350" stAng="16200000" swAng="-5400000"/>
                  <a:lnTo>
                    <a:pt x="0" y="23537"/>
                  </a:lnTo>
                  <a:arcTo wR="1350" hR="1350" stAng="10800000" swAng="-5400000"/>
                  <a:lnTo>
                    <a:pt x="20250" y="2488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6440" y="1178280"/>
              <a:ext cx="32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46440" y="117828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046440" y="1178280"/>
              <a:ext cx="32760" cy="3780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4887">
                  <a:moveTo>
                    <a:pt x="1350" y="0"/>
                  </a:moveTo>
                  <a:arcTo wR="1350" hR="1350" stAng="16200000" swAng="-5400000"/>
                  <a:lnTo>
                    <a:pt x="0" y="23537"/>
                  </a:lnTo>
                  <a:arcTo wR="1350" hR="1350" stAng="10800000" swAng="-5400000"/>
                  <a:lnTo>
                    <a:pt x="20250" y="2488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046440" y="1178280"/>
              <a:ext cx="32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046440" y="117828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7880" y="1216080"/>
              <a:ext cx="30960" cy="250128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2501280"/>
                <a:gd name="textAreaBottom" fmla="*/ 2500920 h 2501280"/>
              </a:gdLst>
              <a:ahLst/>
              <a:rect l="textAreaLeft" t="textAreaTop" r="textAreaRight" b="textAreaBottom"/>
              <a:pathLst>
                <a:path w="21600" h="1725269">
                  <a:moveTo>
                    <a:pt x="1350" y="0"/>
                  </a:moveTo>
                  <a:arcTo wR="1350" hR="1350" stAng="16200000" swAng="-5400000"/>
                  <a:lnTo>
                    <a:pt x="0" y="1723919"/>
                  </a:lnTo>
                  <a:arcTo wR="1350" hR="1350" stAng="10800000" swAng="-5400000"/>
                  <a:lnTo>
                    <a:pt x="20250" y="172526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7880" y="1216080"/>
              <a:ext cx="1800" cy="25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22320" y="1216080"/>
              <a:ext cx="30960" cy="250128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2501280"/>
                <a:gd name="textAreaBottom" fmla="*/ 2500920 h 2501280"/>
              </a:gdLst>
              <a:ahLst/>
              <a:rect l="textAreaLeft" t="textAreaTop" r="textAreaRight" b="textAreaBottom"/>
              <a:pathLst>
                <a:path w="21600" h="1725269">
                  <a:moveTo>
                    <a:pt x="1350" y="0"/>
                  </a:moveTo>
                  <a:arcTo wR="1350" hR="1350" stAng="16200000" swAng="-5400000"/>
                  <a:lnTo>
                    <a:pt x="0" y="1723919"/>
                  </a:lnTo>
                  <a:arcTo wR="1350" hR="1350" stAng="10800000" swAng="-5400000"/>
                  <a:lnTo>
                    <a:pt x="20250" y="172526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22320" y="1216080"/>
              <a:ext cx="1800" cy="25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046440" y="1216080"/>
              <a:ext cx="32760" cy="250128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2501280"/>
                <a:gd name="textAreaBottom" fmla="*/ 2500920 h 2501280"/>
              </a:gdLst>
              <a:ahLst/>
              <a:rect l="textAreaLeft" t="textAreaTop" r="textAreaRight" b="textAreaBottom"/>
              <a:pathLst>
                <a:path w="21600" h="1631504">
                  <a:moveTo>
                    <a:pt x="1200" y="0"/>
                  </a:moveTo>
                  <a:arcTo wR="1200" hR="1200" stAng="16200000" swAng="-5400000"/>
                  <a:lnTo>
                    <a:pt x="0" y="1630304"/>
                  </a:lnTo>
                  <a:arcTo wR="1200" hR="1200" stAng="10800000" swAng="-5400000"/>
                  <a:lnTo>
                    <a:pt x="20400" y="1631504"/>
                  </a:lnTo>
                  <a:arcTo wR="1200" hR="1200" stAng="5400000" swAng="-5400000"/>
                  <a:lnTo>
                    <a:pt x="21600" y="1200"/>
                  </a:lnTo>
                  <a:arcTo wR="1200" hR="12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046440" y="1216080"/>
              <a:ext cx="1440" cy="25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1920" y="4482360"/>
              <a:ext cx="509040" cy="43164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474a81"/>
                  </a:solidFill>
                  <a:latin typeface="Tahoma"/>
                </a:rPr>
                <a:t>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90040" y="4502520"/>
              <a:ext cx="93600" cy="430920"/>
            </a:xfrm>
            <a:custGeom>
              <a:avLst/>
              <a:gdLst/>
              <a:ahLst/>
              <a:rect l="l" t="t" r="r" b="b"/>
              <a:pathLst>
                <a:path w="21600" h="99145">
                  <a:moveTo>
                    <a:pt x="117" y="0"/>
                  </a:moveTo>
                  <a:arcTo wR="117" hR="117" stAng="16200000" swAng="-5400000"/>
                  <a:lnTo>
                    <a:pt x="0" y="99028"/>
                  </a:lnTo>
                  <a:arcTo wR="117" hR="117" stAng="10800000" swAng="-5400000"/>
                  <a:lnTo>
                    <a:pt x="21483" y="99145"/>
                  </a:lnTo>
                  <a:arcTo wR="117" hR="117" stAng="5400000" swAng="-5400000"/>
                  <a:lnTo>
                    <a:pt x="21600" y="117"/>
                  </a:lnTo>
                  <a:arcTo wR="117" hR="11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8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0000" y="3755520"/>
              <a:ext cx="2859120" cy="3704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a50021"/>
                  </a:solidFill>
                  <a:latin typeface="Tahoma"/>
                </a:rPr>
                <a:t>Recursos Comu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29880" y="375552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40" y="0"/>
                  </a:moveTo>
                  <a:arcTo wR="140" hR="140" stAng="16200000" swAng="-5400000"/>
                  <a:lnTo>
                    <a:pt x="0" y="99433"/>
                  </a:lnTo>
                  <a:arcTo wR="140" hR="140" stAng="10800000" swAng="-5400000"/>
                  <a:lnTo>
                    <a:pt x="21460" y="99573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67400" y="427104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7480" y="427104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45560" y="4271040"/>
              <a:ext cx="1833120" cy="33948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Peces del ma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29960" y="4271040"/>
              <a:ext cx="73800" cy="338760"/>
            </a:xfrm>
            <a:custGeom>
              <a:avLst/>
              <a:gdLst/>
              <a:ahLst/>
              <a:rect l="l" t="t" r="r" b="b"/>
              <a:pathLst>
                <a:path w="21600" h="98773">
                  <a:moveTo>
                    <a:pt x="154" y="0"/>
                  </a:moveTo>
                  <a:arcTo wR="154" hR="154" stAng="16200000" swAng="-5400000"/>
                  <a:lnTo>
                    <a:pt x="0" y="98619"/>
                  </a:lnTo>
                  <a:arcTo wR="154" hR="154" stAng="10800000" swAng="-5400000"/>
                  <a:lnTo>
                    <a:pt x="21446" y="98773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67400" y="474516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67480" y="474516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4000" y="4745160"/>
              <a:ext cx="2145600" cy="33948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Medio ambien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29960" y="4745160"/>
              <a:ext cx="73800" cy="338760"/>
            </a:xfrm>
            <a:custGeom>
              <a:avLst/>
              <a:gdLst/>
              <a:ahLst/>
              <a:rect l="l" t="t" r="r" b="b"/>
              <a:pathLst>
                <a:path w="21600" h="98773">
                  <a:moveTo>
                    <a:pt x="154" y="0"/>
                  </a:moveTo>
                  <a:arcTo wR="154" hR="154" stAng="16200000" swAng="-5400000"/>
                  <a:lnTo>
                    <a:pt x="0" y="98619"/>
                  </a:lnTo>
                  <a:arcTo wR="154" hR="154" stAng="10800000" swAng="-5400000"/>
                  <a:lnTo>
                    <a:pt x="21446" y="98773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71360" y="5218560"/>
              <a:ext cx="125640" cy="366120"/>
            </a:xfrm>
            <a:custGeom>
              <a:avLst/>
              <a:gdLst/>
              <a:ahLst/>
              <a:rect l="l" t="t" r="r" b="b"/>
              <a:pathLst>
                <a:path w="21600" h="62825">
                  <a:moveTo>
                    <a:pt x="108" y="0"/>
                  </a:moveTo>
                  <a:arcTo wR="108" hR="108" stAng="16200000" swAng="-5400000"/>
                  <a:lnTo>
                    <a:pt x="0" y="62717"/>
                  </a:lnTo>
                  <a:arcTo wR="108" hR="108" stAng="10800000" swAng="-5400000"/>
                  <a:lnTo>
                    <a:pt x="21492" y="62825"/>
                  </a:lnTo>
                  <a:arcTo wR="108" hR="108" stAng="5400000" swAng="-5400000"/>
                  <a:lnTo>
                    <a:pt x="21600" y="108"/>
                  </a:lnTo>
                  <a:arcTo wR="108" hR="10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1520" y="5218560"/>
              <a:ext cx="153000" cy="366120"/>
            </a:xfrm>
            <a:custGeom>
              <a:avLst/>
              <a:gdLst/>
              <a:ahLst/>
              <a:rect l="l" t="t" r="r" b="b"/>
              <a:pathLst>
                <a:path w="21600" h="51617">
                  <a:moveTo>
                    <a:pt x="136" y="0"/>
                  </a:moveTo>
                  <a:arcTo wR="136" hR="136" stAng="16200000" swAng="-5400000"/>
                  <a:lnTo>
                    <a:pt x="0" y="51481"/>
                  </a:lnTo>
                  <a:arcTo wR="136" hR="136" stAng="10800000" swAng="-5400000"/>
                  <a:lnTo>
                    <a:pt x="21464" y="51617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13200" y="5254560"/>
              <a:ext cx="2954160" cy="55548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arreteras congestionadas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(sin peaje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17160" y="5727960"/>
              <a:ext cx="970200" cy="58032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91240" y="569196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50" y="0"/>
                  </a:moveTo>
                  <a:arcTo wR="150" hR="150" stAng="16200000" swAng="-5400000"/>
                  <a:lnTo>
                    <a:pt x="0" y="99423"/>
                  </a:lnTo>
                  <a:arcTo wR="150" hR="150" stAng="10800000" swAng="-5400000"/>
                  <a:lnTo>
                    <a:pt x="21450" y="99573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71720" y="3755520"/>
              <a:ext cx="2356200" cy="3704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a50021"/>
                  </a:solidFill>
                  <a:latin typeface="Tahoma"/>
                </a:rPr>
                <a:t>Bienes Públ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00920" y="375552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40" y="0"/>
                  </a:moveTo>
                  <a:arcTo wR="140" hR="140" stAng="16200000" swAng="-5400000"/>
                  <a:lnTo>
                    <a:pt x="0" y="99433"/>
                  </a:lnTo>
                  <a:arcTo wR="140" hR="140" stAng="10800000" swAng="-5400000"/>
                  <a:lnTo>
                    <a:pt x="21460" y="99573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37600" y="427104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37320" y="427104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78040" y="4271040"/>
              <a:ext cx="2662200" cy="33948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Defensa Nacion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93760" y="4271040"/>
              <a:ext cx="766800" cy="46944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61920" y="4271040"/>
              <a:ext cx="255960" cy="580320"/>
            </a:xfrm>
            <a:custGeom>
              <a:avLst/>
              <a:gdLst>
                <a:gd name="textAreaLeft" fmla="*/ 360 w 255960"/>
                <a:gd name="textAreaRight" fmla="*/ 255600 w 255960"/>
                <a:gd name="textAreaTop" fmla="*/ 360 h 580320"/>
                <a:gd name="textAreaBottom" fmla="*/ 579960 h 580320"/>
              </a:gdLst>
              <a:ahLst/>
              <a:rect l="textAreaLeft" t="textAreaTop" r="textAreaRight" b="textAreaBottom"/>
              <a:pathLst>
                <a:path w="21600" h="48934">
                  <a:moveTo>
                    <a:pt x="154" y="0"/>
                  </a:moveTo>
                  <a:arcTo wR="154" hR="154" stAng="16200000" swAng="-5400000"/>
                  <a:lnTo>
                    <a:pt x="0" y="48780"/>
                  </a:lnTo>
                  <a:arcTo wR="154" hR="154" stAng="10800000" swAng="-5400000"/>
                  <a:lnTo>
                    <a:pt x="21446" y="48934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37600" y="4745160"/>
              <a:ext cx="115200" cy="335520"/>
            </a:xfrm>
            <a:custGeom>
              <a:avLst/>
              <a:gdLst/>
              <a:ahLst/>
              <a:rect l="l" t="t" r="r" b="b"/>
              <a:pathLst>
                <a:path w="21600" h="62781">
                  <a:moveTo>
                    <a:pt x="113" y="0"/>
                  </a:moveTo>
                  <a:arcTo wR="113" hR="113" stAng="16200000" swAng="-5400000"/>
                  <a:lnTo>
                    <a:pt x="0" y="62668"/>
                  </a:lnTo>
                  <a:arcTo wR="113" hR="113" stAng="10800000" swAng="-5400000"/>
                  <a:lnTo>
                    <a:pt x="21487" y="62781"/>
                  </a:lnTo>
                  <a:arcTo wR="113" hR="113" stAng="5400000" swAng="-5400000"/>
                  <a:lnTo>
                    <a:pt x="21600" y="113"/>
                  </a:lnTo>
                  <a:arcTo wR="113" hR="11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37320" y="4745160"/>
              <a:ext cx="140760" cy="335520"/>
            </a:xfrm>
            <a:custGeom>
              <a:avLst/>
              <a:gdLst/>
              <a:ahLst/>
              <a:rect l="l" t="t" r="r" b="b"/>
              <a:pathLst>
                <a:path w="21600" h="51410">
                  <a:moveTo>
                    <a:pt x="140" y="0"/>
                  </a:moveTo>
                  <a:arcTo wR="140" hR="140" stAng="16200000" swAng="-5400000"/>
                  <a:lnTo>
                    <a:pt x="0" y="51270"/>
                  </a:lnTo>
                  <a:arcTo wR="140" hR="140" stAng="10800000" swAng="-5400000"/>
                  <a:lnTo>
                    <a:pt x="21460" y="51410"/>
                  </a:lnTo>
                  <a:arcTo wR="140" hR="140" stAng="5400000" swAng="-5400000"/>
                  <a:lnTo>
                    <a:pt x="21600" y="140"/>
                  </a:lnTo>
                  <a:arcTo wR="140" hR="1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22120" y="4745160"/>
              <a:ext cx="2106000" cy="33948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Conocimient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27160" y="4745160"/>
              <a:ext cx="73800" cy="338760"/>
            </a:xfrm>
            <a:custGeom>
              <a:avLst/>
              <a:gdLst/>
              <a:ahLst/>
              <a:rect l="l" t="t" r="r" b="b"/>
              <a:pathLst>
                <a:path w="21600" h="98773">
                  <a:moveTo>
                    <a:pt x="154" y="0"/>
                  </a:moveTo>
                  <a:arcTo wR="154" hR="154" stAng="16200000" swAng="-5400000"/>
                  <a:lnTo>
                    <a:pt x="0" y="98619"/>
                  </a:lnTo>
                  <a:arcTo wR="154" hR="154" stAng="10800000" swAng="-5400000"/>
                  <a:lnTo>
                    <a:pt x="21446" y="98773"/>
                  </a:lnTo>
                  <a:arcTo wR="154" hR="154" stAng="5400000" swAng="-5400000"/>
                  <a:lnTo>
                    <a:pt x="21600" y="154"/>
                  </a:lnTo>
                  <a:arcTo wR="154" hR="154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39400" y="5218560"/>
              <a:ext cx="125640" cy="366120"/>
            </a:xfrm>
            <a:custGeom>
              <a:avLst/>
              <a:gdLst/>
              <a:ahLst/>
              <a:rect l="l" t="t" r="r" b="b"/>
              <a:pathLst>
                <a:path w="21600" h="62825">
                  <a:moveTo>
                    <a:pt x="108" y="0"/>
                  </a:moveTo>
                  <a:arcTo wR="108" hR="108" stAng="16200000" swAng="-5400000"/>
                  <a:lnTo>
                    <a:pt x="0" y="62717"/>
                  </a:lnTo>
                  <a:arcTo wR="108" hR="108" stAng="10800000" swAng="-5400000"/>
                  <a:lnTo>
                    <a:pt x="21492" y="62825"/>
                  </a:lnTo>
                  <a:arcTo wR="108" hR="108" stAng="5400000" swAng="-5400000"/>
                  <a:lnTo>
                    <a:pt x="21600" y="108"/>
                  </a:lnTo>
                  <a:arcTo wR="108" hR="10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8480" y="5218560"/>
              <a:ext cx="153000" cy="366120"/>
            </a:xfrm>
            <a:custGeom>
              <a:avLst/>
              <a:gdLst/>
              <a:ahLst/>
              <a:rect l="l" t="t" r="r" b="b"/>
              <a:pathLst>
                <a:path w="21600" h="51617">
                  <a:moveTo>
                    <a:pt x="136" y="0"/>
                  </a:moveTo>
                  <a:arcTo wR="136" hR="136" stAng="16200000" swAng="-5400000"/>
                  <a:lnTo>
                    <a:pt x="0" y="51481"/>
                  </a:lnTo>
                  <a:arcTo wR="136" hR="136" stAng="10800000" swAng="-5400000"/>
                  <a:lnTo>
                    <a:pt x="21464" y="51617"/>
                  </a:lnTo>
                  <a:arcTo wR="136" hR="136" stAng="5400000" swAng="-5400000"/>
                  <a:lnTo>
                    <a:pt x="21600" y="136"/>
                  </a:lnTo>
                  <a:arcTo wR="136" hR="13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21200" y="5254560"/>
              <a:ext cx="3234600" cy="55548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arreteras no congestion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(con peaj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84840" y="5727960"/>
              <a:ext cx="970200" cy="580320"/>
            </a:xfrm>
            <a:prstGeom prst="roundRect">
              <a:avLst>
                <a:gd name="adj" fmla="val 3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60720" y="5691960"/>
              <a:ext cx="79920" cy="369720"/>
            </a:xfrm>
            <a:custGeom>
              <a:avLst/>
              <a:gdLst/>
              <a:ahLst/>
              <a:rect l="l" t="t" r="r" b="b"/>
              <a:pathLst>
                <a:path w="21600" h="99573">
                  <a:moveTo>
                    <a:pt x="150" y="0"/>
                  </a:moveTo>
                  <a:arcTo wR="150" hR="150" stAng="16200000" swAng="-5400000"/>
                  <a:lnTo>
                    <a:pt x="0" y="99423"/>
                  </a:lnTo>
                  <a:arcTo wR="150" hR="150" stAng="10800000" swAng="-5400000"/>
                  <a:lnTo>
                    <a:pt x="21450" y="99573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57880" y="371772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57880" y="371772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57880" y="371772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88840" y="3717720"/>
              <a:ext cx="3633120" cy="37800"/>
            </a:xfrm>
            <a:prstGeom prst="roundRect">
              <a:avLst>
                <a:gd name="adj" fmla="val 625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88840" y="3717720"/>
              <a:ext cx="36331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22320" y="371772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22320" y="371772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22320" y="371772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53640" y="3717720"/>
              <a:ext cx="3592800" cy="37800"/>
            </a:xfrm>
            <a:prstGeom prst="roundRect">
              <a:avLst>
                <a:gd name="adj" fmla="val 625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53640" y="3717720"/>
              <a:ext cx="35928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46440" y="3717720"/>
              <a:ext cx="32760" cy="3780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4887">
                  <a:moveTo>
                    <a:pt x="1350" y="0"/>
                  </a:moveTo>
                  <a:arcTo wR="1350" hR="1350" stAng="16200000" swAng="-5400000"/>
                  <a:lnTo>
                    <a:pt x="0" y="23537"/>
                  </a:lnTo>
                  <a:arcTo wR="1350" hR="1350" stAng="10800000" swAng="-5400000"/>
                  <a:lnTo>
                    <a:pt x="20250" y="2488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46440" y="3717720"/>
              <a:ext cx="32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46440" y="371772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57880" y="3755520"/>
              <a:ext cx="30960" cy="250128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2501280"/>
                <a:gd name="textAreaBottom" fmla="*/ 2500920 h 2501280"/>
              </a:gdLst>
              <a:ahLst/>
              <a:rect l="textAreaLeft" t="textAreaTop" r="textAreaRight" b="textAreaBottom"/>
              <a:pathLst>
                <a:path w="21600" h="1725269">
                  <a:moveTo>
                    <a:pt x="1350" y="0"/>
                  </a:moveTo>
                  <a:arcTo wR="1350" hR="1350" stAng="16200000" swAng="-5400000"/>
                  <a:lnTo>
                    <a:pt x="0" y="1723919"/>
                  </a:lnTo>
                  <a:arcTo wR="1350" hR="1350" stAng="10800000" swAng="-5400000"/>
                  <a:lnTo>
                    <a:pt x="20250" y="172526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7880" y="3755520"/>
              <a:ext cx="1800" cy="25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88840" y="6256800"/>
              <a:ext cx="3633120" cy="37800"/>
            </a:xfrm>
            <a:prstGeom prst="roundRect">
              <a:avLst>
                <a:gd name="adj" fmla="val 625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8840" y="6256800"/>
              <a:ext cx="36331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22320" y="3755520"/>
              <a:ext cx="30960" cy="250128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2501280"/>
                <a:gd name="textAreaBottom" fmla="*/ 2500920 h 2501280"/>
              </a:gdLst>
              <a:ahLst/>
              <a:rect l="textAreaLeft" t="textAreaTop" r="textAreaRight" b="textAreaBottom"/>
              <a:pathLst>
                <a:path w="21600" h="1725269">
                  <a:moveTo>
                    <a:pt x="1350" y="0"/>
                  </a:moveTo>
                  <a:arcTo wR="1350" hR="1350" stAng="16200000" swAng="-5400000"/>
                  <a:lnTo>
                    <a:pt x="0" y="1723919"/>
                  </a:lnTo>
                  <a:arcTo wR="1350" hR="1350" stAng="10800000" swAng="-5400000"/>
                  <a:lnTo>
                    <a:pt x="20250" y="1725269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22320" y="3755520"/>
              <a:ext cx="1800" cy="25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22320" y="6256800"/>
              <a:ext cx="30960" cy="37800"/>
            </a:xfrm>
            <a:custGeom>
              <a:avLst/>
              <a:gdLst>
                <a:gd name="textAreaLeft" fmla="*/ 360 w 30960"/>
                <a:gd name="textAreaRight" fmla="*/ 30600 w 309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6317">
                  <a:moveTo>
                    <a:pt x="1350" y="0"/>
                  </a:moveTo>
                  <a:arcTo wR="1350" hR="1350" stAng="16200000" swAng="-5400000"/>
                  <a:lnTo>
                    <a:pt x="0" y="24967"/>
                  </a:lnTo>
                  <a:arcTo wR="1350" hR="1350" stAng="10800000" swAng="-5400000"/>
                  <a:lnTo>
                    <a:pt x="20250" y="2631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22320" y="6256800"/>
              <a:ext cx="309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22320" y="6256800"/>
              <a:ext cx="180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53640" y="6256800"/>
              <a:ext cx="3592800" cy="37800"/>
            </a:xfrm>
            <a:prstGeom prst="roundRect">
              <a:avLst>
                <a:gd name="adj" fmla="val 625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53640" y="6256800"/>
              <a:ext cx="35928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46440" y="3755520"/>
              <a:ext cx="32760" cy="250128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2501280"/>
                <a:gd name="textAreaBottom" fmla="*/ 2500920 h 2501280"/>
              </a:gdLst>
              <a:ahLst/>
              <a:rect l="textAreaLeft" t="textAreaTop" r="textAreaRight" b="textAreaBottom"/>
              <a:pathLst>
                <a:path w="21600" h="1631504">
                  <a:moveTo>
                    <a:pt x="1200" y="0"/>
                  </a:moveTo>
                  <a:arcTo wR="1200" hR="1200" stAng="16200000" swAng="-5400000"/>
                  <a:lnTo>
                    <a:pt x="0" y="1630304"/>
                  </a:lnTo>
                  <a:arcTo wR="1200" hR="1200" stAng="10800000" swAng="-5400000"/>
                  <a:lnTo>
                    <a:pt x="20400" y="1631504"/>
                  </a:lnTo>
                  <a:arcTo wR="1200" hR="1200" stAng="5400000" swAng="-5400000"/>
                  <a:lnTo>
                    <a:pt x="21600" y="1200"/>
                  </a:lnTo>
                  <a:arcTo wR="1200" hR="12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046440" y="3755520"/>
              <a:ext cx="1440" cy="250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46440" y="6256800"/>
              <a:ext cx="32760" cy="3780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4887">
                  <a:moveTo>
                    <a:pt x="1350" y="0"/>
                  </a:moveTo>
                  <a:arcTo wR="1350" hR="1350" stAng="16200000" swAng="-5400000"/>
                  <a:lnTo>
                    <a:pt x="0" y="23537"/>
                  </a:lnTo>
                  <a:arcTo wR="1350" hR="1350" stAng="10800000" swAng="-5400000"/>
                  <a:lnTo>
                    <a:pt x="20250" y="2488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46440" y="6256800"/>
              <a:ext cx="32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046440" y="625680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46440" y="6256800"/>
              <a:ext cx="32760" cy="37800"/>
            </a:xfrm>
            <a:custGeom>
              <a:avLst/>
              <a:gdLst>
                <a:gd name="textAreaLeft" fmla="*/ 360 w 32760"/>
                <a:gd name="textAreaRight" fmla="*/ 32400 w 32760"/>
                <a:gd name="textAreaTop" fmla="*/ 360 h 37800"/>
                <a:gd name="textAreaBottom" fmla="*/ 37440 h 37800"/>
              </a:gdLst>
              <a:ahLst/>
              <a:rect l="textAreaLeft" t="textAreaTop" r="textAreaRight" b="textAreaBottom"/>
              <a:pathLst>
                <a:path w="21600" h="24887">
                  <a:moveTo>
                    <a:pt x="1350" y="0"/>
                  </a:moveTo>
                  <a:arcTo wR="1350" hR="1350" stAng="16200000" swAng="-5400000"/>
                  <a:lnTo>
                    <a:pt x="0" y="23537"/>
                  </a:lnTo>
                  <a:arcTo wR="1350" hR="1350" stAng="10800000" swAng="-5400000"/>
                  <a:lnTo>
                    <a:pt x="20250" y="24887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46440" y="6256800"/>
              <a:ext cx="32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046440" y="6256800"/>
              <a:ext cx="14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-779760" y="3521880"/>
              <a:ext cx="1982520" cy="4626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a50021"/>
                  </a:solidFill>
                  <a:latin typeface="Tahoma"/>
                </a:rPr>
                <a:t>¿Excluíbl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09480" y="1600200"/>
            <a:ext cx="8153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Por qué falla el mercado frente a Bienes Públ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Veremos un ejemplo 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8160" indent="-2872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Supongamos que dos individuos tienen una demanda (que pueden ser diferentes) por diversidad ecológica (biodiversida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8160" indent="-2872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a persona A valora más ésta que el individuo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3" dur="1" fill="hold"/>
                                  <p:tgtEl>
                                    <p:spTgt spid="4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09480" y="1600200"/>
            <a:ext cx="83059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Cuál es la curva de demanda de Mercado de biodiversidad? La </a:t>
            </a:r>
            <a:r>
              <a:rPr b="0" i="1" sz="2400" spc="-1" strike="noStrike">
                <a:solidFill>
                  <a:srgbClr val="000000"/>
                </a:solidFill>
                <a:latin typeface="Arial Black"/>
              </a:rPr>
              <a:t>suma vertical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de las curvas de demanda individuales.  Esto a diferencia de las curvas de demanda tradicionales que se suman horizonta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Porqué se suman verticalmente? Debido a la no rivalidad en el consumo. Si la demanda de Biodiversidad es Q, se está dispuesto a pagar  P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a  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+ P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por tenerla. Esto debido a que Q estará disponible para amb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072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1" action="ppaction://hlinksldjump"/>
          </p:cNvPr>
          <p:cNvSpPr/>
          <p:nvPr/>
        </p:nvSpPr>
        <p:spPr>
          <a:xfrm>
            <a:off x="5181480" y="350532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0948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2520" y="18828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22520" y="5692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22520" y="3254400"/>
            <a:ext cx="2286000" cy="24382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22520" y="2416320"/>
            <a:ext cx="3581280" cy="320040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22520" y="4854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22520" y="3711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22520" y="2873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70440" y="28735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74640" y="551484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antidad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Biodiver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07348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66080" y="5029200"/>
            <a:ext cx="405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78760" y="261936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Demanda de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or un bien públ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9960" y="1324080"/>
            <a:ext cx="119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rec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Diver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($/Un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45600" y="3551400"/>
            <a:ext cx="36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50280" y="467676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9520" y="5667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505320" y="2133720"/>
            <a:ext cx="2590200" cy="3428640"/>
            <a:chOff x="3505320" y="2133720"/>
            <a:chExt cx="2590200" cy="3428640"/>
          </a:xfrm>
        </p:grpSpPr>
        <p:sp>
          <p:nvSpPr>
            <p:cNvPr id="423" name=""/>
            <p:cNvSpPr/>
            <p:nvPr/>
          </p:nvSpPr>
          <p:spPr>
            <a:xfrm>
              <a:off x="3505320" y="2133720"/>
              <a:ext cx="1470240" cy="23374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75560" y="4471200"/>
              <a:ext cx="1119960" cy="1091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33520" y="1676520"/>
            <a:ext cx="80010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De esta forma la curva de demanda por bienes públicos refleja, para una cantidad fija del bien, el precio que están dispuestos a pagar los consumidores. Para el caso de un bien privado, el individuo por lo general enfrenta un precio y luego elige cuanto comp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33520" y="1676520"/>
            <a:ext cx="8001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El mercado asigna eficientemente los bienes públ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Haremos un análisis gráfico para respo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46200"/>
            <a:ext cx="815328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Conviene distinguir tanto por ORIGEN como por los AFECTAD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203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84280" indent="-203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00"/>
                </a:solidFill>
                <a:latin typeface="Arial Black"/>
              </a:rPr>
              <a:t>Externalidad en el consumo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 es una actividad económica por un consumidor que entra la función de utilidad de al menos un consumidor,  </a:t>
            </a:r>
            <a:r>
              <a:rPr b="0" sz="2200" spc="-1" strike="noStrike" u="sng">
                <a:solidFill>
                  <a:srgbClr val="000000"/>
                </a:solidFill>
                <a:uFillTx/>
                <a:latin typeface="Arial Black"/>
              </a:rPr>
              <a:t>pero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que no afecta la producción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Ejempl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774720" algn="just">
              <a:lnSpc>
                <a:spcPct val="100000"/>
              </a:lnSpc>
              <a:buClr>
                <a:srgbClr val="000000"/>
              </a:buClr>
              <a:buFont typeface="Arial Black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Reja alta que afecta visibilidad de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774720" algn="just">
              <a:lnSpc>
                <a:spcPct val="100000"/>
              </a:lnSpc>
              <a:buClr>
                <a:srgbClr val="000000"/>
              </a:buClr>
              <a:buFont typeface="Arial Black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Música fuerte a altas horas de la noch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41880" y="380880"/>
            <a:ext cx="59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Black"/>
              </a:rPr>
              <a:t>TAXONOMÍA DE 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19051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7800" indent="-196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Y cuál será la asignación eficiente de biodiversidad? Debe ser aquella que maximiza los beneficios n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Veamos esto gráf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2224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6" dur="1" fill="hold"/>
                                  <p:tgtEl>
                                    <p:spTgt spid="4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762120" y="52578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Si el costo de proveer de biodiversidad es constante e igual a C, entonces la asignación que maximiza los beneficios netos es </a:t>
            </a:r>
            <a:r>
              <a:rPr b="0" sz="2000" spc="-1" strike="noStrike" u="sng">
                <a:solidFill>
                  <a:srgbClr val="000000"/>
                </a:solidFill>
                <a:uFillTx/>
                <a:latin typeface="Arial Black"/>
              </a:rPr>
              <a:t>Q</a:t>
            </a:r>
            <a:r>
              <a:rPr b="0" sz="20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2224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071360" y="762120"/>
            <a:ext cx="7035840" cy="4503240"/>
            <a:chOff x="1071360" y="762120"/>
            <a:chExt cx="7035840" cy="4503240"/>
          </a:xfrm>
        </p:grpSpPr>
        <p:sp>
          <p:nvSpPr>
            <p:cNvPr id="434" name=""/>
            <p:cNvSpPr/>
            <p:nvPr/>
          </p:nvSpPr>
          <p:spPr>
            <a:xfrm>
              <a:off x="2286000" y="1828800"/>
              <a:ext cx="1905120" cy="16002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819520" y="1600200"/>
              <a:ext cx="8380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76280" y="1219320"/>
              <a:ext cx="157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Beneficio Ne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6920" y="1284120"/>
              <a:ext cx="0" cy="35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6920" y="4851360"/>
              <a:ext cx="42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66920" y="2568600"/>
              <a:ext cx="2238480" cy="22827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6920" y="1784520"/>
              <a:ext cx="3506760" cy="29955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6920" y="4067280"/>
              <a:ext cx="149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66920" y="299736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66920" y="243828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29400" y="468468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antidad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Bio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44960" y="4272120"/>
              <a:ext cx="44316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5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08880" y="4114800"/>
              <a:ext cx="405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41720" y="19749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71360" y="762120"/>
              <a:ext cx="119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reci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($/Uni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97920" y="2846520"/>
              <a:ext cx="368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03680" y="3900600"/>
              <a:ext cx="37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26920" y="482760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005280" y="1590840"/>
              <a:ext cx="2761920" cy="3138120"/>
              <a:chOff x="3005280" y="1590840"/>
              <a:chExt cx="2761920" cy="3138120"/>
            </a:xfrm>
          </p:grpSpPr>
          <p:sp>
            <p:nvSpPr>
              <p:cNvPr id="453" name=""/>
              <p:cNvSpPr/>
              <p:nvPr/>
            </p:nvSpPr>
            <p:spPr>
              <a:xfrm>
                <a:off x="3005280" y="1590840"/>
                <a:ext cx="1567800" cy="213948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73080" y="3730320"/>
                <a:ext cx="1194120" cy="9986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2286000" y="3429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08240" y="2971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5680" y="2743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24382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43400" y="34290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2720" y="48466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4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0880" y="1327320"/>
            <a:ext cx="84582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Nos lleva el mercado a este nivel?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Respuesta: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Supongamos que se hace una colecta para proteger la biodiversidad. Llegan primero a B solicitándole su colaboración y B decide contribu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o hace maximizando sus beneficios netos en 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uego se le solicita colaborar a A. ¿Cuánto más compr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2133720" y="464832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3429000" y="56386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99072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7772400" y="5257800"/>
            <a:ext cx="1143000" cy="8380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842760" y="838080"/>
            <a:ext cx="7035840" cy="4503240"/>
            <a:chOff x="842760" y="838080"/>
            <a:chExt cx="7035840" cy="4503240"/>
          </a:xfrm>
        </p:grpSpPr>
        <p:sp>
          <p:nvSpPr>
            <p:cNvPr id="468" name=""/>
            <p:cNvSpPr/>
            <p:nvPr/>
          </p:nvSpPr>
          <p:spPr>
            <a:xfrm>
              <a:off x="2057400" y="2674800"/>
              <a:ext cx="838080" cy="83808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438280" y="2217600"/>
              <a:ext cx="8384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15880" y="19573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78480" y="4884480"/>
              <a:ext cx="371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29160" y="4884480"/>
              <a:ext cx="377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38320" y="1360440"/>
              <a:ext cx="0" cy="35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38320" y="4927320"/>
              <a:ext cx="42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38320" y="2644560"/>
              <a:ext cx="2238480" cy="22827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38320" y="1860480"/>
              <a:ext cx="3506760" cy="29955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38320" y="4143240"/>
              <a:ext cx="149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38320" y="307332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38320" y="251460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00800" y="476064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antidad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Bio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16360" y="4348080"/>
              <a:ext cx="44316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5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7480" y="4579920"/>
              <a:ext cx="405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13120" y="20509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2760" y="838080"/>
              <a:ext cx="119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reci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($/Uni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69320" y="2922480"/>
              <a:ext cx="368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75080" y="3976560"/>
              <a:ext cx="37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98320" y="49035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776680" y="1666800"/>
              <a:ext cx="2761920" cy="3138120"/>
              <a:chOff x="2776680" y="1666800"/>
              <a:chExt cx="2761920" cy="3138120"/>
            </a:xfrm>
          </p:grpSpPr>
          <p:sp>
            <p:nvSpPr>
              <p:cNvPr id="489" name=""/>
              <p:cNvSpPr/>
              <p:nvPr/>
            </p:nvSpPr>
            <p:spPr>
              <a:xfrm>
                <a:off x="2776680" y="1666800"/>
                <a:ext cx="1567800" cy="213948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44480" y="3806280"/>
                <a:ext cx="1194120" cy="9986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057400" y="350496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79640" y="30477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7080" y="28191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9000" y="25146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14800" y="35049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94120" y="4922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5480" y="3512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86200" y="3512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9072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33120" y="1135080"/>
            <a:ext cx="7035840" cy="4503240"/>
            <a:chOff x="933120" y="1135080"/>
            <a:chExt cx="7035840" cy="4503240"/>
          </a:xfrm>
        </p:grpSpPr>
        <p:sp>
          <p:nvSpPr>
            <p:cNvPr id="501" name=""/>
            <p:cNvSpPr/>
            <p:nvPr/>
          </p:nvSpPr>
          <p:spPr>
            <a:xfrm>
              <a:off x="2133720" y="2209680"/>
              <a:ext cx="1904760" cy="16002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819520" y="2057400"/>
              <a:ext cx="8380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59680" y="17971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68840" y="5181480"/>
              <a:ext cx="371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5181480"/>
              <a:ext cx="377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28680" y="1657440"/>
              <a:ext cx="0" cy="35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28680" y="5224320"/>
              <a:ext cx="42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28680" y="2941560"/>
              <a:ext cx="2238480" cy="22827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28680" y="2157480"/>
              <a:ext cx="3507120" cy="29955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28680" y="4440240"/>
              <a:ext cx="1492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8680" y="337032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28680" y="281160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91160" y="505764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antidad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Bio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07080" y="4645080"/>
              <a:ext cx="4428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5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28200" y="4876920"/>
              <a:ext cx="405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03840" y="23479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33120" y="1135080"/>
              <a:ext cx="119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reci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($/Uni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59680" y="3219480"/>
              <a:ext cx="368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65440" y="4273560"/>
              <a:ext cx="37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88680" y="52005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2867040" y="1963800"/>
              <a:ext cx="2761920" cy="3138120"/>
              <a:chOff x="2867040" y="1963800"/>
              <a:chExt cx="2761920" cy="3138120"/>
            </a:xfrm>
          </p:grpSpPr>
          <p:sp>
            <p:nvSpPr>
              <p:cNvPr id="522" name=""/>
              <p:cNvSpPr/>
              <p:nvPr/>
            </p:nvSpPr>
            <p:spPr>
              <a:xfrm>
                <a:off x="2867040" y="1963800"/>
                <a:ext cx="1567800" cy="213948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434840" y="4103280"/>
                <a:ext cx="1194120" cy="9986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147760" y="380196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70000" y="33447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07440" y="31161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19360" y="28116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05160" y="38019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84840" y="5219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6200" y="3809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76560" y="3809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57200" y="1219320"/>
            <a:ext cx="80010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3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a diferencia que falta para llegar a su nivel óptimo :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a  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Problema:  con ello no se llega a la cantidad óptima social Q</a:t>
            </a:r>
            <a:r>
              <a:rPr b="0" sz="24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, si no sólo a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Claramente para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a &lt; q &lt; Q*, la suma de lo que ambos están dispuestos a pagar es mayor a Q, pero ello no influye en la decisión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uego se llega a una cantidad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Black"/>
              </a:rPr>
              <a:t>menor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 a la óptim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34" dur="1" fill="hold"/>
                                  <p:tgtEl>
                                    <p:spTgt spid="5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609480" y="1295280"/>
            <a:ext cx="771228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¿Por qué sucede es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Cada persona tiene el incentivo a actuar como </a:t>
            </a:r>
            <a:r>
              <a:rPr b="0" i="1" sz="2400" spc="-1" strike="noStrike">
                <a:solidFill>
                  <a:srgbClr val="000000"/>
                </a:solidFill>
                <a:latin typeface="Arial Black"/>
              </a:rPr>
              <a:t>"polizón " (free rider)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sobre lo que ha contribuido el otro. Debido a que el consumo de un bien público es no rival y no excluíble, los consumidores reciben los beneficios de la diversidad que resulta de lo pagado </a:t>
            </a:r>
            <a:r>
              <a:rPr b="0" i="1" sz="2400" spc="-1" strike="noStrike">
                <a:solidFill>
                  <a:srgbClr val="000000"/>
                </a:solidFill>
                <a:latin typeface="Arial Black"/>
              </a:rPr>
              <a:t>por otros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Como resultado, el incentivo de cada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Black"/>
              </a:rPr>
              <a:t>individuo 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para contribuir al óptimo social dismin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1440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6" dur="1" fill="hold"/>
                                  <p:tgtEl>
                                    <p:spTgt spid="5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80880" y="1371600"/>
            <a:ext cx="82296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Caben conclusiones  adiciona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(1) La cantidad de biodiversidad provista es    mayor que cero. El punto es que es menor a la ópti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(2) Es extremadamente complicado corregir esta distorsión. La asignación eficiente requeriría cobrar precios diferentes a cada consumid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sz="22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* y P </a:t>
            </a:r>
            <a:r>
              <a:rPr b="0" sz="2200" spc="-1" strike="noStrike" baseline="-25000">
                <a:solidFill>
                  <a:srgbClr val="000000"/>
                </a:solidFill>
                <a:latin typeface="Arial Black"/>
              </a:rPr>
              <a:t>b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*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Esto permitiría recolectar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C · Q</a:t>
            </a:r>
            <a:r>
              <a:rPr b="0" sz="22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 = Pa</a:t>
            </a:r>
            <a:r>
              <a:rPr b="0" sz="22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· Q</a:t>
            </a:r>
            <a:r>
              <a:rPr b="0" sz="22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+ P</a:t>
            </a:r>
            <a:r>
              <a:rPr b="0" sz="2200" spc="-1" strike="noStrike" baseline="-25000">
                <a:solidFill>
                  <a:srgbClr val="000000"/>
                </a:solidFill>
                <a:latin typeface="Arial Black"/>
              </a:rPr>
              <a:t>b</a:t>
            </a:r>
            <a:r>
              <a:rPr b="0" sz="22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 · Q</a:t>
            </a:r>
            <a:r>
              <a:rPr b="0" sz="22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200" spc="-1" strike="noStrike">
                <a:solidFill>
                  <a:srgbClr val="000000"/>
                </a:solidFill>
                <a:latin typeface="Arial Black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2224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rId1" action="ppaction://hlinksldjump"/>
          </p:cNvPr>
          <p:cNvSpPr/>
          <p:nvPr/>
        </p:nvSpPr>
        <p:spPr>
          <a:xfrm>
            <a:off x="5257800" y="441972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8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384200" y="1193760"/>
            <a:ext cx="7152480" cy="4771800"/>
            <a:chOff x="1384200" y="1193760"/>
            <a:chExt cx="7152480" cy="4771800"/>
          </a:xfrm>
        </p:grpSpPr>
        <p:sp>
          <p:nvSpPr>
            <p:cNvPr id="540" name=""/>
            <p:cNvSpPr/>
            <p:nvPr/>
          </p:nvSpPr>
          <p:spPr>
            <a:xfrm>
              <a:off x="260676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06760" y="55627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06760" y="3124080"/>
              <a:ext cx="2286000" cy="243864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06760" y="2286000"/>
              <a:ext cx="3581280" cy="32004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06760" y="4038480"/>
              <a:ext cx="396216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49760" y="2133720"/>
              <a:ext cx="1218960" cy="228600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6760" y="5334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6760" y="4724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06760" y="42670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06760" y="35812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06760" y="27432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54320" y="2743200"/>
              <a:ext cx="0" cy="2819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44840" y="4038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87840" y="4038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97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40120" y="4038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58880" y="538488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antidad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Bio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85840" y="3867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7360" y="4792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99400" y="4622760"/>
              <a:ext cx="405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63000" y="2489040"/>
              <a:ext cx="229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emanda de Merc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84200" y="1193760"/>
              <a:ext cx="119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recio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Divers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($/Uni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29480" y="3421080"/>
              <a:ext cx="368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34520" y="4546440"/>
              <a:ext cx="37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62160" y="4089240"/>
              <a:ext cx="47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*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58920" y="5156280"/>
              <a:ext cx="48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*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65600" y="2565360"/>
              <a:ext cx="677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+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86440" y="5537160"/>
              <a:ext cx="377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93400" y="55371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42040" y="5537160"/>
              <a:ext cx="371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56240" y="55371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Q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82224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457200" y="152388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Sin embargo esto implica que cada consumidor debe revelar exactamente lo que está dispuesto a pagar. Y pueden no estar dispuesto a hacerlo para así beneficiarse como "polizones". Como resultado el regulador no sabría cuanto cobrar. En el ejemplo anterior, A puede beneficiarse declarando estar dispuesto a pagar menos que P</a:t>
            </a:r>
            <a:r>
              <a:rPr b="0" sz="2400" spc="-1" strike="noStrike" baseline="-25000">
                <a:solidFill>
                  <a:srgbClr val="000000"/>
                </a:solidFill>
                <a:latin typeface="Arial Black"/>
              </a:rPr>
              <a:t>a</a:t>
            </a:r>
            <a:r>
              <a:rPr b="0" sz="24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1896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3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 Black"/>
              </a:rPr>
              <a:t>Externalidad en la producción :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  Actividad económica de parte de alguna firma que afecta la función de producción de al menos otra firma pero no entra en la función de utilidad de ningún consumi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Ejemplo: 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a extracción de significativa cantidad de agua subterránea desde un pozo por parte de una  empresa minera puede afectar a otra empresa min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1880" y="380880"/>
            <a:ext cx="59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Black"/>
              </a:rPr>
              <a:t>TAXONOMÍA DE 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914400" y="15228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RECURSOS DE PROPIEDAD COMUN (LIBRE ACCE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15652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os recursos de propiedad común son aquellos no controlados exclusivamente por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 Black"/>
              </a:rPr>
              <a:t>un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a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Si no se restringe el acceso a este tipo de recursos, lo explota el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 Black"/>
              </a:rPr>
              <a:t>primero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que accede a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Son bienes de propiedad comú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l agua (napas subterráneas a las que varios tienen acce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os P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7" dur="1" fill="hold"/>
                                  <p:tgtEl>
                                    <p:spTgt spid="5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38080" y="15228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520" y="1565280"/>
            <a:ext cx="786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l bisonte en Estados Unidos fue siempre 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 Black"/>
              </a:rPr>
              <a:t>bien de propiedad común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: enormes manadas se paseaban por las praderas y los indígenas los cazaban y utilizaban para carne, cuer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 haber muchos bisontes, la agresividad de un cazador no afectaba el tiempo de caza de otro. En ausencia de escasez, la eficiencia no se afectaba al ser u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 Black"/>
              </a:rPr>
              <a:t>bien de propiedad común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3" dur="1" fill="hold"/>
                                  <p:tgtEl>
                                    <p:spTgt spid="5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838080" y="1787400"/>
            <a:ext cx="763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 aumentar la demanda se genera escasez de biso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 haber escasez, al aumentar el Nº de Cazadores, cada unidad adicional de caza (cazador) aumenta el tiempo y el esfuerzo requeridos para producir un Biso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14400" y="15876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9" dur="1" fill="hold"/>
                                  <p:tgtEl>
                                    <p:spTgt spid="5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1714680"/>
            <a:ext cx="7711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Definici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 Black"/>
              </a:rPr>
              <a:t>Valor del Producto Medio (VPMe) o Valor Medio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. Valor medio del bisonte cazado como función de la actividad o esfuerzo de ca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 Black"/>
              </a:rPr>
              <a:t>Valor del Producto Marginal (VPMg) o Valor Marginal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. Valor adicional de lo cazado a cada nivel de esfuerzo de ca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19044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1" dur="1" fill="hold"/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914400" y="19044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04920" y="2079720"/>
          <a:ext cx="8305560" cy="17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79720"/>
                    <a:ext cx="830556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838080" y="403848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b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l cazador tiene la opción de trabajar en  una granja a $14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762120" y="1219320"/>
            <a:ext cx="7170840" cy="4989600"/>
            <a:chOff x="762120" y="1219320"/>
            <a:chExt cx="7170840" cy="4989600"/>
          </a:xfrm>
        </p:grpSpPr>
        <p:sp>
          <p:nvSpPr>
            <p:cNvPr id="587" name=""/>
            <p:cNvSpPr/>
            <p:nvPr/>
          </p:nvSpPr>
          <p:spPr>
            <a:xfrm>
              <a:off x="2133720" y="3352680"/>
              <a:ext cx="98244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4164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41640" y="55627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25800" y="2590920"/>
              <a:ext cx="2217600" cy="289548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5800" y="2590920"/>
              <a:ext cx="3597120" cy="289548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41640" y="3886200"/>
              <a:ext cx="396216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25800" y="3200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41640" y="4191120"/>
              <a:ext cx="21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41640" y="358128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41640" y="2819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30360" y="28195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87560" y="32004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33920" y="38862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84760" y="5384880"/>
              <a:ext cx="134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antidad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Esfuerz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a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72400" y="358128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C M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48040" y="281952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Re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2120" y="1219320"/>
              <a:ext cx="136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ostos y Beneficios de Caz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($/Uni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7320" y="3446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87320" y="40384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87320" y="37339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8160" y="5562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95680" y="5562720"/>
              <a:ext cx="416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87320" y="30481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87320" y="30481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87320" y="2666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89680" y="4800600"/>
              <a:ext cx="962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Valor d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73480" y="4375080"/>
              <a:ext cx="1175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Valor 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Me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46800" y="5562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04000" y="5562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44760" y="3581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16160" y="33526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2658960" y="3048120"/>
              <a:ext cx="10670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25800" y="3352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890640" y="27288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533520" y="16416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¿Cuál es el nivel eficiente de esfuerzo de ca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spuesta: 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s el nivel donde el VPMg = CMg. Se maximizan los Beneficios N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7000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3" dur="1" fill="hold"/>
                                  <p:tgtEl>
                                    <p:spTgt spid="6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914400" y="22860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1817640"/>
            <a:ext cx="77882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or otro lado, se genera una “Renta de Escasez” con esta asignación. Es decir, en el largo plazo,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a competencia no elimina esta utilidad en el largo plazo (de allí que es una ren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9" dur="1" fill="hold"/>
                                  <p:tgtEl>
                                    <p:spTgt spid="6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914400" y="21744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28412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Black"/>
              </a:rPr>
              <a:t>Problema: Al haber varios cazadores (pescadores) no se logra la asignación eficien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Black"/>
              </a:rPr>
              <a:t>¿Por qué? Ninguno tendría incentivo de proteger la renta de escasez  restringiendo su actividad de caza. Prevalece el que “ si yo no lo cazo, lo caza otro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Black"/>
              </a:rPr>
              <a:t>Luego, cada uno caza todo lo que puede siempre qu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Black"/>
              </a:rPr>
              <a:t>VPMe &gt; CMg  =&gt;  Q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¿Por qué? Nadie se puede apropiar de la renta de escasez =&gt; 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Arial Black"/>
              </a:rPr>
              <a:t>La ignor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3" dur="1" fill="hold"/>
                                  <p:tgtEl>
                                    <p:spTgt spid="62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914400" y="23184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080" y="1527120"/>
            <a:ext cx="76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Al no restringirse el acceso, el costo de oportunidad de la sobrexplotació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 Black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se incorpora en su toma de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ueg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(1) Al haber demanda suficiente, se sobrexplota el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(2) Se disipa la Renta de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¿Por qué? El libre acceso destruye el incentivo a conserv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7" dur="1" fill="hold"/>
                                  <p:tgtEl>
                                    <p:spTgt spid="62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447920"/>
            <a:ext cx="815364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7800" indent="-196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300" spc="-1" strike="noStrike">
                <a:solidFill>
                  <a:srgbClr val="000000"/>
                </a:solidFill>
                <a:latin typeface="Arial Black"/>
              </a:rPr>
              <a:t>Externalidad Relacionada al Consumo y Producción</a:t>
            </a: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.  La actividad económica de algún consumidor  (producto) afecta la función de producción (función de utilidad) de al menos una firma (consumidor)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961920" indent="-193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961920" indent="-1936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Ejemplos:</a:t>
            </a:r>
            <a:r>
              <a:rPr b="0" i="1" sz="2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Contaminación urbana de aire o agu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77800" indent="-196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300" spc="-1" strike="noStrike">
                <a:solidFill>
                  <a:srgbClr val="000000"/>
                </a:solidFill>
                <a:latin typeface="Arial Black"/>
              </a:rPr>
              <a:t>Externalidad de Congestión</a:t>
            </a: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 :  Sucede si a valores reducidos de la actividad relevante  (circulación vehicular) no se degrada el ambiente, pero al aumentar la actividad si se genera degrad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41880" y="380880"/>
            <a:ext cx="59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Black"/>
              </a:rPr>
              <a:t>TAXONOMÍA DE EXTER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14400" y="3049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JEMPLO: BISONTES EN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1738440"/>
            <a:ext cx="7711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Si un cazador -o por legislación- puede evitar que otros cacen se llegaría al Nº eficiente de biso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llo es difícil de implementar: ¿a quien le entrego el derec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3" dur="1" fill="hold"/>
                                  <p:tgtEl>
                                    <p:spTgt spid="6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2286000"/>
            <a:ext cx="4680000" cy="3470040"/>
            <a:chOff x="0" y="2286000"/>
            <a:chExt cx="4680000" cy="3470040"/>
          </a:xfrm>
        </p:grpSpPr>
        <p:sp>
          <p:nvSpPr>
            <p:cNvPr id="59" name=""/>
            <p:cNvSpPr/>
            <p:nvPr/>
          </p:nvSpPr>
          <p:spPr>
            <a:xfrm>
              <a:off x="3913200" y="3276720"/>
              <a:ext cx="7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I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124080"/>
              <a:ext cx="895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Pe=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837720" y="2484360"/>
              <a:ext cx="1800" cy="28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9880" y="5321160"/>
              <a:ext cx="351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9880" y="3276720"/>
              <a:ext cx="31446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8120" y="3352680"/>
              <a:ext cx="0" cy="1968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39880" y="2679840"/>
              <a:ext cx="2923920" cy="22730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1600" y="327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32767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32767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9520" y="4724280"/>
              <a:ext cx="220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9880" y="4572000"/>
              <a:ext cx="366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4040" y="2286000"/>
              <a:ext cx="893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78240" y="5322960"/>
              <a:ext cx="292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2960" y="5433840"/>
              <a:ext cx="906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1  2  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78040" y="5433840"/>
              <a:ext cx="903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qm=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6120" y="4332240"/>
              <a:ext cx="220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7560" y="4559400"/>
              <a:ext cx="292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7560" y="4784760"/>
              <a:ext cx="43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560" y="5013360"/>
              <a:ext cx="292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9520" y="2590920"/>
              <a:ext cx="89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C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49800" y="167652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Recordemos el Beneficio Marginal Neto Priv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0" y="2286000"/>
            <a:ext cx="4343400" cy="3531960"/>
            <a:chOff x="4572000" y="2286000"/>
            <a:chExt cx="4343400" cy="3531960"/>
          </a:xfrm>
        </p:grpSpPr>
        <p:sp>
          <p:nvSpPr>
            <p:cNvPr id="82" name=""/>
            <p:cNvSpPr/>
            <p:nvPr/>
          </p:nvSpPr>
          <p:spPr>
            <a:xfrm>
              <a:off x="4572000" y="2286000"/>
              <a:ext cx="1090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BM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4120" y="5372280"/>
              <a:ext cx="326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73720" y="3592440"/>
              <a:ext cx="2587680" cy="1779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961400" y="3205080"/>
              <a:ext cx="0" cy="2167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26280" y="4211640"/>
              <a:ext cx="0" cy="116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8040" y="3902040"/>
              <a:ext cx="0" cy="147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373720" y="4289400"/>
              <a:ext cx="9525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373720" y="3978360"/>
              <a:ext cx="5443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40720" y="5214960"/>
              <a:ext cx="274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5450040"/>
              <a:ext cx="820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 Black"/>
                </a:rPr>
                <a:t>qm=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6760" y="5526000"/>
              <a:ext cx="34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92720" y="5526000"/>
              <a:ext cx="403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29200" y="3438360"/>
              <a:ext cx="208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 Black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29200" y="3832200"/>
              <a:ext cx="27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29200" y="4135320"/>
              <a:ext cx="34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76080" y="3038400"/>
              <a:ext cx="174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Beneficio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Neto Priv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286320" y="3498840"/>
              <a:ext cx="33804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34120" y="2514240"/>
              <a:ext cx="0" cy="28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56888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1600200"/>
            <a:ext cx="8534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En ausencia de regulación ¿Cuánto produce la firm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R: q</a:t>
            </a:r>
            <a:r>
              <a:rPr b="0" sz="2300" spc="-1" strike="noStrike" baseline="-25000">
                <a:solidFill>
                  <a:srgbClr val="000000"/>
                </a:solidFill>
                <a:latin typeface="Arial Black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Pero en presencia de una externalidad negativa, ésta no es una asignación óptim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0000"/>
                </a:solidFill>
                <a:latin typeface="Arial Black"/>
              </a:rPr>
              <a:t>El sistema de mercado falla como asignador eficiente de recursos en el caso de existir recursos ambientales sin precio.Cuando la firma utiliza y degrada un recurso ambiental sin precio no incurre en costos internos, pero si impone costos externos sobre la sociedad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888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1447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Black"/>
              </a:rPr>
              <a:t>La figura siguiente muestra como la producción de bienes genera contaminación. A mayor producción, mayores em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8880" y="196920"/>
            <a:ext cx="583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PRODUCCIÓN,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Y COST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90720" y="2849400"/>
            <a:ext cx="7009920" cy="3317760"/>
            <a:chOff x="990720" y="2849400"/>
            <a:chExt cx="7009920" cy="3317760"/>
          </a:xfrm>
        </p:grpSpPr>
        <p:sp>
          <p:nvSpPr>
            <p:cNvPr id="106" name=""/>
            <p:cNvSpPr/>
            <p:nvPr/>
          </p:nvSpPr>
          <p:spPr>
            <a:xfrm flipV="1">
              <a:off x="2548800" y="3238560"/>
              <a:ext cx="0" cy="25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48800" y="5810040"/>
              <a:ext cx="373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548800" y="3394440"/>
              <a:ext cx="2414160" cy="24152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8800" y="5108760"/>
              <a:ext cx="34268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48800" y="4563360"/>
              <a:ext cx="12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8800" y="3940200"/>
              <a:ext cx="186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9720" y="5108760"/>
              <a:ext cx="0" cy="7009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94760" y="4563360"/>
              <a:ext cx="0" cy="12463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7920" y="3940200"/>
              <a:ext cx="0" cy="186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87400" y="5653800"/>
              <a:ext cx="3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0720" y="2849400"/>
              <a:ext cx="1635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Cantidad de Contaminante Emitido y Asimil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2960" y="3238920"/>
              <a:ext cx="155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Emi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31520" y="4952880"/>
              <a:ext cx="186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Capacidad Asimila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58920" y="49528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81160" y="3783960"/>
              <a:ext cx="62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E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Arial Black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81160" y="440748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Black"/>
                </a:rPr>
                <a:t>E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Arial Black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262040" y="5810040"/>
              <a:ext cx="700560" cy="357120"/>
              <a:chOff x="4262040" y="5810040"/>
              <a:chExt cx="700560" cy="357120"/>
            </a:xfrm>
          </p:grpSpPr>
          <p:sp>
            <p:nvSpPr>
              <p:cNvPr id="123" name=""/>
              <p:cNvSpPr/>
              <p:nvPr/>
            </p:nvSpPr>
            <p:spPr>
              <a:xfrm>
                <a:off x="4262040" y="5810040"/>
                <a:ext cx="70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 Black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23680" y="589068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 Black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38880" y="5810040"/>
              <a:ext cx="700560" cy="357120"/>
              <a:chOff x="3638880" y="5810040"/>
              <a:chExt cx="700560" cy="357120"/>
            </a:xfrm>
          </p:grpSpPr>
          <p:sp>
            <p:nvSpPr>
              <p:cNvPr id="126" name=""/>
              <p:cNvSpPr/>
              <p:nvPr/>
            </p:nvSpPr>
            <p:spPr>
              <a:xfrm>
                <a:off x="3638880" y="5810040"/>
                <a:ext cx="70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 Black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08800" y="5890680"/>
                <a:ext cx="26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 Black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16080" y="5810040"/>
              <a:ext cx="700560" cy="357120"/>
              <a:chOff x="3016080" y="5810040"/>
              <a:chExt cx="700560" cy="357120"/>
            </a:xfrm>
          </p:grpSpPr>
          <p:sp>
            <p:nvSpPr>
              <p:cNvPr id="129" name=""/>
              <p:cNvSpPr/>
              <p:nvPr/>
            </p:nvSpPr>
            <p:spPr>
              <a:xfrm>
                <a:off x="3016080" y="5810040"/>
                <a:ext cx="70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 Black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84200" y="58906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 Black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9:37:21Z</dcterms:created>
  <dc:creator>clm</dc:creator>
  <dc:description/>
  <dc:language>en-US</dc:language>
  <cp:lastModifiedBy>dii</cp:lastModifiedBy>
  <dcterms:modified xsi:type="dcterms:W3CDTF">2008-05-30T15:11:02Z</dcterms:modified>
  <cp:revision>4</cp:revision>
  <dc:subject/>
  <dc:title>Sin título de diapositiva</dc:title>
</cp:coreProperties>
</file>