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4938713" cy="7181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880" y="389556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76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748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644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888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748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644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88880" y="141300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88880" y="141300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76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880" y="389556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76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748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6440" y="141300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888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748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6440" y="3895560"/>
            <a:ext cx="28746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760" y="389556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411840"/>
            <a:ext cx="8994600" cy="830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760" y="1413000"/>
            <a:ext cx="435672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880" y="3895560"/>
            <a:ext cx="8928000" cy="226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739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88880" y="141300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28720" indent="-24768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4768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20560" y="1828800"/>
            <a:ext cx="6519960" cy="2209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0" algn="ctr"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algn="ctr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81040" algn="ctr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74960" algn="ctr"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7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7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20560" y="1828800"/>
            <a:ext cx="6519960" cy="2209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jemplo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écnicas de Muestre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94600" cy="45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ntes de S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4520" y="1052640"/>
            <a:ext cx="9361440" cy="540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poblaciones objetivo y de estudio </a:t>
            </a:r>
            <a:r>
              <a:rPr b="0" lang="es-ES" sz="2600" spc="-1" strike="noStrike">
                <a:solidFill>
                  <a:srgbClr val="0066ff"/>
                </a:solidFill>
                <a:latin typeface="Arial"/>
              </a:rPr>
              <a:t>pueden diferi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en cuanto a las variables que estudia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nivel económico en la población de estudio es mayor que en la objetivo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individuos que se eligen en la calle pueden ser de mayor edad (mayor frecuencia de jubilados p.ej.)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, diremos que las muestras que se elijan estarán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sesg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Al tipo de sesgo debido a diferencias sistemáticas entre población objetivo y población de estudio se denomina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sesgo de sele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ay otras fuentes de error/s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Arial"/>
              </a:rPr>
              <a:t>No respues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encuestas embaraz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umo de drogas, violencia doméstica, prácticas poco éticas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Arial"/>
              </a:rPr>
              <a:t>Ment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las preguntas “delicad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ara evitar este tipo de sesgo se utilizan la técnica de </a:t>
            </a:r>
            <a:r>
              <a:rPr b="0" i="1" lang="es-ES" sz="2600" spc="-1" strike="noStrike">
                <a:solidFill>
                  <a:srgbClr val="ff0000"/>
                </a:solidFill>
                <a:latin typeface="Arial"/>
              </a:rPr>
              <a:t>respuesta aleatorizad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94600" cy="37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écnicas de respuesta aleator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5440" y="1052640"/>
            <a:ext cx="9145800" cy="540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Reducen la motivación para menti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 no responder) a las encues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Si digo la verdad, se me verá el plumero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¿Cómo se hac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ídele que lance una moneda antes de responder y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sale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c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diga la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“opción compremetid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 tiene por qué avergonzarse, la culpa es de la moned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sale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cru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diga la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ver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 tiene por qué avergonzarse, el encuestador no sabe si ha salido cara o cru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nque no podamos saber cuál es la verdad en cada individuo, podemos hacernos una idea porcentual sobre la población, viendo en cuánto se alejan las respuestas del 5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739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¿Ha tomado drogas algun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5800" y="2000160"/>
            <a:ext cx="2849760" cy="178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29240" y="1268280"/>
            <a:ext cx="2448000" cy="2325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76520" y="1197000"/>
            <a:ext cx="1440000" cy="431640"/>
          </a:xfrm>
          <a:prstGeom prst="wedgeRectCallout">
            <a:avLst>
              <a:gd name="adj1" fmla="val -74916"/>
              <a:gd name="adj2" fmla="val 107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%   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60400">
            <a:off x="6465600" y="1773360"/>
            <a:ext cx="5745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61240" y="1125360"/>
            <a:ext cx="1873440" cy="432000"/>
          </a:xfrm>
          <a:prstGeom prst="wedgeRectCallout">
            <a:avLst>
              <a:gd name="adj1" fmla="val -60083"/>
              <a:gd name="adj2" fmla="val 115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inceros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4520" y="4365720"/>
            <a:ext cx="1439640" cy="649080"/>
          </a:xfrm>
          <a:prstGeom prst="wedgeRectCallout">
            <a:avLst>
              <a:gd name="adj1" fmla="val 23430"/>
              <a:gd name="adj2" fmla="val -124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%   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%   S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0" y="3860640"/>
            <a:ext cx="1776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on respuesa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 aleatoriz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2120" y="1125360"/>
            <a:ext cx="17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in respuesta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 aleatoriz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0320" y="5157720"/>
            <a:ext cx="57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¡No son mitad y mitad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porcentaje estimado de individu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 tomó drogas 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48520" y="5013360"/>
                <a:ext cx="3450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≈</m:t>
                    </m:r>
                    <m:f>
                      <m:num>
                        <m:r>
                          <m:t xml:space="preserve">0,6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969240" y="5446800"/>
            <a:ext cx="1150920" cy="503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97600" y="4941720"/>
            <a:ext cx="1150920" cy="503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321600" y="5769000"/>
            <a:ext cx="863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4320" y="609300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que deben decir la ver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0120" y="4143240"/>
            <a:ext cx="57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erencia entre los que han dicho sí y los que debían hacerl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que así lo indicaba la mone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7112160" y="468936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28:59Z</dcterms:created>
  <dc:creator/>
  <dc:description/>
  <cp:keywords>Técnicas de muestreo</cp:keywords>
  <dc:language>en-US</dc:language>
  <cp:lastModifiedBy>Zuñiga</cp:lastModifiedBy>
  <dcterms:modified xsi:type="dcterms:W3CDTF">2008-03-30T20:02:08Z</dcterms:modified>
  <cp:revision>314</cp:revision>
  <dc:subject/>
  <dc:title>Muestreo</dc:title>
</cp:coreProperties>
</file>