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D065D-034B-459A-B049-25A178AB9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DFD73-788B-478D-96D0-9E581CFEE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E6C1F-2CE7-4B6B-B0F2-FCE701EC2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029B1-B489-4448-83B6-1A10944D9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51718-67E0-4F83-92C9-2E326F74D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3630E-1700-4A08-8613-AACEF0705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EA3BC-7300-4E79-8887-998EA354C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26942-2F04-40DF-8C8F-6ABB83B06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752A4-5974-491A-B6DB-0DE9247A9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0F076-8EB3-4435-93A8-197E16802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229EA-198A-4ADA-BD4D-FD0A536FB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74D7C-81FE-4D22-89FF-577C49DE1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2371741-A4E9-49DE-81C6-30499BCD561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Costos y Decisiones de Operación</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Michael Jorrat De Luis</cp:lastModifiedBy>
  <cp:lastPrinted>1999-04-29T23:00:25Z</cp:lastPrinted>
  <dcterms:modified xsi:type="dcterms:W3CDTF">2005-04-29T13:01:39Z</dcterms:modified>
  <cp:revision>11</cp:revision>
  <dc:subject/>
  <dc:title>2. Costos y Decisiones de Operación</dc:title>
</cp:coreProperties>
</file>