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F41B-A51D-4EC8-821A-2FF6BB862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4F62-9B7F-44C7-A60D-6E9DAA843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6660-EDFE-471E-94FC-D120F3479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B952-B784-4053-9B35-46C7257BD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62695-01C4-48AF-A9FD-CA9B3B8FB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3D1BF-81C1-42AE-9538-DB1E6F180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5140A-DA2E-45D8-BD98-04A9D3A62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F9CF6-0747-443C-B83D-538DF614B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14129-1569-4519-8019-953810564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425F0-16E7-4342-9086-B1D49A934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5C78F-8CC8-439B-87A1-D8A5B2133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902E-E0F0-4AD9-B595-73C8BE6C2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29AC5-4A35-4BC8-AA97-C52013F7E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A8910-2F39-4C28-9EA9-9A6A6CED3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E6F68-2960-407F-92C8-7D878D2FA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1BF38-DBF8-4261-8DB3-B795D74AF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2D269-4A18-4A25-8B59-E404ED707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B7E2-BAB4-41F8-A294-D8039A757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E78E-4307-4628-ADEE-D28C7F1BA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A63C-D07D-4753-96B8-3A5FBA983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FE34-2720-4A1A-9351-1E2748AA3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33FB-461C-4DF7-A298-D4C59EA14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0317-8CED-46F1-A3B9-43D43035B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6BE9-7BA8-4A2A-A1ED-60DB6C024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70879-7F32-44BA-8F35-05E914977A4C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47D5A-225D-4597-ADEB-34A2F22DDD3F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álisis Financie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análisis de los valores que muestran los estados financieros es de interés par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ministración: en qué medida se están cumpliendo los objetivos traz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entes Extern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nc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luar la capacidad de pa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ionistas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tabilidad versus ries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reedores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acidad de pa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Liquidez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ación de Liquidez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 circula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sivos circula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de la capacidad de la empresa para pagar sus deu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corto plaz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st Acido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. circulante -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sivo circula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más exigente que el anter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Endeudamiento o solvenci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iten evaluar la importancia de la deuda como proporción de los recursos totales empleados por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proporción de financiamiento se conoce también como “apalancamiento financiero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Endeudamien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zón de Endeudamiento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 To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To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zón Deuda/Patrimonio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 To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bertura de Interes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sultado Operac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Rentabilida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ntabilidad sobre el patrimonio (ROI) y la rentabilidad sobre activos definidas anteriorm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uando hay impuesto a la renta, la definición más correcta de la rentabilidad sobre activos es la siguien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a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Utilidad del Ej. + Intereses x (1-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Rentabilida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30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tabilidad Operacional sobre Activos (RO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A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sultado Operac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A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sultado Operacion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x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 Ventas       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583640" y="5638680"/>
            <a:ext cx="284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Margen de Oper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408640" y="5638680"/>
            <a:ext cx="31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Rotación de los Ac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2286000" y="4647960"/>
            <a:ext cx="685800" cy="990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 flipV="1">
            <a:off x="6781320" y="4571640"/>
            <a:ext cx="381240" cy="1143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Actividad: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tación de existencias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sto de 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vec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úmero de veces que se renueva el inventario en un ejerc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 en días =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Existencias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día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s/3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° de días que habrá existencias sin necesidad de producir o comp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otación ctas por cobrar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Ingresos por vent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ta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eríodo de cobro =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    Ctas por cobrar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gresos por venta/3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úmero de días que las ventas permanecen como cuenta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otación de los Activos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     Ventas      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aciones del uso de razones financier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5120" indent="-1951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ólo usa información con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5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5120" indent="-1951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iempre los valores contables reflejan valores de mercado. Es bueno complementar el análisis con información com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85920" indent="282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% de cuentas por cobrar que es recuper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85920" indent="282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ál es el estado de las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85920" indent="282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ál es el valor de mercado de los 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85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5120" indent="-1951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za datos históricos. Es bueno complementarlo con información que permita proyect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52280" y="1098720"/>
            <a:ext cx="8839440" cy="55306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88000" y="22860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Ejempl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820872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4000"/>
            </a:br>
            <a:br>
              <a:rPr sz="4000"/>
            </a:b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11. Análisis Financie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304920" y="1192320"/>
            <a:ext cx="845820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28600" y="650880"/>
            <a:ext cx="8691480" cy="58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izar los estados financieros de una empresa consiste en examinarlos desde el punto de vista de su situación económica y financie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ituación Económic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apacidad o grado de eficiencia para producir utilid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ituación Financier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apacidad de la empresa para pagar sus deud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eptos Prelimina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474560"/>
            <a:ext cx="8610480" cy="50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iciones de Rentabil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entiende por rentabilidad la ganancias que produce un activo en relación al monto inverti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rentabilidad sobre el patrimonio mide las ganancias que reciben los dueños del patrimonio de la empresa en relación a su propia inversión, es deci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Utilidad del Ejerci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04920" y="836640"/>
            <a:ext cx="8610480" cy="568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finiciones de Rentabil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Rentabilidad sobre Activos, en cambio, mide las gana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que reciben todos los que tienen intereses en la empre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(pasivo y patrimonio) en relación a los montos invertido, 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ci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a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Utilidad del Ejercicio + Intere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rentabilidad del patrimonio está influenciada por la política de financiamiento de la empre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rentabilidad de los activos es una medida de eficiencia, y es independiente de cómo se financian los activ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ando una empresa se endeuda aumenta la rentabilidad esperada de los accionistas, pero también aumenta el riesg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66840" y="549360"/>
            <a:ext cx="838188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lación entre la Deuda, Riesgo y Rentabil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zones o Indices Financie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análisis financiero consiste en la comparación de índice o razones calculadas a partir de los estados financie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ongamos que una empresa tiene una rentabilidad de 10%. ¿Es esto bueno o mal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ones de Comparació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tivos o estándares de la empre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olución histó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s de otras empresas del s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Normalmente se consideran las siguientes familias 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Ratios o razones financier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iquide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ndeud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Rentabil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Activ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Liquidez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iten evaluar la capacidad de la empresa para pagar oportunamente sus obligaciones de corto plaz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n especialmente relevantes para bancos y proveedores que otorgan créditos de corto plaz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Soporte Técnico</dc:creator>
  <dc:description/>
  <dc:language>en-US</dc:language>
  <cp:lastModifiedBy>ivan.alvarez</cp:lastModifiedBy>
  <cp:lastPrinted>1999-03-18T21:04:13Z</cp:lastPrinted>
  <dcterms:modified xsi:type="dcterms:W3CDTF">2006-04-24T12:13:18Z</dcterms:modified>
  <cp:revision>10</cp:revision>
  <dc:subject/>
  <dc:title>Análisis Financiero</dc:title>
</cp:coreProperties>
</file>