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2E5-7CD5-438F-96F7-7F437362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BA6-A212-437B-954F-731E6F43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3A2-4D3B-43BB-95B6-B442B2AE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C2E-4C86-4ACA-8EB0-BF312881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D32-8486-46A3-BE7C-5E33F25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17BB-4E4D-48FB-80F3-09B516B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0C45-DD69-42C5-836C-5262A96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3998-F3B6-44B7-B32C-86DD7BC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A1B-717A-4D0E-B9B6-425D2C59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9149-88CC-4D06-8213-55573BA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5C8-E494-4A29-8ABF-F621F55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98F-DEC1-4209-9862-6AFA5D38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F664-0083-4770-A349-FBF775E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4A47-6A9F-4F90-8B3A-9050868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F43-6548-4AF2-A0B1-88B3A4EE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60EA-2D35-45B7-B793-14162F97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9674-EF7A-4A24-9661-8612B224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620-C9C9-4035-BD68-2C02451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24C-C582-4435-A7DE-F439839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C36-AB90-4EE4-995E-B0D643F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5F5-2086-4E24-A14F-56BA5D9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D41-C6CF-4CA8-A28D-BC88367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192-E943-49D6-AF3E-2E3499E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D7B-7AC1-486B-AD72-C947D0A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B81-2926-4E56-8832-FEB5AEFA30E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E70-4135-405B-A3DA-74C2F41F3E8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35280" y="2421000"/>
            <a:ext cx="5759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Impuestos y Soc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Toshiba</cp:lastModifiedBy>
  <dcterms:modified xsi:type="dcterms:W3CDTF">2008-04-29T15:35:47Z</dcterms:modified>
  <cp:revision>11</cp:revision>
  <dc:subject/>
  <dc:title>Diapositiva 1</dc:title>
</cp:coreProperties>
</file>