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709-5CCB-49AC-9896-8204A342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0D12-E80A-4692-9D84-FA7C2898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EF2A-62B4-4CEA-9737-A2F808D2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87B-079B-49EA-B181-31554005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F0B0-7E3F-45CA-A805-89E4B836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24CA-9560-4D05-BBAE-77105977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DE50-7B0E-41EE-850D-264B193A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8E9E-744E-4BA7-A753-621A69F7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6A09-D4F5-4D49-BC94-861DA063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1E43-1E40-489A-B309-1478C89F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7DDE-7BA1-4B44-BD1B-98A8C27C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B8B-A83D-4084-8B56-1A8C63A2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D59C-C328-479C-9F02-D98C57B9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C79A-40EB-4993-80D6-DAEC2698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C841-85A5-4451-8157-07B0CAB6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04E0-B147-4F77-9BE5-80B5F928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6962-E13B-4976-8000-2B5B2143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6C31-D62F-460C-9179-4F1DB0FC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EF0-216C-45A7-A896-A9F927B6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901-2C57-4BEB-AB15-6D718E95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527-0D94-41FE-A03B-4329B012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B97-5B23-4810-9855-B19C63D2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87CA-D251-461B-B4C2-8F87CFC5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5815-BE65-4D61-BAD3-98044567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AC72-F615-4691-8A16-67028DFD571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0DC9-43AC-4949-95C3-B673582E4DA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835280" y="2421000"/>
            <a:ext cx="57592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uxiliar Impuestos y Socie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46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189000"/>
            <a:ext cx="1979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08000" y="476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Organización Empresa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700280"/>
            <a:ext cx="828036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ERSONA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MPRESARIO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MPRESA UNIPERSONAL DE RESPONSABILIDAD LIM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SOCIE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COOPE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Responsabilidad Ltda. v/s  Anónim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Importa la pers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Decisiones por unanimidad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Venta derechos acuerdo s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Socios pueden administr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Forma de distribución de utilidades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Responsabilidad limitada a los apor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No mas de 50 s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292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apital dividido en acciones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Socios responden por aportes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Administradas por Directorio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eden libremente acciones   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Decisiones por may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341360"/>
            <a:ext cx="4032360" cy="46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3280" y="1341360"/>
            <a:ext cx="4032360" cy="46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404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rcic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Para proteger el patrimonio personal conviene hacer una Sociedad Anónima, en vez de una Sociedad Limita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206064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 ventaja de armar una sociedad, es que a través de ella una persona puede acotar la exposición financiera. Esto quiere decir que si crea una sociedad, lo que puede llegar a perder es exactamente el monto que estuvo dispuesto a invertir en la sociedad (lo que se llama “Aporte de Capital”), dejando blindado su patrimonio personal. Esto se comporta de igual manera en una sociedad anónima que es una limi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260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rcic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En esta empresa mando yo”, dijo el dueño del 51% de “JPF Ltd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77336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 una sociedad limitada, en todo lo que respecta los estatutos de la sociedad, las decisiones deben ser tomadas por el 100% de los socios. Por ejemplo, aumento de capital, venta de derechos, designación de administración, entre o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4046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ncepto: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erencia entre contribuciones y ta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19700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mbos son mecanismos de recaudación por parte del Estado.  El primero, con el fin de beneficiar una zona específica, por ejemplo Contribuciones a los bienes raíces y en el segundo el Estado entrega un servicio a cambio, por ejemplo el pago que realizó al momento de solicitar un certificado de na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4365720"/>
            <a:ext cx="3961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tribuciones: Se cobran para beneficiar, de algún modo a quienes pagan este grava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jemplo: Impuesto a la Benc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3280" y="4341960"/>
            <a:ext cx="3959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sas: Se pagan al momento de utilizar un servicio públ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jemplo: Certificado de Na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0:56:31Z</dcterms:created>
  <dc:creator>Breaker</dc:creator>
  <dc:description/>
  <dc:language>en-US</dc:language>
  <cp:lastModifiedBy>Toshiba</cp:lastModifiedBy>
  <dcterms:modified xsi:type="dcterms:W3CDTF">2008-04-29T15:35:47Z</dcterms:modified>
  <cp:revision>11</cp:revision>
  <dc:subject/>
  <dc:title>Diapositiva 1</dc:title>
</cp:coreProperties>
</file>