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EA1C090-64E4-4410-969D-C071C00C3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9648771-BF94-43F7-9F02-734BE5E62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435C8B1-7CC3-40AF-BCAC-40166F87E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EDADAB2-1339-473F-AF32-01DB08BF2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0E600-9457-4C62-92D8-AF526CA77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6E67F-0994-4EB3-9163-2C9D1BC0C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20400-B219-4506-9583-CE19C0DFE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C4369-BCC0-41F8-87DD-A3987A341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F8DD2-953B-455E-9EB3-C44FD7E8F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D2A63-F92D-4338-856E-383856FFB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81E3F-11E6-41EB-96B0-CF63FD998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66520D-70E0-400A-832C-AA5C6B483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3A44E-1E59-4EE5-957A-A15F9DD85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E1988-95DB-4C12-9D7C-61811BDF2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66A22-6005-40F4-9C76-D2295799F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74DEE-64FB-46F8-844D-99942087D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A48DF-C221-4BBC-9369-6719644057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A5E73C-9513-4F96-B7A4-F4F8FE046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88A271-58BF-4050-A7EF-057553FE4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3C7704-B756-4C50-A33D-8C17E69A1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0E0A387-49C2-407E-ACF0-6C32FB1A5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BED75E-3514-4DDD-9558-AD7A34937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2B65BA-1F52-4672-8D07-BB65B619E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030578-6467-46C6-A9A9-E3C056062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1C25-820B-45AA-A1DD-414CAF661565}"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DD2F-619B-4C5E-A8EF-1D9B3E88C213}"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07</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0"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1"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2"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33"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34"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35"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36"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37"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38"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39" name="13 Conector recto de flecha"/>
          <p:cNvCxnSpPr>
            <a:stCxn id="130" idx="3"/>
            <a:endCxn id="131"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0" name="16 Conector recto de flecha"/>
          <p:cNvCxnSpPr>
            <a:stCxn id="131" idx="3"/>
            <a:endCxn id="132"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1" name="19 Conector recto de flecha"/>
          <p:cNvCxnSpPr>
            <a:stCxn id="131" idx="3"/>
            <a:endCxn id="133"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2" name="21 Conector recto de flecha"/>
          <p:cNvCxnSpPr>
            <a:stCxn id="131" idx="3"/>
            <a:endCxn id="134"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43" name="23 Conector recto de flecha"/>
          <p:cNvCxnSpPr>
            <a:stCxn id="133" idx="3"/>
            <a:endCxn id="135"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44" name="25 Conector recto de flecha"/>
          <p:cNvCxnSpPr>
            <a:stCxn id="133" idx="3"/>
            <a:endCxn id="136"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45" name="27 Conector recto de flecha"/>
          <p:cNvCxnSpPr>
            <a:stCxn id="134" idx="3"/>
            <a:endCxn id="137"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46" name="29 Conector recto de flecha"/>
          <p:cNvCxnSpPr>
            <a:stCxn id="134" idx="3"/>
            <a:endCxn id="138" idx="1"/>
          </p:cNvCxnSpPr>
          <p:nvPr/>
        </p:nvCxnSpPr>
        <p:spPr>
          <a:xfrm>
            <a:off x="6289200" y="3462120"/>
            <a:ext cx="367560" cy="433800"/>
          </a:xfrm>
          <a:prstGeom prst="straightConnector1">
            <a:avLst/>
          </a:prstGeom>
          <a:ln w="9360">
            <a:solidFill>
              <a:srgbClr val="0098cc"/>
            </a:solidFill>
            <a:miter/>
            <a:tailEnd len="med" type="arrow" w="med"/>
          </a:ln>
        </p:spPr>
      </p:cxnSp>
      <p:sp>
        <p:nvSpPr>
          <p:cNvPr id="147"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48"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49" name="33 Conector recto de flecha"/>
          <p:cNvCxnSpPr>
            <a:stCxn id="130" idx="3"/>
            <a:endCxn id="147"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0" name="35 Conector recto de flecha"/>
          <p:cNvCxnSpPr>
            <a:stCxn id="147" idx="3"/>
            <a:endCxn id="148" idx="1"/>
          </p:cNvCxnSpPr>
          <p:nvPr/>
        </p:nvCxnSpPr>
        <p:spPr>
          <a:xfrm>
            <a:off x="3987720" y="4168440"/>
            <a:ext cx="527760" cy="5400"/>
          </a:xfrm>
          <a:prstGeom prst="straightConnector1">
            <a:avLst/>
          </a:prstGeom>
          <a:ln w="9360">
            <a:solidFill>
              <a:srgbClr val="0098cc"/>
            </a:solidFill>
            <a:miter/>
            <a:tailEnd len="med" type="arrow" w="med"/>
          </a:ln>
        </p:spPr>
      </p:cxnSp>
      <p:sp>
        <p:nvSpPr>
          <p:cNvPr id="151"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2"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53"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54"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55" name="41 Conector recto de flecha"/>
          <p:cNvCxnSpPr>
            <a:stCxn id="130" idx="3"/>
            <a:endCxn id="151"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56" name="43 Conector recto de flecha"/>
          <p:cNvCxnSpPr>
            <a:stCxn id="151" idx="3"/>
            <a:endCxn id="154"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57" name="45 Conector recto de flecha"/>
          <p:cNvCxnSpPr>
            <a:stCxn id="151" idx="3"/>
            <a:endCxn id="153"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58" name="47 Conector recto de flecha"/>
          <p:cNvCxnSpPr>
            <a:stCxn id="151" idx="3"/>
            <a:endCxn id="152"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DEL PROGRAMA</a:t>
            </a:r>
            <a:endParaRPr b="1" lang="en-US" sz="40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2"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06"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08-04-09T17:46:16Z</dcterms:modified>
  <cp:revision>35</cp:revision>
  <dc:subject/>
  <dc:title>Diapositiva 1</dc:title>
</cp:coreProperties>
</file>