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4A1B-39ED-4D49-92BF-9B574ECB7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4E2F-F856-420A-B816-55616DE7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BBDC-5B19-406E-B24E-2840C9F63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2810-11E3-4C46-90DC-8773FB6F6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3C623-ED99-4A2A-8ED2-68C899562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F5F3-EF84-433D-B303-770CD51B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1DD9-54F6-49D3-92C9-4393B84D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709A-7E4F-4AEC-BC1C-A8C98CDD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45F5-C8BD-4D63-A6E9-BDDC5DCE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C34F-2D5B-4CBE-853B-4EAECD58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9155-79F7-4E28-8366-B76700CA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24A5-A8C7-431F-B492-7F98F473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B741-BF54-476B-8DDC-751B84CB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BEF8-DB3B-46D8-BA2F-B93EC8B2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12B9-136A-4DC7-945A-3BC274F9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240F-A091-43A8-B166-6FB9CF7CA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0737-B5ED-44BB-AF97-8DDE2EE64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6F3A-26F6-417F-AFC4-30EFE681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F8A2-0392-408A-BBA7-8D7D2725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F192-86EA-4F20-BEDC-4A783E89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0BC5-5A6C-4F21-8E83-7AD3B691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AF7F-F6EA-4EB0-B8BE-89717C45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B48F-017B-45B6-A938-B5E6F8A5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EFFC-CD26-411F-B3FD-9C50205B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CA83-6D0A-4859-9FD1-97E5FDC5C8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4541-B05D-4FD1-B925-7496E48D9C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3301560"/>
            <a:ext cx="7772400" cy="27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6: Patrimo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2</a:t>
            </a:r>
            <a:r>
              <a:rPr b="0" i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638360"/>
            <a:ext cx="8915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cide pagar dividendos de $1.5 por acción a un accionista mayoritario que posee el 40% del capital (200.000) con acciones suscritas y pagadas. El pago se efectúa con $1 en efectivo y $0.5 en acciones en cartera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.0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3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7760" y="1523880"/>
            <a:ext cx="906624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n 500.000 acciones de pagos a un valor libro de $1.2 por acción. Se colocan obteniendo $650.000. El costo de la Operación de Colocación es de $15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3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 Financie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bre Precio Vta. Acciones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151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9066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Juan Pérez y Oscar González crean un sociedad Ltda., cada uno se compromete a aportar $1.000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aporte por Enterar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aporte por Enterar (A) 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762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ES ANONIM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istingue entre capital Autorizado, Suscrito y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rizado: Aquel que figura en el estatuto y que se estima suficiente para el desenvolvimiento de la soci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scrito: Parte del capital autorizado que los accionistas se comprometen a apor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do: Monto de las suscripciones efectivamente paga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475920"/>
            <a:ext cx="8762760" cy="592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constituye una  S.A. por un capital de MM$ 10, el que se divide en 100.000 acciones a $100 c/a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icialm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68536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los accionistas suscriben 80.000 accion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se pagan las acciones suscrit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MM$ 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 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134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2 Distribución de Utilidad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 : Cada miembro tiene una cuenta particular, que se carga con los retiros a cuenta de la utilidad del ejercicio y se abona con las utilidades distribui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jempl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l Sr. Pérez retira $10.000 a cuenta de la Utilidad del Ejerc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 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52280" y="875880"/>
            <a:ext cx="8839440" cy="500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al final del Ejercicio se tienen utilidades $300.000 y se decide capitalizar el 50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(Patrimoni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1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la Cuenta Particular tiene saldo deudor, representa un activo de la empresa. En caso contrario, refleja un pasiv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609480"/>
            <a:ext cx="813420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ociedades Anónima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revalorización de ca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breprecio en venta de ac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mayor valor retasación técnica Activo Fi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Reten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futuros dividen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dida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(Pérdida) del Ejerc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rovisorios (men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1</a:t>
            </a:r>
            <a:r>
              <a:rPr b="0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9172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gistro de acuerdo a la junta de accionistas en virtud del cual, con cargo a las utilidades del ejercicio de $90.000 se distribuirán dividendos por $40.000, capitalizándose el re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videndos por Pagar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Acumulada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6T18:48:24Z</dcterms:created>
  <dc:creator>Michael Jorratt</dc:creator>
  <dc:description/>
  <dc:language>en-US</dc:language>
  <cp:lastModifiedBy>IVAN ALVAREZ VALDES</cp:lastModifiedBy>
  <cp:lastPrinted>1999-03-18T21:00:01Z</cp:lastPrinted>
  <dcterms:modified xsi:type="dcterms:W3CDTF">2006-04-17T03:19:12Z</dcterms:modified>
  <cp:revision>11</cp:revision>
  <dc:subject/>
  <dc:title>Patrimonio CONTABILIDAD Y CONTROL DE GESTION</dc:title>
</cp:coreProperties>
</file>