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542C-4A4B-4D7E-A913-A1C048F9A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D46E-CF7E-4F97-9856-8B7AC336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439D-700F-4ED1-A55A-16A17028D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F702-20B0-4416-936E-FF432AC38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1EC5-9B46-4B1A-BE5F-111441A5A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2E20-F398-408E-9153-36E26AF1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58DB-CDAC-41C9-926F-B5898D01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6F88-A45D-4C70-AD57-37224EC7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86C9-7E19-440E-84AF-897D962D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8126-F10E-416C-9882-5CA649D2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6182-593E-4C76-B490-DA53E9E5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B446-47EF-4C8E-AF00-658E784F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FE46-7EFB-46C0-B92D-FFF60C9F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113E-E48C-45C4-97AE-5125EECC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BD45-A72F-47CC-A268-D3005945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B8E3-35B7-4681-93E1-C32D999EF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4E8C-4F89-4C1B-8BA0-C24F710DA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1D1A-C4FE-4F72-8C0B-E6EC4E9B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E9F8-3483-4EC6-AA2D-774118C3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B06A-7D0E-45C9-9BE9-8A27C2FD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05FA-1FE0-4573-A321-AE4901BA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C374-2965-4166-9BA0-8408913E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3493-D912-4383-BBAD-29823D32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B2A1-4E35-46F1-A79F-B97D34FC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EE82-FA88-4825-B5AA-DBEC99874CE2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BF6A-EF6D-4234-B2B9-1B4866CEDCCB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344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ítulo 5: Pas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mpra una camioneta vía leasing. El contrato establece 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6 cuotas iguales de m$ 1.000, las que incluyen 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mensual del 1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.01) 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= 6.000 - 5.795,5 =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gistr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 primer m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676520"/>
            <a:ext cx="86421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Qué parte de la cuota mensual corresponde a interés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nto a capit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 por amortizar   Interé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4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7,9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2,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853,4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48,5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1,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901,9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39,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,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940,9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9,4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70,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970,4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9,7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0,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990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9,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9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0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7627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Tribu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cuota del leasing es un gasto. Sólo se registra como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última cuota (opción), la cual se depre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ota contrato de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gast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5589720"/>
            <a:ext cx="7920000" cy="45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ventaja fundamental del leasing es tributa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, Documentos por pagar y 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dela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5993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Monto que se pagará al tenedor del bo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asa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asa de interés que se devengar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P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ital no amortizado más intereses devengados y no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merc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ecio al que se transa el bono (en función de la tasa de interés de mercad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up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ago parcial del bono, que puede incluir amortización del capital y/o intere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6,5%. Anualmente se amortizará la quinta parte del valor de emisión y se pagarán los intereses devengados.  Como la tasa de interés de mercado es de 7,2%, el bono se transó en MM$ 687,46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82,4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12,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er cupón (pago de capital e interese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13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7,5%. Anualmente se amortizará la quinta parte del valor de emisión y se pagarán los intereses devengados. Como la tasa de interés de mercado era de 6,8%, el bono se transó en MM$ 712,65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7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2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7627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contrato de arrendamiento con opción de comp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solicita a otra (la empresa de leasing) que adquiera un determinado bien para dárselo simultáneamente en arrenda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contrato establece el pago de una cuota de arrendamiento por un cierto lap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final de ese lapso el arrendatario tiene 3 op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olver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guir arrendánd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r la opción y quedarse con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9807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Financie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Leasing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Diferid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de las cuotas de arren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atoria de las cuo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que generará el contrato durante su vigencia, 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r (2) -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1:18:56Z</dcterms:created>
  <dc:creator>Michael Jorratt</dc:creator>
  <dc:description/>
  <dc:language>en-US</dc:language>
  <cp:lastModifiedBy>IVAN ALVAREZ VALDES</cp:lastModifiedBy>
  <cp:lastPrinted>1999-03-18T20:56:04Z</cp:lastPrinted>
  <dcterms:modified xsi:type="dcterms:W3CDTF">2006-04-10T04:49:51Z</dcterms:modified>
  <cp:revision>12</cp:revision>
  <dc:subject/>
  <dc:title>Primera Parte: Contabilidad Financiera</dc:title>
</cp:coreProperties>
</file>