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8B5E-8075-4742-A615-01DF3871C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8F2A-7A64-4635-9452-1E444650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3AFD-A1C9-4838-B947-9222151B6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E687-C237-4441-AFAF-B3DFC198A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F305-E971-460F-BCFA-6624A26DA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18703-07BB-4DFA-A410-B0A76AE3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C6EE-43FC-4B1F-A5C3-0EBF32DC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BABD-9339-4C1A-8C29-17B0F3C5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ED54-C119-47CF-96BB-AD33196D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9CBB-E032-4F36-A047-07F327E2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D3A2-9B75-479A-855C-2750CE41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2FBF-985C-4F8E-8698-C5943B8B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F297-8CF5-4A9E-B860-2D5422B9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D2EE9-7EFF-4025-A1FF-0CF7222F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5284-A328-4908-AB2B-F425DF81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0B18E-A2B2-4F30-959E-BB7F809F9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9D51-B701-4A71-A796-75E06E8D1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F607-6AD3-43FA-9759-B79BDE3C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C7BE-490B-42B2-8EA0-9BDE5753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22B5-1234-4CFA-A624-DB18608C2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AF49-7F9E-4E1E-A1C5-B076865C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AA16-F001-46FD-9DA6-4B3F4C71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CA43-3582-47D5-8BDB-66A6D204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EF7B-3F00-4B84-B610-662BEC1A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C08A-9533-4CCA-A673-89D265982CDD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0DF9-35E1-4B94-AA0B-05CFE485EACA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4880"/>
            <a:ext cx="8229600" cy="33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4: Ac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uenta Complementaria del Activo (CA): Cuenta que se comporta como un pasivo pero que se presenta en el balance general como un activo negativo, rebajando al activo que complem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22240" y="3962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4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(2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 (neto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upóngase que se logran recuperar $1.000 de la deuda previamente castig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27432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gresos fuera de la explotación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360" y="470052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s normas tributarias permiten rebajar como gasto los castigos, pero no las provi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99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Existenc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74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IODICO : Se cierra el negocio cada cierto tiempo, se cuentan las unidades físicas y se valoriz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PETU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La cuenta existencias se mantiene permanentemente al d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1752480"/>
            <a:ext cx="800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 de Inventar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ió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74880" y="2057400"/>
            <a:ext cx="778824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mpras del Períod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cadería 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ntario Final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8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tiliza una cuenta transitori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e se carga con el inventario inicial y las compras (al costo) y se abona con la ventas (a precio de ven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e detectan robos ni mermas de mercader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vender mercadería se reduce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 se aumenta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conoce 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da vez que ocurre una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ere poder asociar cada venta con la mercader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ha realizado las siguientes compras de mercaderí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unidades a $10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8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unidades a $11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el 10.04 vende dos un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uál es el costo de venta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$20, $22, el promedio ponderado, ...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 l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nidades Específic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ro Permanente que permite Identificar cuál es el Costo de Adquisición de Cada Unidad Vend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con volúmenes de venta pequeñ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activos de alto valor unit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0920" y="228600"/>
            <a:ext cx="7846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700280"/>
            <a:ext cx="861048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Promedio Ponder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valor del Inventario se calcula aplicando a cada artículo en existencias el costo de adquisición promedio ponderado, incluyendo el costo de adquisición de las existencias inic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da vez que ocurre una compra se calcula un nuevo promed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*10  +5*11)/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0,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&gt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,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,75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 Método FIFO (o P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 : La mercadería que primero entra al inventario es la que primero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más antiguo, y el inventario queda valorado al costo de adquisición más reci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*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+ 5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0920" y="22824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LIFO (o U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: La mercadería que ingresó al último es la primera que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de adquisición más reciente, y las existencias se valoran al costo más antigu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*11 + 3*10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7360" y="6026040"/>
            <a:ext cx="8064360" cy="8240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BUTARIAMENTE SE ACEPTA FIFO Y CP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de Valoración de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tiene un Inventario Inicial de 300 unidades a $0,95 c/u. El Inventario Final es de 330 un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16000" y="2276640"/>
            <a:ext cx="397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50840" y="2743200"/>
            <a:ext cx="77122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sto ($/u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Costo Total ($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5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1,1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2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16000" y="5029200"/>
            <a:ext cx="67327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4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MEN 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Fin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4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249228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465300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9640" y="3645000"/>
            <a:ext cx="7417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250*1,12+80*1,1 = 36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 = 300*0,95=2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= 1.0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la venta = 285 + 1.015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= 1300 - 368 = 9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300*0,95+30*1,0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venta no varía = 1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 = 1300- 315 = 9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48690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 que al usar LIFO da un costo de venta mayor 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FIF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PP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*0,95+101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1,04 $/un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300+9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IF = 330*1,04 = 343,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para la venta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de Venta = 1300 – 343,2=  956,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1880" y="2498760"/>
            <a:ext cx="3842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28954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38280" y="2590920"/>
            <a:ext cx="0" cy="1218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4567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0,95+200*1= 4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00*1,05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 : Costo Venta = 300*1,05+120*1,1=4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15 +200*1,1-447=8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2000" y="3809880"/>
            <a:ext cx="855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COSTO VTA.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485=3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+200*1,1=5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4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35-447=8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8+250*1,12=36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4191120"/>
            <a:ext cx="8837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2428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1,05+200*1= 5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200*1,1+220*0,95= 4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3352680"/>
            <a:ext cx="82296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COSTO VTA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515=2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85+200*1,1=5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2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5-429=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6+250*1,12=35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4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733920"/>
            <a:ext cx="853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9112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639880"/>
            <a:ext cx="8991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V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C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*0,95+200*1=485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/500 = 0,9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85+300*1,05=8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/800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00-500=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+200*1,1=5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20/500 =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   420*1,04=436,8   520-436,8 = 83,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3,2+250*1,12=363,2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,2/330 = 1,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6.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2971800"/>
            <a:ext cx="8686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8120" y="2743200"/>
            <a:ext cx="0" cy="251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2666880"/>
            <a:ext cx="0" cy="2667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77120" y="2666880"/>
            <a:ext cx="0" cy="2590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475920"/>
            <a:ext cx="82947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IJOS (o de Largo Plaz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Todo bien o derecho obtenido con el propósito de emplearlo en la explotación, representativo de un potencial de servicio utilizable durante un período, que en general trasciende un ejercicio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Físicos (o tangibles)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s, construcciones y obras de ingeniería, maquinarias y equipo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Intangibles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entes, marcas comerciales, derechos de llave, licencias o franquicia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 3 métodos para valorar activ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al Co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nformación objetiva y verific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necesariamente coincide con valor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de Mercado (o de Reemplaz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el Valor Real del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siempre es objetivo, no es único y no todos los activos se transan en el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79246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ís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1676520"/>
            <a:ext cx="8686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ación: A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osto de adquisi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que comprende el precio del activo más los gastos conex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Conexos: Transporte, instalaciones, comisiones, gastos notariale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lgunos activos de bajo valor relativo se registran directamente como gastos (ej: repuestos, materiales de oficina, libros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7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joras y Repar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joras: Cambios Estructurales del activo (ampliación a adición de elementos). So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pitaliz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es decir, incrementan en activo fi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aciones y mantenimiento: Dejan al activo en condiciones normales de funcionamiento. No son  capitalizables, es decir, se consideran u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1752480"/>
            <a:ext cx="9142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320" y="1371600"/>
            <a:ext cx="8991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a propiedad que costó $50.000.000. Una tasación técnica indica lo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 se incurrió en los siguientes gast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norarios del abog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Transferen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notar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Total = mm$50 + mm$0.15 = $50.1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 Cont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58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086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Vent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vende una máquina en $60.000, cuyo valor contable neto es el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10.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ne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6160" y="3956040"/>
            <a:ext cx="8775720" cy="2347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Fuera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Distribución del costo del activo como gasto en los períodos en que presta sus servic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es consecuencia de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terio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u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obsolescenci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no es un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 varios métodos de depreciación. Nosotros estudiaremos tr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acelerada (suma de los dígitos de los años y saldos decrecient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 acelerada (tributari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A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 : Costo de Adquis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: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: 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1640" y="3632040"/>
            <a:ext cx="3937320" cy="187992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-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43600" y="2362320"/>
            <a:ext cx="0" cy="281916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43600" y="5181480"/>
            <a:ext cx="3048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746200" y="531828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4495680"/>
            <a:ext cx="2286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43600" y="2971800"/>
            <a:ext cx="2286000" cy="1523880"/>
          </a:xfrm>
          <a:prstGeom prst="line">
            <a:avLst/>
          </a:prstGeom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46880" y="27288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17920" y="425304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985160" y="5318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29600" y="44956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99160" y="196704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étodo de la Suma de los Dígitos de los Añ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00280" y="1333440"/>
            <a:ext cx="7467480" cy="19051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t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n -t + 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(P - V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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708800" y="2803680"/>
            <a:ext cx="59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=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14600" y="380988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12960" y="41004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307560" y="585324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6040" y="2438640"/>
            <a:ext cx="426708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89280" y="341316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23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étodo de los saldos decreci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 = Tasa anual de depreci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 = años de vida ú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VR =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A = Depreciación acumul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42920" y="3645000"/>
            <a:ext cx="6384960" cy="18795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(P –DA)*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saldo no depreciado - 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 Aceler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ste en depreciar el activo linealmente, considerando una vida útil igual a [1/3] de la vida útil norm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método aceptado por el SI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ne como objetivo incentivar la inversión en activo fijo, a través de la postergación del impuesto a la r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54380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: Valor del activo es función de los flujos fut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una buena estimación del precio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Se debe estimar flujos futuros, tasa de descuento y período de madurez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414360" y="2590920"/>
          <a:ext cx="857736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2590920"/>
                    <a:ext cx="8577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1203480" y="1203480"/>
            <a:ext cx="61610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5280" y="1125360"/>
            <a:ext cx="8153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un AF por $100.000, vida útil 5 años y Vr =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3400" y="1766880"/>
            <a:ext cx="2941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642960" y="2590920"/>
          <a:ext cx="8312040" cy="33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2590920"/>
                    <a:ext cx="8312040" cy="33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756000" y="1484280"/>
            <a:ext cx="747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uma de los dígitos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641520" y="2589120"/>
          <a:ext cx="8288280" cy="395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2589120"/>
                    <a:ext cx="828828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1285560" y="1538280"/>
            <a:ext cx="6482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aldos decreciente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45760" y="328680"/>
            <a:ext cx="8140680" cy="61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887480" y="2347920"/>
            <a:ext cx="210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´= [5/3] =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0440" y="3238560"/>
            <a:ext cx="8913960" cy="23623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.Acumula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.F.N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33520" y="1386000"/>
            <a:ext cx="5115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 Acelera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99640" y="404640"/>
            <a:ext cx="75438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7960" y="2489040"/>
            <a:ext cx="8508960" cy="248940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3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4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3911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 LINEAL ACELE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84280" y="3098880"/>
            <a:ext cx="7899480" cy="27939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ctivos no físicos que presentan un potencial de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registran contablemente sólo cuando son adquiridos de terceros (al costo de adquisició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mortiz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Proceso a través del cual el valor de adquisición del intangible se convierte parcial y periódicamente en gas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étodo: Línea recta con VR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ida Util: Mín {Plazo del Contrato; Plazo estimado razonab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ten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ncesión del gobierno en favor de un inventor, mediante la cual le otorga el derecho exclusivo para producir y explotar su inv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rcas Comerc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ara el uso exclusivo de identificaciones distintivas de un producto o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recho de lla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xceso de costo de un activo o empresa por sobre el valor comercial de las partes que lo compon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icencia o franqui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or una firma para la comercialización de un producto bajo condiciones específ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un instrumento constitutivo de una obligación y emitido por un banco, empresa, o institución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Bonos, Depósitos a Plazo, Pagarés, accione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corto plazo: Su objetivo es obtener rentabilidad de los excedentes de ca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largo plazo: Inversiones permanentes en otras socie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37160" y="2727360"/>
            <a:ext cx="226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E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514600" y="1676520"/>
            <a:ext cx="1447920" cy="137160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14600" y="3048120"/>
            <a:ext cx="1523880" cy="152388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96440" y="1355760"/>
            <a:ext cx="4848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to Plazo (Activo Circulante)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ispon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epósitos a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Valores Negociables (accion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ectos de comercio, bonos, et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53040" y="4251240"/>
            <a:ext cx="4673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rgo Plazo (Otros Activo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Empresas Relacion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Otras Socie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 Valor Pres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hoy se depositan $100 al 10%, en el próximo período se tendrán $1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5920" y="409896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0360" y="263700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37339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324480" y="327672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37339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11880" y="4481640"/>
            <a:ext cx="212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 =  110/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5960" y="5187960"/>
            <a:ext cx="7378560" cy="12826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CTUALIZAN LOS MONTOS A UNA TAS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ósito a Plaz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de Fondos a un Plazo Fijo (30, 60 o 90 días). Hay una tasa de Interés Involucr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Simple : Se aplica sobre el Capital Ini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Compuesta : Se aplica sobre el Capital Inicial y sobre el Interés Deveng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01064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Si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invierten $100 a una tasa del 10% an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152360" y="2209680"/>
          <a:ext cx="683424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2360" y="2209680"/>
                    <a:ext cx="68342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25560" y="5511960"/>
            <a:ext cx="9016920" cy="109188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al = N * i * 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:T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: Capital In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Com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076400" y="2057400"/>
          <a:ext cx="6834240" cy="297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2057400"/>
                    <a:ext cx="68342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25560" y="5207040"/>
            <a:ext cx="9091440" cy="154944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= C * [(1+i)^n - 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período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:Interés Total Simple=100, Interés Total Compuesto=159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sas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Nominal : Porcentaje que se paga sobre lo adeud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Real : Aumento del Poder Adquisitivo del que Presta el Dine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Tasa de Inflación : (1+in) = (1+ir) *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346040" y="1650960"/>
            <a:ext cx="4165920" cy="58428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an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 = 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mens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^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693396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dispone de $1MM. Se hará un depósito a plazo a 5 meses y se tiene las siguientes alternativ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no reajustable al 1.5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F (reajustable) al 0.6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S$ al 0.8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además las siguientes expectativa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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1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c=0.7% mensu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uál alternativa convie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90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(1+0.015)^5 = 1.077.28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[(1+ir)*(1+ 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)] ^5 = 1.000.000*[(1+0.006)*(1+0.01)] ^5 = $1.082.9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[(1+ir)*(1+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c)] ^5 = 1.000.000*[(1+0.008)*(1+0.007)] ^5 = 1.077.58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hace un depósito a plazo a 90 días por m$400 al 1.2% mensual. El cierre es a 60 días de hecho el depósi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os 60 dí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00*(1.012)^2-4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inancieros (I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400*(1.012)^2-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gistran bajo este concepto las inversiones en acciones, bonos, efectos de comercio, fondos mutuos y otros títulos de oferta públ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c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que otorga a su poseedor la participación en la propiedad de una sociedad anón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o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de deuda, emitido por una empresa o por el gobierno, que promete a su poseedor el pago de una cantidad cierta de dinero, en un plazo determinado. Duración may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fectos de Comer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déntico al bono, pero su duración es inferi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ondo Mu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Fondo formado por el aporte de muchas persona y cuyo destino es la inversión en acciones o instrumento de renta fi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 efecto de comercio que paga al vencimiento $1.200.000. Se adquiere faltando 4 meses para su vencimiento, en $960.000. El cierre del ejercicio ocurre 3 meses después de efectuada la oper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3840" y="3365640"/>
            <a:ext cx="8584920" cy="32511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fec. de Comercio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9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be distinguir si el objetivo de la inversión es de corto o larg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alor Negoci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Activo Circulante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acción se cotiza en bol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10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5% de los activos del inversionis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general, la Contabilidad Financiera usa l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aloración al cos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rincipio Contab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unas veces se usa el valor de mercado (acciones en calidad de valores negociab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otras se usa el valor presente (activos en leasing o inversiones en bo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Empresa Relacion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Otros Activos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á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interesa si la acción tiene o no cotización bursát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Otras Sociedad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“Otros Activos”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, representa menos del 10% del capital de la emisora y más del 5% de los activo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bien, si no se cotiza en bolsa y representa meno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98440" y="1676520"/>
            <a:ext cx="8699400" cy="376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0520" indent="-29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ómo se valoran contableme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Negociable: Mín. {Costo Adquisición.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mpresas Relacionadas: Valor Patrimonial Propor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Otras Sociedad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: Mín. {Costo Adquisición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no se cotiza en bolsa: Costo de Adquisi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de Valor Negoc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n acciones de una S.A en $4.500.000. Al momento de preparar los estados financieros su valor de mercado era de $4.000.000. Posteriormente, se venden en $4.20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0880" y="2666880"/>
            <a:ext cx="8597880" cy="41911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comp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cierr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egresos fuera de la explotación (G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vent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ingresos fuera de la explot. (I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en MM$600 el 20% de las acciones de una compañía, cuyo patrimonio contable es de MM$2.5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0880" y="2362320"/>
            <a:ext cx="8597880" cy="41907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Registro de la compr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VPP = 2.500 x 0,2 = 5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versión en empresas relacionada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enor valor inversione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cuenta “Menor valor inversiones” se debe amortizar en un plaz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áximo de 5 añ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rech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 exigir de un tercero un pago, o la entrega de bienes y servicios, por un cierto monto, a una fecha fu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iene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su origen en la venta de bienes o prestación de servicios a crédito, o en la cesión de un bien del activo a un tercero bajo compromiso de pago a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 el balance general normalmente se presentan rebajadas por las estimaciones (provisiones) de deudores incobrables y por los intereses no deveng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839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 clasifican en las siguientes partid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: Provenientes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por cobrar: Provenientes de las operaciones comerciales y documentadas a través de letras, pagares u ot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varios: Las que no provienen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y cuentas por cobrar a empresas relacion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a largo plazo: Vencimiento superior a un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na empresa tiene cuentas por cobrar de $50.000. Por quiebra de un cliente no será posible recaudar $6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9960" y="2743200"/>
            <a:ext cx="79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astigo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40384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l momento de preparar los estados financieros, se estima que $2.000 podrían no recuperar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2240" y="5105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ón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 (CA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2T21:47:36Z</dcterms:created>
  <dc:creator>DPTO. INFORMATICA</dc:creator>
  <dc:description/>
  <dc:language>en-US</dc:language>
  <cp:lastModifiedBy>Vicente Astorga Pizarro</cp:lastModifiedBy>
  <cp:lastPrinted>1999-03-18T20:54:39Z</cp:lastPrinted>
  <dcterms:modified xsi:type="dcterms:W3CDTF">2007-03-26T02:34:28Z</dcterms:modified>
  <cp:revision>23</cp:revision>
  <dc:subject/>
  <dc:title>Primera Parte: Contabilidad Financiera</dc:title>
</cp:coreProperties>
</file>