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8EB6-DFC5-49C4-B6D2-09932F6CE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A62D-1504-48FB-9EA2-D747DF6F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1550-2E07-47B3-A99B-6503DEF09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69A7-1A2E-491C-A265-F593FE6BE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0C4F-21D8-4AE5-9957-A0F7F6D4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592B-19CD-4A08-860A-6E6A3D00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6EE4-1277-43F0-8891-B1C199B2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C5F6-FB61-4182-959D-12350878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FAE5-1091-45F4-B97B-535BC657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8016-27E2-4C59-94C3-A83D2C8A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C5DB-3BE6-413C-850B-621FFF3B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DDD0-7A22-4B1C-A188-44553C88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4A91-FD57-404B-A0F4-CD567012ABA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jemplo de Estados Financie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080" y="1092240"/>
            <a:ext cx="855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erta empresa muestra el siguiente balance al comenzar el ejercicio (en M$)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2200" y="2205000"/>
          <a:ext cx="8659800" cy="35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2205000"/>
                    <a:ext cx="8659800" cy="35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57200" y="2608200"/>
          <a:ext cx="8283600" cy="285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08200"/>
                    <a:ext cx="8283600" cy="28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84840" y="4302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Cier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066680"/>
            <a:ext cx="816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spaso de las cuentas de gastos de administración y ventas a una cuenta resumen, denominada gastos de administración y ve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57200" y="1708200"/>
          <a:ext cx="8217000" cy="470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8200"/>
                    <a:ext cx="8217000" cy="47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523440" y="928800"/>
            <a:ext cx="34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BALANCE GENERAL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5200" y="43020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dos 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14400" y="1116000"/>
          <a:ext cx="7435800" cy="391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16000"/>
                    <a:ext cx="743580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urante los dos meses siguientes realiza las siguientes transac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2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de mercadería por un monto de M$ 1.200, pagándose 50% a plazo y el resto al contado. El costo de la mercadería fue de M$ 9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4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ientes pagan M$ 500 que adeudaban a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5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su vez la empresa paga M$ 400 que adeudaba a sus provee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8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rega el 50% de los bienes pagados por anticipado, obteniendo un margen de ganancia, sobre ingresos, del 4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6/0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ga M$ 200 por concepto de remune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8/0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compran muebles por M$ 100, pagando al con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T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deuda se contrajo a un tasa del 2% mensual (lineal) y se debe pagar al cabo de 1 año junto con los inter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 activo fijo le resta una vida útil de 20 años y su valor residual es c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seguro tiene una duración de 1 año y fue contratado hace 2 m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e pide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las transaccion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n el libro d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lance de comprobación y sal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ju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cier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dos 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47600" y="1130400"/>
          <a:ext cx="8834400" cy="430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00" y="1130400"/>
                    <a:ext cx="8834400" cy="43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296640" y="353880"/>
            <a:ext cx="73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las transaccion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n el libro d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28600" y="1251000"/>
          <a:ext cx="8647200" cy="395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51000"/>
                    <a:ext cx="864720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90880" y="303120"/>
            <a:ext cx="838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76200" y="1425600"/>
          <a:ext cx="8472600" cy="349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1425600"/>
                    <a:ext cx="847260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91960" y="303120"/>
            <a:ext cx="25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se al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68360" y="620640"/>
          <a:ext cx="8242200" cy="495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242200" cy="49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69800" y="1130400"/>
          <a:ext cx="8310600" cy="45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130400"/>
                    <a:ext cx="8310600" cy="45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469080" y="353880"/>
            <a:ext cx="59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lance de Comprobación y Sal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143000" y="1600200"/>
          <a:ext cx="7140600" cy="246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714060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808200" y="304920"/>
            <a:ext cx="37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Aju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4508640"/>
            <a:ext cx="748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paso siguiente sería traspasar estos asientos al libro may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1T01:00:00Z</dcterms:created>
  <dc:creator>Mjorrat</dc:creator>
  <dc:description/>
  <dc:language>en-US</dc:language>
  <cp:lastModifiedBy>Vicente Astorga Pizarro</cp:lastModifiedBy>
  <dcterms:modified xsi:type="dcterms:W3CDTF">2007-03-26T02:23:13Z</dcterms:modified>
  <cp:revision>11</cp:revision>
  <dc:subject/>
  <dc:title>Ejemplo de Estados Financieros</dc:title>
</cp:coreProperties>
</file>