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068-45D2-43F8-A3A4-44737B23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9AD-3901-456D-9A5E-D9C8D0A7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D7C-F61E-423D-B1EA-E9746BDC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460-1957-438F-8C94-8BCC965D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BBF-2663-4A67-A5F4-EFE3DAF7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EAA-88F1-431B-AF32-CCC7700A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753-88AF-426F-95D9-01C9EE7D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B19-820C-4E6D-9B95-464E5137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FAC-312D-43CD-949B-E2E7C638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679-C054-481F-8CF3-AD6528C2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898-33C7-4E69-A4E6-C31DFC42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385-B0B8-4609-BD7A-E5723314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6480-6F0D-4176-A9C8-47AD72D941F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1092240"/>
            <a:ext cx="85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ta empresa muestra el siguiente balance al comenzar el ejercicio (en M$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2200" y="2205000"/>
          <a:ext cx="865980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865980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608200"/>
          <a:ext cx="82836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8200"/>
                    <a:ext cx="82836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4840" y="4302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so de las cuentas de gastos de administración y ventas a una cuenta resumen, denominada gastos de administración y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708200"/>
          <a:ext cx="821700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170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3440" y="928800"/>
            <a:ext cx="34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LANCE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200" y="4302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1116000"/>
          <a:ext cx="74358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16000"/>
                    <a:ext cx="74358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los dos meses siguientes realiza las siguientes trans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2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de mercadería por un monto de M$ 1.200, pagándose 50% a plazo y el resto al contado. El costo de la mercadería fue de M$ 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4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s pagan M$ 500 que adeudaban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su vez la empresa paga M$ 400 que adeudaba a su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el 50% de los bienes pagados por anticipado, obteniendo un margen de ganancia, sobre ingresos, del 4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6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a M$ 200 por concepto de remun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ran muebles por M$ 100, pagando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uda se contrajo a un tasa del 2% mensual (lineal) y se debe pagar al cabo de 1 año junto con los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activo fijo le resta una vida útil de 20 años y su valor residual e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ro tiene una duración de 1 año y fue contratado hace 2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pid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7600" y="1130400"/>
          <a:ext cx="88344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30400"/>
                    <a:ext cx="88344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6640" y="3538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251000"/>
          <a:ext cx="86472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1000"/>
                    <a:ext cx="86472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0880" y="303120"/>
            <a:ext cx="83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6200" y="1425600"/>
          <a:ext cx="84726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25600"/>
                    <a:ext cx="84726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91960" y="303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e al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4220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422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9800" y="1130400"/>
          <a:ext cx="831060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831060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9080" y="35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714060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4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08200" y="30492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50864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aso siguiente sería traspasar estos asientos al libro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1:00:00Z</dcterms:created>
  <dc:creator>Mjorrat</dc:creator>
  <dc:description/>
  <dc:language>en-US</dc:language>
  <cp:lastModifiedBy>Vicente Astorga Pizarro</cp:lastModifiedBy>
  <dcterms:modified xsi:type="dcterms:W3CDTF">2007-03-26T02:23:13Z</dcterms:modified>
  <cp:revision>11</cp:revision>
  <dc:subject/>
  <dc:title>Ejemplo de Estados Financieros</dc:title>
</cp:coreProperties>
</file>