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46B-B28E-4F58-BCD0-46F357E2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E43D-8E60-423B-9E37-112DE7A3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F2B0-17A8-4443-A473-B652B5E0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8E01-F4C0-42B7-BFF3-5B2470ED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2609-9232-4329-83C4-6832B642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8BA2-043E-47CE-B2C3-C459A493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FA5B-59B9-448F-8505-6016DC8A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7C7D-1D4B-495D-B0F8-7386A23A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617F-8AE5-4C06-97B9-F921F529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8717-8A7A-4288-9562-EC6C82CB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9E8C-8283-41BB-B719-49D5A0BD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FB01-A802-4B84-A01C-EB55E033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4C61-8FA8-4BC4-8B73-1CBBD2F5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4055-E7AE-41E0-9DBE-FF38AF57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71C7-3EF0-42F9-8663-4B5F3396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5C2C-6030-40B1-8A96-A0022E2E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E946-54F4-4325-9135-19558420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A74-A738-4477-A53A-B809C40A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2787-4F6C-4418-9A28-214DF2BA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40BE-6DAA-4085-94EC-6332C87C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593-C0B9-4BD9-8AA8-44AC8829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5FE5-C9C9-4D46-B51A-1D4257CB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189-5596-42BD-ABB6-CC875FE1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3BD6-09D8-47A8-8D4E-FAD73E36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DA0C-6D1D-43CC-8E90-A9C45E49312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A79C-46AB-4BAE-B772-C29ADB42F18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2: Estados Financi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3733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a C.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de las obligaciones a  LP que vence ant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a 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3733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557360"/>
            <a:ext cx="81360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ellas obligaciones contraídas por la empresa que serán canceladas dentro del plazo de un año a contar de la fecha de los estad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S DE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422440"/>
            <a:ext cx="8136000" cy="1557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informe contable que permite conocer como se h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do el resultado de la empresa durante 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resumen de los ingresos y gastos 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845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uesto a la R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903320"/>
            <a:ext cx="845820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3357720"/>
            <a:ext cx="7561440" cy="265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 de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3141720"/>
            <a:ext cx="6985080" cy="1922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la diferencia entre la revalorización de los activos sujetos a corrección monetaria y la revalorización de los pasivos y del patrimonio y a revalorizaciones que se aplican sobre ingresos y ga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7680" y="1700280"/>
            <a:ext cx="871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rrección Monetaria consiste en revalorizar las distin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das del Balance y Estado de Resultados de modo de tomar en cuenta la inflación y las variaciones de las par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a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645000"/>
            <a:ext cx="8136000" cy="7038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cción Monetaria = Revalorizaciones de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–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valorizaciones de Pasivos y Patrimon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JUSTES A LOS ESTAD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ciones implícitas agregadas al Balance y al Estado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ión Parcial de un Activo en 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mulación de Ingresos y Gastos no Registrado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de carácter estático, muestra solo un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lado izquierdo muestra los activos y al derecho los pasivos y el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ión Parcial de Activo en Gas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2749680"/>
            <a:ext cx="257832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6560" y="2749680"/>
            <a:ext cx="16635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2749680"/>
            <a:ext cx="12063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35268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2440" y="28036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4403880"/>
            <a:ext cx="8893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curre por el consumo o uso del activo, o por un imprevis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: Depreciación, gastos pagados por anticipado, amortización de activos intangibles, castigos y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 de noviembre se compra mobiliario en M$600, cuya vida útil es de 5 años y su valor residual c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 (Dos Op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   Depreciación Acumulad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87692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1/10 se arriendan oficinas pagando 5 meses por adelantado, por un monto de $1000, al con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s Pagados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1040" y="4349880"/>
            <a:ext cx="8674200" cy="2273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agado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600. El deudor quebró y se tiene la certeza de que no cancel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5080" y="3587760"/>
            <a:ext cx="8750160" cy="31114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358128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Castig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tigo Incobrabl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800. La empresa estima que por diversas razones no se recaudará el 10% de es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360" y="3435480"/>
            <a:ext cx="8140680" cy="2654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provisió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or Provisión   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sión Incobrable  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/9 el Teatro Municipal vende abonos por M$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Anticipado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760" y="3816360"/>
            <a:ext cx="8977320" cy="27306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JUSTE AL 31/12 (se alcanzaron a efectuar el 80 % de los evento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por Anticip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mulación de Ingresos y Gastos no Regist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que ocurren día a día, en forma contin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banc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de invers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restados por el pers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/10 se pide un préstamo por M$100, al 3% mensual (interés simp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con Bcos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5080" y="4044960"/>
            <a:ext cx="8750160" cy="1511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(reconocimiento del interés devengad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lig.con Bcos.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0120" y="5892840"/>
            <a:ext cx="8636040" cy="863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Compuesto al mes n = 100 * (1+i)^n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al mes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= 100 * (1+i)^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paga salarios semanales por M$100. El último pago lo efectuó el 28/12 correspondiente a la semana del 21-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8760" y="3664080"/>
            <a:ext cx="8826480" cy="24256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(Salario Devengado del 28 al 3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sideran días hábiles, luego sueldo diario M$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lari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ECONOM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en sí estados financieros, pero forman parte de el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os Contables Usado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de conversión transacciones a M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depreciar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valorizar existen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Principales 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ción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lle Provisiones y Cas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: Fechas de Vencimiento, Instituciones Acree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AMEN AUDITORES EXTER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S.A. están obligadas a que sus Estados Financieros y las Notas a ellos sean revisados por Auditores Externos, quienes emiten un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Salvedad (Pos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Salvedad (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los Estados Financieros de las S.A. abier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tamen de Auditore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oriedad de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Tributario : S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p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.A. abierta       : Superintendencia de Valores y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nc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B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FP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AF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sapr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a.de seguros : Superintendencia de Valores y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19320" y="1841400"/>
          <a:ext cx="6732360" cy="42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41400"/>
                    <a:ext cx="673236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720" y="18907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2800" y="52434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" y="219384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200" y="60040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45720" y="150804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72360" y="184464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82880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6095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42920" y="1600200"/>
          <a:ext cx="6913800" cy="453024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convertirse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laciona con el tiempo faltante para el vencimiento de l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3860640"/>
            <a:ext cx="4033800" cy="25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por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040" y="1911240"/>
            <a:ext cx="8672760" cy="173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o recursos de la empresa que serán vendid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dos o consumidos dentro de un año desde la fech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financi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3280" y="3860280"/>
            <a:ext cx="4034160" cy="24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paga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 (no depre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ones y obras de infra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quinaria y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umulada (men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OS ACTIV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empresas relacion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otras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ngibles (patentes, marca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tizaciones (m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9:45:38Z</dcterms:created>
  <dc:creator/>
  <dc:description/>
  <dc:language>en-US</dc:language>
  <cp:lastModifiedBy>IVAN ALVAREZ VALDES</cp:lastModifiedBy>
  <cp:lastPrinted>1999-03-18T20:43:15Z</cp:lastPrinted>
  <dcterms:modified xsi:type="dcterms:W3CDTF">2006-03-19T17:24:52Z</dcterms:modified>
  <cp:revision>26</cp:revision>
  <dc:subject/>
  <dc:title>TRANSACCION</dc:title>
</cp:coreProperties>
</file>