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209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E0C2A-3254-4F62-BE60-C9D1451B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C22F-86CA-4B35-9C34-FB04E9190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01D0-3BFD-4519-AB4A-BE2FD7FD4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C639-F892-4FE5-A8FB-9219E706D0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4E6DA-94E6-451C-B3CE-0BFF8D55E0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630AD9-7E5B-42F2-846E-CA0864EED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AFB14-CACA-4E61-8E52-273B23E74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F1330-86F0-4B28-A52D-CCC2F2751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9E9C-C5FA-41F2-AD58-E0AEC952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69D0E-8E7F-4531-807B-AB2F36528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81A0-A019-46A5-A5D6-2D79EBEBD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3EBA-831C-4041-A2D6-C1467FDB6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0189E4-C29E-4F2E-9556-100EFDABC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D4E0D-C2D5-4648-BEC4-09F5174AD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78EE-464E-473F-84ED-142C5EC34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A3FAF-C37F-40E7-A0B4-974F24994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EE9EB-B9A1-4E95-84AD-4BF98401C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0F15-0331-4D96-97F8-3018B9EC0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4966-0BEE-4D4E-A4C8-06251C7C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E57D2-B12D-410B-9798-B952359A4F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B3E4-2540-4AC7-A035-F8C6FE15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564B-7F56-40D8-8A1B-CFB8920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F3615-0595-4AF2-BD37-0FA7C28C8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2B0D-7D09-4BA0-ACD0-92CCCFBD6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7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E3FE-0BD8-478E-8A2C-D82CA704DF87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6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7079b"/>
                </a:gs>
                <a:gs pos="100000">
                  <a:srgbClr val="0000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5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e0e9e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6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132" y="132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1616a1"/>
                </a:gs>
                <a:gs pos="100000">
                  <a:srgbClr val="0000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4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4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5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6e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0078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18" name="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e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1616a1"/>
                  </a:gs>
                  <a:gs pos="100000">
                    <a:srgbClr val="0000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B141-FBDA-41C6-BAD1-6E87E376A17D}" type="slidenum">
              <a:rPr b="0" lang="es-MX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7b46d0"/>
              </a:buClr>
              <a:buSzPct val="9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5c984"/>
              </a:buClr>
              <a:buSzPct val="9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9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792080"/>
            <a:ext cx="8229600" cy="1423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Primera Parte: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ontabilidad Financier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Capítulo 2: Estados Financiero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51920" y="3733560"/>
            <a:ext cx="4343400" cy="2361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5000"/>
          </a:bodyPr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a C.P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e de las obligaciones a  LP que vence antes de 1 añ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777240" indent="-72828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a C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47960" y="373356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enta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s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percibi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mpues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68360" y="1557360"/>
            <a:ext cx="8136000" cy="119124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quellas obligaciones contraídas por la empresa que serán canceladas dentro del plazo de un año a contar de la fecha de los estados financiero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" dur="500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" dur="500"/>
                                        <p:tgtEl>
                                          <p:spTgt spid="2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SIVOS DE LARGO PLAZ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bancos e instituc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bligaciones con el público (bo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pag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reedores v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TRIMONI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84080"/>
            <a:ext cx="8229600" cy="444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ital y Reserv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acumulad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tilidades (pérdidas) del Ejerci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nos los dividendos o retiros de Utili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S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68360" y="2422440"/>
            <a:ext cx="8136000" cy="15570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informe contable que permite conocer como se h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do el resultado de la empresa durante el ejercici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un resumen de los ingresos y gastos  de la empresa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55640" y="2284560"/>
            <a:ext cx="7920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mpuesto a la Rent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33160" y="1903320"/>
            <a:ext cx="8458200" cy="114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55640" y="3357720"/>
            <a:ext cx="7561440" cy="26542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 de Explotación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rgen de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ULTADO OPER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la Explotación: valor de las ventas de bienes y servicios del giro de la empres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os de la Explotación: costo de los productos vendidos o de los servicios pr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de Administración y Ventas: todos los demás gastos relacionados con el giro del negoc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relacionados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la Operación o giro del Negoci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971640" y="3141720"/>
            <a:ext cx="6985080" cy="19227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-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gresos fuera de la Explot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         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                                             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ultado no Operaciona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RRECCIÓN MONETARI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95280" y="4797360"/>
            <a:ext cx="82090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s la diferencia entre la revalorización de los activos sujetos a corrección monetaria y la revalorización de los pasivos y del patrimonio y a revalorizaciones que se aplican sobre ingresos y gas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47680" y="1700280"/>
            <a:ext cx="8717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La corrección Monetaria consiste en revalorizar las distint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partidas del Balance y Estado de Resultados de modo de tomar en cuenta la inflación y las variaciones de las paridade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mbiari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468360" y="3645000"/>
            <a:ext cx="8136000" cy="70380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Corrección Monetaria = Revalorizaciones de Activo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                                    – </a:t>
            </a:r>
            <a:r>
              <a:rPr b="0" lang="es-ES_tradnl" sz="2000" spc="-1" strike="noStrike">
                <a:solidFill>
                  <a:srgbClr val="ffffff"/>
                </a:solidFill>
                <a:latin typeface="Arial"/>
              </a:rPr>
              <a:t>Revalorizaciones de Pasivos y Patrimonio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JUSTES A LOS ESTADOS CONT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8394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acciones implícitas agregadas al Balance y al Estado de Resultad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nsformación Parcial de un Activo en 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umulación de Ingresos y Gastos no Registrados anteriorme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forme contabl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estra la situación económico-financiera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 de carácter estático, muestra solo un inst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lado izquierdo muestra los activos y al derecho los pasivos y el patrimoni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nsformación Parcial de Activo en Gasto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" y="2749680"/>
            <a:ext cx="257832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416560" y="2749680"/>
            <a:ext cx="16635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093080" y="2749680"/>
            <a:ext cx="1206360" cy="120636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200400" y="3352680"/>
            <a:ext cx="205740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12440" y="2803680"/>
            <a:ext cx="13539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EMP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50920" y="4403880"/>
            <a:ext cx="889308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curre por el consumo o uso del activo, o por un imprevist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j: Depreciación, gastos pagados por anticipado, amortización de activos intangibles, castigos y provisione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51920" y="1676520"/>
            <a:ext cx="8915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 de noviembre se compra mobiliario en M$600, cuya vida útil es de 5 años y su valor residual cer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 (Dos Opcion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Activo Fijo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   Depreciación Acumulada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(1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 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Depreciación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  1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4876920"/>
            <a:ext cx="0" cy="19796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560" y="1828440"/>
            <a:ext cx="8458200" cy="243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1/10 se arriendan oficinas pagando 5 meses por adelantado, por un monto de $1000, al conta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1000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s Pagados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1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11040" y="4349880"/>
            <a:ext cx="8674200" cy="227304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agado por Anticipado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4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rriendo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 4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600. El deudor quebró y se tiene la certeza de que no cancelará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35080" y="3587760"/>
            <a:ext cx="8750160" cy="31114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8600" y="3581280"/>
            <a:ext cx="8381880" cy="26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Castig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Deudores por Venta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(6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Castigo Incobrable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6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3818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tiene un saldo de deudas por cobrar de M$800. La empresa estima que por diversas razones no se recaudará el 10% de est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87360" y="3435480"/>
            <a:ext cx="8140680" cy="2654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(provisión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Gasto por Provisión   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Provisión Incobrable   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alización de Ingresos Diferi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ando se percibe una recaudación en forma anticipada a la entrega de los bienes o a la prestación de los servicios, la transacción se debe registrar como un pas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 momento de preparar los estados financieros se debe realizar un ajuste para reconocer la parte del ingreso devengado durante el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51920" y="1981080"/>
            <a:ext cx="8915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l 30/9 el Teatro Municipal vende abonos por M$50.000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50.000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Anticipado   50.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8760" y="3816360"/>
            <a:ext cx="8977320" cy="273060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JUSTE AL 31/12 (se alcanzaron a efectuar el 80 % de los eventos):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por Anticipad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40.000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INGRES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 de Explotació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40.0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umulación de Ingresos y Gastos no Registrad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gresos y gastos que ocurren día a día, en forma continu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eses bancari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ntas de inversiones financier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ios prestados por el personal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228600" y="1904760"/>
            <a:ext cx="876312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El 31/10 se pide un préstamo por M$100, al 3% mensual (interés simple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ACTIVO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ja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blig.con Bcos.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35080" y="4044960"/>
            <a:ext cx="8750160" cy="15112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JUSTE AL 31/12 (reconocimiento del interés devengado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 u="sng">
                <a:solidFill>
                  <a:srgbClr val="ffffff"/>
                </a:solidFill>
                <a:uFillTx/>
                <a:latin typeface="Arial"/>
              </a:rPr>
              <a:t>PASIV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Gasto Financiero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Oblig.con Bcos.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s-ES_tradnl" sz="24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30120" y="5892840"/>
            <a:ext cx="8636040" cy="863640"/>
          </a:xfrm>
          <a:prstGeom prst="rect">
            <a:avLst/>
          </a:prstGeom>
          <a:noFill/>
          <a:ln w="507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és Compuesto al mes n = 100 * (1+i)^n-10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a al mes n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    = 100 * (1+i)^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28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 empresa paga salarios semanales por M$100. El último pago lo efectuó el 28/12 correspondiente a la semana del 21-27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58760" y="3664080"/>
            <a:ext cx="8826480" cy="2425680"/>
          </a:xfrm>
          <a:prstGeom prst="rect">
            <a:avLst/>
          </a:prstGeom>
          <a:noFill/>
          <a:ln w="12600">
            <a:solidFill>
              <a:srgbClr val="cc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buClr>
                <a:srgbClr val="86d1ec"/>
              </a:buClr>
              <a:buSzPct val="75000"/>
              <a:buFont typeface="Monotype Sorts" charset="2"/>
              <a:buChar char="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JUSTE AL 31/12 (Salario Devengado del 28 al 31)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consideran días hábiles, luego sueldo diario M$20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GASTO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PASIVO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Salario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Retenciones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8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ECONOMIC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, o Grado de Eficiencia, para Generar Utilidades en un determinado Períod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TUACION FINANCIE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la Empresa para Pagar sus Deudas. Es lo que se Tiene v/s lo que se Deb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7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resentan la divulgación de la  Información que no está directamente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explicativas que permiten una mejor comprensión de las cifras contenidas en los estados financie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son en sí estados financieros, pero forman parte de ell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Ejemplos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iterios Contables Usados 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se de conversión transacciones a M.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depreciar activo fij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étodos para valorizar existenci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rección Monetaria Principales Parti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osición 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talle Provisiones y Castig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sivos : Fechas de Vencimiento, Instituciones Acreedor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2200" indent="-322200">
              <a:spcBef>
                <a:spcPts val="601"/>
              </a:spcBef>
              <a:buSzPct val="123461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ICTAMEN AUDITORES EXTERN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68360" y="1905120"/>
            <a:ext cx="842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as S.A. están obligadas a que sus Estados Financieros y las Notas a ellos sean revisados por Auditores Externos, quienes emiten un dictam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n Salvedad (Posi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 Salvedad (Negativo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 los Estados Financieros de las S.A. abierta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8229600" cy="4286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Resul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de Flujo de Efectiv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tas a los Estados Financie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ctamen de Auditores Extern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ligatoriedad de los Estados Financier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76320" y="1981080"/>
            <a:ext cx="899136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 gener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lance Tributario : S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asos particula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S.A. abierta       : Superintendencia de Valores y Segur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Banco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Banc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AFP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AFP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Isapres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  : Superintendencia de Isap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ia.de seguros : Superintendencia de Valores y Seguro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1219320" y="1841400"/>
          <a:ext cx="6732360" cy="427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1841400"/>
                    <a:ext cx="6732360" cy="427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9720" y="189072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2800" y="52434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" y="2193840"/>
            <a:ext cx="422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Q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U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142120" y="11271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215200" y="600408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145720" y="1508040"/>
            <a:ext cx="407520" cy="448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X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I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ook Antiqua"/>
              </a:rPr>
              <a:t>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1972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38080" y="182880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172360" y="1844640"/>
            <a:ext cx="0" cy="426708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38080" y="1828800"/>
            <a:ext cx="739152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38080" y="2666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38080" y="6095880"/>
            <a:ext cx="731520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Arial"/>
              </a:rPr>
              <a:t>ESTRUCTURA DEL BAL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042920" y="1600200"/>
          <a:ext cx="6913800" cy="4530240"/>
        </p:xfrm>
        <a:graphic>
          <a:graphicData uri="http://schemas.openxmlformats.org/drawingml/2006/table">
            <a:tbl>
              <a:tblPr/>
              <a:tblGrid>
                <a:gridCol w="3360960"/>
                <a:gridCol w="3552840"/>
              </a:tblGrid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s-ES_tradnl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.Y PAT.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CIRCULANTE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1132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ACTIVO FIJ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SIVO LARGO PLAZ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1329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OTROS ACTIVOS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PATRIMONIO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7" name=""/>
          <p:cNvSpPr/>
          <p:nvPr/>
        </p:nvSpPr>
        <p:spPr>
          <a:xfrm>
            <a:off x="8028000" y="2060640"/>
            <a:ext cx="38088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5280" y="2492280"/>
            <a:ext cx="4237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Q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U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I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Z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610480" y="1828800"/>
            <a:ext cx="0" cy="449568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032680" y="155736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029440" y="587700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28680" y="1484280"/>
            <a:ext cx="358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+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96720" y="5805360"/>
            <a:ext cx="282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Book Antiqua"/>
              </a:rPr>
              <a:t>-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920" y="1981080"/>
            <a:ext cx="0" cy="3962520"/>
          </a:xfrm>
          <a:prstGeom prst="line">
            <a:avLst/>
          </a:prstGeom>
          <a:ln w="76320">
            <a:solidFill>
              <a:srgbClr val="3366ff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 GENE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SzPct val="1234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QUIDEZ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pacidad de un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ctivo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para convertirse en efectiv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234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GIBIL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 relaciona con el tiempo faltante para el vencimiento de las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bligacio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CIRCULAN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3860640"/>
            <a:ext cx="4033800" cy="2517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oni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ósitos a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por ven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cumentos por cobr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11040" y="1911240"/>
            <a:ext cx="8672760" cy="1739880"/>
          </a:xfrm>
          <a:prstGeom prst="rect">
            <a:avLst/>
          </a:prstGeom>
          <a:noFill/>
          <a:ln w="1260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tivos o recursos de la empresa que serán vendidos,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zados o consumidos dentro de un año desde la fecha del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do financier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43280" y="3860280"/>
            <a:ext cx="4034160" cy="243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xistenci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Valores negociabl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astos pagados por anticipad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TIVO FIJO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Terrenos (no depreciabl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Construcciones y obras de infraestructur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Maquinaria y equip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Otros activos fij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86d1ec"/>
              </a:buClr>
              <a:buSzPct val="90000"/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Arial"/>
              </a:rPr>
              <a:t>Depreciación acumulada (meno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99"/>
            </a:gs>
            <a:gs pos="100000">
              <a:srgbClr val="000057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ROS ACTIVOS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700280"/>
            <a:ext cx="7772400" cy="374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empresas relacionada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versiones en otras sociedad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udores a largo p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angibles (patentes, marcas, etc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914400" indent="-857160">
              <a:spcBef>
                <a:spcPts val="601"/>
              </a:spcBef>
              <a:buClr>
                <a:srgbClr val="86d1ec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ortizaciones (meno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2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2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" dur="500"/>
                                        <p:tgtEl>
                                          <p:spTgt spid="2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" dur="500"/>
                                        <p:tgtEl>
                                          <p:spTgt spid="2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" dur="500"/>
                                        <p:tgtEl>
                                          <p:spTgt spid="2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3-17T19:45:38Z</dcterms:created>
  <dc:creator/>
  <dc:description/>
  <dc:language>en-US</dc:language>
  <cp:lastModifiedBy>IVAN ALVAREZ VALDES</cp:lastModifiedBy>
  <cp:lastPrinted>1999-03-18T20:43:15Z</cp:lastPrinted>
  <dcterms:modified xsi:type="dcterms:W3CDTF">2006-03-19T17:24:52Z</dcterms:modified>
  <cp:revision>26</cp:revision>
  <dc:subject/>
  <dc:title>TRANSACCION</dc:title>
</cp:coreProperties>
</file>