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DB0-8010-45EA-8D5D-B80BC433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AEB-435C-4B49-9557-700BF6F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947-5AC3-4139-92DD-23DF4F05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630-4CB3-4C64-B296-7028552B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C1F3-CD8E-4519-904A-96E4A3BD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8976-5D55-4B0A-A9FC-FBB4AB4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0C48-3C89-4C19-9223-B0A132D7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8A43-1956-4CE3-9229-9A26D77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CE12-EDED-40BD-9E98-C992337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EE6-CAAA-4937-8A8D-CA24306F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B44D-BD5D-4FE6-8EC0-7A55274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BE6-7E6A-48EA-A093-72CC64CA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B20-470B-408B-B830-349AC0F0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7927-310B-4DF7-B97E-22CC168D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F604-276A-461F-B3FF-2B6A553A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27C0-0710-4A61-A7F5-56EE43BE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A160-38B9-43B7-8DC5-0DDF2E51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4C4-2D00-4FB3-8934-464DB5F7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9BB-6A25-4A29-8BF0-9E160C6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E90-DF21-44FF-BE7B-C076500E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A54-6DD1-4C19-BAF1-41AD806C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65D-5DA8-4A3E-9168-7A7F4C50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EC9-62AA-4943-8CA7-CCA799B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A7A-7C3D-43B1-AD4D-6A4EC343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E61-191A-48FF-8972-5BB1DB32994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6133-E1DD-4FFD-8ECE-B40695E0D35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560" y="3860640"/>
            <a:ext cx="84582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crea una Cuenta complementaria del activo (CA). Esta es una cuenta que se presenta en el balance general como un activo negativo, rebajando al activo que complem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084640"/>
            <a:ext cx="794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628640"/>
            <a:ext cx="8602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mplo 2, Estimación Incobrables: Al momento de preparar los estados financieros, un empresa estima que $2.000 podrían no recuper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2637000"/>
            <a:ext cx="7940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onga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jemplo 3: Una empresa tiene al final del periodo Cuentas por Cobrar de $1.000. Por datos históricos, se estima recuperar sólo el 9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ntabiliza cargando a una cuenta de gastos el monto incobrable y se crea un cuenta complementaria del activo Cuentas por Cobrar, “Estimación de Cuentas Incobrable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entas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de Cuentas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presentación en el Balance General de las cuentas será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entas por Cobrar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 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Cuentas Incobrable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($50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9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de la Estimación CI, se presenta como un activo negativo, rebajando el activo Cuentas por Cob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ituaciones posib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 Se cancela en el periodo siguiente $ 1.000. Se reversa la estimación que no se utiliz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de Cuentas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cuperación de Incobrables (Utilidad)   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860640"/>
            <a:ext cx="799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Se cancela en el periodo siguiente $980. Se utiliza la estimación, y el saldo se registra como ajuste a la utilidad del ejercicio anteri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imación Cuentas Incobra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2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peración de Incobrables (Utilidad)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. Se cancelan en el periodo siguiente $920, se utiliza la estimación y el faltante se registra como ajuste a la pérdida del ejercicio anteri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imación Cuenta Incobrabl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juste Ejercicio anterior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$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e hecho económico debe reflejarse en el periodo que se produce la venta, para asociar el gasto o perdida, como consecuencia de lo que se presume no cancelarán los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4880" y="2057400"/>
            <a:ext cx="77882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mercadería y se aumenta la cuenta 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Costo de Venta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 ¿Cuál es el costo de venta? 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3680" y="4502160"/>
            <a:ext cx="7835760" cy="2120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2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10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3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*0.16 (10/6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*0.583 (35/6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*0.25 (15/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232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5400" y="4141800"/>
            <a:ext cx="6384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29528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0520" y="176688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362320"/>
          <a:ext cx="774072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7740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83400" y="153828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96920" y="2438280"/>
          <a:ext cx="8870760" cy="42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438280"/>
                    <a:ext cx="887076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35680" y="1386000"/>
            <a:ext cx="469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4582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592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ó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,4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,4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,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,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como 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.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08640" y="303372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actualizan los montos a una tasa determin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701028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362320" y="2514600"/>
          <a:ext cx="4979880" cy="30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514600"/>
                    <a:ext cx="497988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133720" y="1905120"/>
          <a:ext cx="4903560" cy="30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490356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3640" y="2666880"/>
            <a:ext cx="82105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p = Tasa de Inflación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+in) = (1+ir) * (1+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n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n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4080" y="1371240"/>
            <a:ext cx="8989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(1+0.015)^5 = 1.077.2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.000*[(1+ir)*(1+ p)] ^5 = 1.000.000*[(1+0.006)*(1+0.01)] ^5 = $1.082.9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1.000.000*(1+in)^5 = 1.000.000*[(1+ir)*(1+DTc)] ^5 = 1.000.000*[(1+0.008)*(1+0.007)] ^5 = 1.077.5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400*(1.012)^2-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,6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9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ondo formado por el aporte de muchas personas y cuyo destino es la inversión en acciones o instrumento de renta fi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7086600" cy="9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35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gistro de la comp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PP = 2.500 x 0,2 = 5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empresas relacionada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or valor inversiones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cuenta “Menor valor inversiones” se debe amortizar en un plaz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áximo de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1, Castigo Incobrables: Una empresa tiene cuentas por cobrar de $50.000. Debido a la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3213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Ivan Alvarez Valdes</cp:lastModifiedBy>
  <cp:lastPrinted>1999-03-18T20:54:39Z</cp:lastPrinted>
  <dcterms:modified xsi:type="dcterms:W3CDTF">2008-04-13T15:54:09Z</dcterms:modified>
  <cp:revision>37</cp:revision>
  <dc:subject/>
  <dc:title>Primera Parte: Contabilidad Financiera</dc:title>
</cp:coreProperties>
</file>