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EC4-69F7-41F9-A18B-AD158861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F34-872D-405A-96A2-82D504D4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3BE-DFDB-4A85-BD1D-4120E7D9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054-A4FD-43C2-BCAB-59C2351D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6F24-97F5-4BA3-8208-239BD290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6DB2-084D-4C66-9DFC-D3158836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A1F0-CA3E-46D2-A6A4-1DBFE863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7ABA-114B-4A9F-A3A9-476203CA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BE9-4A3B-44EB-BF85-FE85777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7B5D-A453-48B0-81F3-9596C040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4532-D143-4E96-B5B0-72F1AFC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E7B-1D71-4B0C-BB0A-0B30585F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D66C-2C4F-4CC8-81A5-A8EAB54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F2FA-3A20-4615-A86A-5177476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8698-9BD4-4B91-886C-AA9D73DB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31B8-A745-4A7A-977D-BF277766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F03C-B647-427A-8EBD-8B520EA0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EBE-7985-49E2-BE2F-6C2FADEF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763-13B1-495E-9118-CCBF2FBD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411-3B68-4F5A-940B-07AC575D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014-9AA8-45A1-971D-756516D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C1F-902C-47D7-83E0-4241DCA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5B5-7649-49E0-B57E-B8709CB8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624-7E01-4193-86D5-B68678B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652A-A69A-47DD-893B-536C8672375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2290-53A8-4B16-90D8-89EC389ED2E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560" y="3860640"/>
            <a:ext cx="84582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crea una Cuenta complementaria del activo (CA). Esta es una cuenta que se presenta en el balance general como un activo negativo, rebajando al activo que complem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084640"/>
            <a:ext cx="794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628640"/>
            <a:ext cx="8602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jemplo 2, Estimación Incobrables: Al momento de preparar los estados financieros, un empresa estima que $2.000 podrían no recuper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637000"/>
            <a:ext cx="7940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onga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emplo 3: Una empresa tiene al final del periodo Cuentas por Cobrar de $1.000. Por datos históricos, se estima recuperar sólo el 95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ntabiliza cargando a una cuenta de gastos el monto incobrable y se crea un cuenta complementaria del activo Cuentas por Cobrar, “Estimación de Cuentas Incobrable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entas Incobrab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imación de Cuentas Incobrab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presentación en el Balance General de las cuentas será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entas por Cobrar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 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imación Cuentas Incobrable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($50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9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de la Estimación CI, se presenta como un activo negativo, rebajando el activo Cuentas por Cob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Situaciones posib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 Se cancela en el periodo siguiente $ 1.000. Se reversa la estimación que no se utiliz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imación de Cuentas Incobrab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peración de Incobrables (Utilidad)   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860640"/>
            <a:ext cx="799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Se cancela en el periodo siguiente $980. Se utiliza la estimación, y el saldo se registra como ajuste a la utilidad del ejercicio anteri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imación Cuentas Incobra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2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peración de Incobrables (Utilidad)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. Se cancelan en el periodo siguiente $920, se utiliza la estimación y el faltante se registra como ajuste a la pérdida del ejercicio anteri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imación Cuenta Incobrab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juste Ejercicio anterior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e hecho económico debe reflejarse en el periodo que se produce la venta, para asociar el gasto o perdida, como consecuencia de lo que se presume no cancelarán lo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4880" y="2057400"/>
            <a:ext cx="77882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mercadería y se aumenta la cuenta 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Costo de Venta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 ¿Cuál es el costo de venta? 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3680" y="4502160"/>
            <a:ext cx="7835760" cy="2120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2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10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3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15*0.16 (10/6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15*0.583 (35/6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15*0.25 (15/3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2327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95400" y="4141800"/>
            <a:ext cx="6384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29528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0520" y="176688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362320"/>
          <a:ext cx="774072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7740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83400" y="153828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96920" y="2438280"/>
          <a:ext cx="8870760" cy="42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438280"/>
                    <a:ext cx="887076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35680" y="1386000"/>
            <a:ext cx="469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458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592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ó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,4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,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 como 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.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.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08640" y="303372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actualizan los montos a una tasa determin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362320" y="2514600"/>
          <a:ext cx="4979880" cy="30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514600"/>
                    <a:ext cx="49798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133720" y="1905120"/>
          <a:ext cx="4903560" cy="307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05120"/>
                    <a:ext cx="490356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3640" y="2666880"/>
            <a:ext cx="82105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p = Tasa de Inflación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+in) = (1+ir) * (1+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n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n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4080" y="1371240"/>
            <a:ext cx="8989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1.000.000*(1+0.015)^5 = 1.077.2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.000*[(1+ir)*(1+ p)] ^5 = 1.000.000*[(1+0.006)*(1+0.01)] ^5 = $1.082.9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1.000.000*[(1+ir)*(1+DTc)] ^5 = 1.000.000*[(1+0.008)*(1+0.007)] ^5 = 1.077.5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*(1.012)^2-4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,6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9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ondo formado por el aporte de muchas personas y cuyo destino es la inversión en acciones o instrumento de renta fi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0866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35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gistro de la comp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PP = 2.500 x 0,2 = 5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ón en empresas relacionadas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or valor inversiones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uenta “Menor valor inversiones” se debe amortizar en un plaz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ximo de 5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1, Castigo Incobrables: Una empresa tiene cuentas por cobrar de $50.000. Debido a la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3213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Ivan Alvarez Valdes</cp:lastModifiedBy>
  <cp:lastPrinted>1999-03-18T20:54:39Z</cp:lastPrinted>
  <dcterms:modified xsi:type="dcterms:W3CDTF">2008-04-13T15:54:09Z</dcterms:modified>
  <cp:revision>37</cp:revision>
  <dc:subject/>
  <dc:title>Primera Parte: Contabilidad Financiera</dc:title>
</cp:coreProperties>
</file>