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 DE ABRIL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A62-F303-4BA0-9AE7-C5D5F19A0439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desafío es encontrar un instrumento váli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389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Territorios y colonias de España y Portugal (1580-1640).www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Acemoglu, D. </a:t>
            </a:r>
            <a:r>
              <a:rPr b="1" i="1" lang="es-CL" sz="1000" spc="-1" strike="noStrike">
                <a:solidFill>
                  <a:srgbClr val="000000"/>
                </a:solidFill>
                <a:latin typeface="Lucida Sans Unicode"/>
              </a:rPr>
              <a:t>et al</a:t>
            </a: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  (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137440" cy="50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032360" cy="20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83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Lucida Sans Unicode"/>
              </a:rPr>
              <a:t>El quiebre del patrón oro gatilló un 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incremento sin precedentes en el costo de la vi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Luego de un período de elevada inflación ésta ha vuelto a disminuir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1916280"/>
            <a:ext cx="6985080" cy="4308480"/>
            <a:chOff x="900000" y="1916280"/>
            <a:chExt cx="6985080" cy="4308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698508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97560" y="2172240"/>
              <a:ext cx="456120" cy="2250000"/>
            </a:xfrm>
            <a:prstGeom prst="rect">
              <a:avLst/>
            </a:prstGeom>
            <a:solidFill>
              <a:srgbClr val="ff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308720" cy="439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Fenómeno no solo en EE.UU., también en Chile, a pesar de aum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ento reciente.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63664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835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población mundial se ha incrementado 27 veces en 2000 añ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12920"/>
            <a:ext cx="1941480" cy="2816640"/>
          </a:xfrm>
          <a:prstGeom prst="upArrow">
            <a:avLst>
              <a:gd name="adj1" fmla="val 75583"/>
              <a:gd name="adj2" fmla="val 3626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l 97% de este aumento se ha producido en los últimos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177920"/>
            <a:ext cx="84247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proceso de crecimiento poblacional ha sido altamente no line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152360"/>
            <a:ext cx="828036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03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no-linealidad en el crecimiento del ingreso per-cápita promedio mundial ha sido aún más inten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797360"/>
            <a:ext cx="3672000" cy="1081080"/>
          </a:xfrm>
          <a:prstGeom prst="ellipse">
            <a:avLst/>
          </a:prstGeom>
          <a:solidFill>
            <a:srgbClr val="0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939280" y="2996280"/>
            <a:ext cx="4105440" cy="1081080"/>
          </a:xfrm>
          <a:prstGeom prst="ellipse">
            <a:avLst/>
          </a:prstGeom>
          <a:solidFill>
            <a:srgbClr val="ff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9736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nsición demográfica comienza con leve incremento de crecimiento de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14172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de 1800 aceleración significativa del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dispersión temporal de ingresos per-cápita es similar a su dispersión geográf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339920"/>
            <a:ext cx="8280360" cy="504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4149720"/>
                <a:ext cx="3313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−</m:t>
                    </m:r>
                    <m:r>
                      <m:t xml:space="preserve">θ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n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l ingreso per-cápita converge a una tasa </a:t>
            </a:r>
            <a:r>
              <a:rPr b="0" i="1" lang="el-GR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θ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hacia la frontera del conocimiento </a:t>
            </a:r>
            <a:r>
              <a:rPr b="0" i="1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y*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 La trayectoria se ve afectada por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00360" y="4005360"/>
                <a:ext cx="27003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Z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y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ambi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 la frontera crece a una tasa que depende de su mismo nivel y de otras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conocimiento y las ideas difieren de otro tipo de bie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2421000"/>
          <a:ext cx="4248000" cy="2761920"/>
        </p:xfrm>
        <a:graphic>
          <a:graphicData uri="http://schemas.openxmlformats.org/drawingml/2006/table">
            <a:tbl>
              <a:tblPr/>
              <a:tblGrid>
                <a:gridCol w="1415520"/>
                <a:gridCol w="1416600"/>
                <a:gridCol w="1415880"/>
              </a:tblGrid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pologí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nz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guridad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ánsito vehi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Ideas y 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64000" y="1268280"/>
            <a:ext cx="2159280" cy="1295640"/>
          </a:xfrm>
          <a:prstGeom prst="ellipse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iedad intelectual para fomentar producción de ideas. Grado eficiente de monopolio difícil de preci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3716280"/>
            <a:ext cx="1584360" cy="934920"/>
          </a:xfrm>
          <a:prstGeom prst="ellipse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onomías de escala y ámbito en la producción de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5400000">
            <a:off x="4751280" y="2888280"/>
            <a:ext cx="2519280" cy="2016360"/>
          </a:xfrm>
          <a:custGeom>
            <a:avLst/>
            <a:gdLst>
              <a:gd name="textAreaLeft" fmla="*/ 360 w 2519280"/>
              <a:gd name="textAreaRight" fmla="*/ 2520000 w 25192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evidencia cualitativamente apoya la teoría: China logra en 30 años lo que Europa occidental logra en +50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26640" cy="492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Implicancias (1): de vuelta a la Gran Depresió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lgo hemos aprend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Políticas contrací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cas y no procíc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exibilidad cambiaria y abandono del patrón oro (“una reliquia bárbar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81360"/>
            <a:ext cx="82296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uchas semejanz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onsecuencias de una guerr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ebilidad del dólar, shock petro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an amenaza hoy no se ve: vínculo entre precio del petróleo 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55164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1268280"/>
            <a:ext cx="266364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125360"/>
            <a:ext cx="266400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pués de los setenta vinieron los och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re las instituciones y el desempeño económico existe doble causal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1700280"/>
            <a:ext cx="2068560" cy="22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4149720"/>
            <a:ext cx="206856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608200" y="1824120"/>
            <a:ext cx="3858840" cy="3859200"/>
            <a:chOff x="2608200" y="1824120"/>
            <a:chExt cx="3858840" cy="3859200"/>
          </a:xfrm>
        </p:grpSpPr>
        <p:sp>
          <p:nvSpPr>
            <p:cNvPr id="67" name="_s115752"/>
            <p:cNvSpPr/>
            <p:nvPr/>
          </p:nvSpPr>
          <p:spPr>
            <a:xfrm>
              <a:off x="3225960" y="182412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15750"/>
            <p:cNvSpPr/>
            <p:nvPr/>
          </p:nvSpPr>
          <p:spPr>
            <a:xfrm rot="5400000">
              <a:off x="38430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15754"/>
            <p:cNvSpPr/>
            <p:nvPr/>
          </p:nvSpPr>
          <p:spPr>
            <a:xfrm rot="10800000">
              <a:off x="3225600" y="3058920"/>
              <a:ext cx="2624040" cy="262440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15749"/>
            <p:cNvSpPr/>
            <p:nvPr/>
          </p:nvSpPr>
          <p:spPr>
            <a:xfrm rot="16200000">
              <a:off x="26082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15747"/>
            <p:cNvSpPr/>
            <p:nvPr/>
          </p:nvSpPr>
          <p:spPr>
            <a:xfrm>
              <a:off x="2849400" y="206856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15748"/>
            <p:cNvSpPr/>
            <p:nvPr/>
          </p:nvSpPr>
          <p:spPr>
            <a:xfrm>
              <a:off x="5237280" y="4449600"/>
              <a:ext cx="98892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15751"/>
            <p:cNvSpPr/>
            <p:nvPr/>
          </p:nvSpPr>
          <p:spPr>
            <a:xfrm>
              <a:off x="5235480" y="206532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15753"/>
            <p:cNvSpPr/>
            <p:nvPr/>
          </p:nvSpPr>
          <p:spPr>
            <a:xfrm>
              <a:off x="2852640" y="445284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4-01T21:21:22Z</dcterms:modified>
  <cp:revision>78</cp:revision>
  <dc:subject/>
  <dc:title>Diapositiva 1</dc:title>
</cp:coreProperties>
</file>