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9.jpeg" ContentType="image/jpeg"/>
  <Override PartName="/ppt/media/image18.wmf" ContentType="image/x-wmf"/>
  <Override PartName="/ppt/media/image17.wmf" ContentType="image/x-wmf"/>
  <Override PartName="/ppt/media/image14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32000" y="333360"/>
            <a:ext cx="728352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 algn="just"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 algn="just"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"/>
          <p:cNvSpPr/>
          <p:nvPr/>
        </p:nvSpPr>
        <p:spPr>
          <a:xfrm>
            <a:off x="5562720" y="6453360"/>
            <a:ext cx="2819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81080" y="6453360"/>
            <a:ext cx="7162920" cy="228600"/>
          </a:xfrm>
          <a:prstGeom prst="rect">
            <a:avLst/>
          </a:prstGeom>
          <a:gradFill rotWithShape="0">
            <a:gsLst>
              <a:gs pos="0">
                <a:srgbClr val="0000ff">
                  <a:alpha val="50196"/>
                </a:srgbClr>
              </a:gs>
              <a:gs pos="100000">
                <a:srgbClr val="99cc00">
                  <a:alpha val="47058"/>
                </a:srgbClr>
              </a:gs>
            </a:gsLst>
            <a:lin ang="108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050920" y="6453360"/>
            <a:ext cx="676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PABLO GARCÍA S. </a:t>
            </a: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                                  1 DE ABRIL DE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453360"/>
            <a:ext cx="533520" cy="228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DC2E-9151-4505-AAD3-AF4096E6DB02}" type="slidenum">
              <a:rPr b="1" lang="en-US" sz="900" spc="-1" strike="noStrike">
                <a:solidFill>
                  <a:srgbClr val="808080"/>
                </a:solidFill>
                <a:latin typeface="Lucida Sans Unicode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3399"/>
                </a:solidFill>
                <a:latin typeface="Verdana"/>
              </a:rPr>
              <a:t>Temas Actuales en Macroeconomía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497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3399"/>
                </a:solidFill>
                <a:latin typeface="Lucida Sans Unicode"/>
              </a:rPr>
              <a:t>El desafío es encontrar un instrumento válid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425080" cy="3895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11280" y="5805360"/>
            <a:ext cx="684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Lucida Sans Unicode"/>
              </a:rPr>
              <a:t>Territorios y colonias de España y Portugal (1580-1640).www.wikipedia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11280" y="5805360"/>
            <a:ext cx="684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Lucida Sans Unicode"/>
              </a:rPr>
              <a:t>Acemoglu, D. </a:t>
            </a:r>
            <a:r>
              <a:rPr b="1" i="1" lang="es-CL" sz="1000" spc="-1" strike="noStrike">
                <a:solidFill>
                  <a:srgbClr val="000000"/>
                </a:solidFill>
                <a:latin typeface="Lucida Sans Unicode"/>
              </a:rPr>
              <a:t>et al</a:t>
            </a:r>
            <a:r>
              <a:rPr b="1" lang="es-CL" sz="1000" spc="-1" strike="noStrike">
                <a:solidFill>
                  <a:srgbClr val="000000"/>
                </a:solidFill>
                <a:latin typeface="Lucida Sans Unicode"/>
              </a:rPr>
              <a:t>  (200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137440" cy="50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3419280" cy="3960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716360" y="3645000"/>
            <a:ext cx="4032360" cy="2065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468360" y="1557360"/>
            <a:ext cx="8136000" cy="4565520"/>
            <a:chOff x="468360" y="1557360"/>
            <a:chExt cx="8136000" cy="4565520"/>
          </a:xfrm>
        </p:grpSpPr>
        <p:sp>
          <p:nvSpPr>
            <p:cNvPr id="83" name=""/>
            <p:cNvSpPr/>
            <p:nvPr/>
          </p:nvSpPr>
          <p:spPr>
            <a:xfrm>
              <a:off x="6811920" y="1698840"/>
              <a:ext cx="1101960" cy="3854160"/>
            </a:xfrm>
            <a:prstGeom prst="rect">
              <a:avLst/>
            </a:prstGeom>
            <a:solidFill>
              <a:srgbClr val="ccff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468360" y="1557360"/>
              <a:ext cx="8136000" cy="456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333399"/>
                </a:solidFill>
                <a:latin typeface="Lucida Sans Unicode"/>
              </a:rPr>
              <a:t>El quiebre del patrón oro gatilló un </a:t>
            </a:r>
            <a:r>
              <a:rPr b="1" i="1" lang="en-US" sz="2800" spc="-1" strike="noStrike">
                <a:solidFill>
                  <a:srgbClr val="333399"/>
                </a:solidFill>
                <a:latin typeface="Lucida Sans Unicode"/>
              </a:rPr>
              <a:t>incremento sin precedentes en el costo de la vida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Lucida Sans Unicode"/>
              </a:rPr>
              <a:t>Luego de un período de elevada inflación ésta ha vuelto a disminuir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900000" y="1916280"/>
            <a:ext cx="6985080" cy="4308480"/>
            <a:chOff x="900000" y="1916280"/>
            <a:chExt cx="6985080" cy="430848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900000" y="1916280"/>
              <a:ext cx="6985080" cy="430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7297560" y="2172240"/>
              <a:ext cx="456120" cy="2250000"/>
            </a:xfrm>
            <a:prstGeom prst="rect">
              <a:avLst/>
            </a:prstGeom>
            <a:solidFill>
              <a:srgbClr val="ff9900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7308720" cy="4397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Lucida Sans Unicode"/>
              </a:rPr>
              <a:t>Fenómeno no solo en EE.UU., también en Chile, a pesar de aum</a:t>
            </a:r>
            <a:r>
              <a:rPr b="1" i="1" lang="en-US" sz="2800" spc="-1" strike="noStrike">
                <a:solidFill>
                  <a:srgbClr val="333399"/>
                </a:solidFill>
                <a:latin typeface="Lucida Sans Unicode"/>
              </a:rPr>
              <a:t>ento reciente.</a:t>
            </a: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156360" y="2781360"/>
            <a:ext cx="2636640" cy="1878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28352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3399"/>
                </a:solidFill>
                <a:latin typeface="Lucida Sans Unicode"/>
              </a:rPr>
              <a:t>La población mundial se ha incrementado 27 veces en 2000 añ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"/>
          <p:cNvSpPr/>
          <p:nvPr/>
        </p:nvSpPr>
        <p:spPr>
          <a:xfrm>
            <a:off x="5292720" y="2212920"/>
            <a:ext cx="1941480" cy="2816640"/>
          </a:xfrm>
          <a:prstGeom prst="upArrow">
            <a:avLst>
              <a:gd name="adj1" fmla="val 75583"/>
              <a:gd name="adj2" fmla="val 3626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El 97% de este aumento se ha producido en los últimos 500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4000" y="1177920"/>
            <a:ext cx="8424720" cy="513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7155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3399"/>
                </a:solidFill>
                <a:latin typeface="Lucida Sans Unicode"/>
              </a:rPr>
              <a:t>El proceso de crecimiento poblacional ha sido altamente no linea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9640" y="1152360"/>
            <a:ext cx="8280360" cy="5214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569080" cy="50385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7155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3399"/>
                </a:solidFill>
                <a:latin typeface="Lucida Sans Unicode"/>
              </a:rPr>
              <a:t>La no-linealidad en el crecimiento del ingreso per-cápita promedio mundial ha sido aún más intens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"/>
          <p:cNvSpPr/>
          <p:nvPr/>
        </p:nvSpPr>
        <p:spPr>
          <a:xfrm>
            <a:off x="4284720" y="4797360"/>
            <a:ext cx="3672000" cy="1081080"/>
          </a:xfrm>
          <a:prstGeom prst="ellipse">
            <a:avLst/>
          </a:prstGeom>
          <a:solidFill>
            <a:srgbClr val="00808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5939280" y="2996280"/>
            <a:ext cx="4105440" cy="1081080"/>
          </a:xfrm>
          <a:prstGeom prst="ellipse">
            <a:avLst/>
          </a:prstGeom>
          <a:solidFill>
            <a:srgbClr val="ff66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4797360"/>
            <a:ext cx="439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ransición demográfica comienza con leve incremento de crecimiento de ingreso per-cápi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3141720"/>
            <a:ext cx="43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sde 1800 aceleración significativa del ingreso per-cápi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7155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3399"/>
                </a:solidFill>
                <a:latin typeface="Lucida Sans Unicode"/>
              </a:rPr>
              <a:t>La dispersión temporal de ingresos per-cápita es similar a su dispersión geográfic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1339920"/>
            <a:ext cx="8280360" cy="5041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3399"/>
                </a:solidFill>
                <a:latin typeface="Lucida Sans Unicode"/>
              </a:rPr>
              <a:t>Objetivo de l</a:t>
            </a:r>
            <a:r>
              <a:rPr b="1" i="1" lang="en-US" sz="2400" spc="-1" strike="noStrike">
                <a:solidFill>
                  <a:srgbClr val="003399"/>
                </a:solidFill>
                <a:latin typeface="Lucida Sans Unicode"/>
              </a:rPr>
              <a:t>a charla</a:t>
            </a:r>
            <a:r>
              <a:rPr b="1" i="1" lang="es-CL" sz="2400" spc="-1" strike="noStrike">
                <a:solidFill>
                  <a:srgbClr val="003399"/>
                </a:solidFill>
                <a:latin typeface="Lucida Sans Unicode"/>
              </a:rPr>
              <a:t>:</a:t>
            </a:r>
            <a:r>
              <a:rPr b="1" lang="es-CL" sz="2400" spc="-1" strike="noStrike">
                <a:solidFill>
                  <a:srgbClr val="003399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Mostrarles que la (macro)economía es una disciplina que vale la pena estudiar, con algunas aplicaciones y metodologías habituales y una discusión so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re algunos temas coyuntural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99"/>
                </a:solidFill>
                <a:latin typeface="Lucida Sans Unicode"/>
              </a:rPr>
              <a:t>Problema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A diferencia de muchas otras disciplinas, tener opiniones sobre (macro)economía es hoy un derecho de toda person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0042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3399"/>
                </a:solidFill>
                <a:latin typeface="Lucida Sans Unicode"/>
              </a:rPr>
              <a:t>Entender determinantes del crecimiento del ingreso en el largo plazo puede ayudar a entender dispersión geográfica actua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700360" y="4149720"/>
                <a:ext cx="33130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X</m:t>
                    </m:r>
                    <m:r>
                      <m:t xml:space="preserve">−</m:t>
                    </m:r>
                    <m:r>
                      <m:t xml:space="preserve">θ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Teo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ía del crecimiento económico I: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converg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El (ln) del ingreso per-cápita converge a una tasa </a:t>
            </a:r>
            <a:r>
              <a:rPr b="0" i="1" lang="el-GR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θ</a:t>
            </a:r>
            <a:r>
              <a:rPr b="0" lang="es-E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hacia la frontera del conocimiento </a:t>
            </a:r>
            <a:r>
              <a:rPr b="0" i="1" lang="es-E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y*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. La trayectoria se ve afectada por variables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0042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3399"/>
                </a:solidFill>
                <a:latin typeface="Lucida Sans Unicode"/>
              </a:rPr>
              <a:t>Entender determinantes del crecimiento del ingreso en el largo plazo puede ayudar a entender dispersión geográfica actua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700360" y="4005360"/>
                <a:ext cx="270036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/>
                        </m:sSup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γZ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λy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Teo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ía del crecimiento económico II: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cambio téc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El (ln) de la frontera crece a una tasa que depende de su mismo nivel y de otras variables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Z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3399"/>
                </a:solidFill>
                <a:latin typeface="Lucida Sans Unicode"/>
              </a:rPr>
              <a:t>El conocimiento y las ideas difieren de otro tipo de bien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8360" y="2421000"/>
          <a:ext cx="4248000" cy="2761920"/>
        </p:xfrm>
        <a:graphic>
          <a:graphicData uri="http://schemas.openxmlformats.org/drawingml/2006/table">
            <a:tbl>
              <a:tblPr/>
              <a:tblGrid>
                <a:gridCol w="1415520"/>
                <a:gridCol w="1416600"/>
                <a:gridCol w="1415880"/>
              </a:tblGrid>
              <a:tr h="88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Tipología de bienes y servic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iv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o Riv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88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xcluye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anza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eguridad públ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o excluye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Tránsito vehicu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Ideas y conoc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5364000" y="1268280"/>
            <a:ext cx="2159280" cy="1295640"/>
          </a:xfrm>
          <a:prstGeom prst="ellipse">
            <a:avLst/>
          </a:prstGeom>
          <a:solidFill>
            <a:srgbClr val="99cc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piedad intelectual para fomentar producción de ideas. Grado eficiente de monopolio difícil de precis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51640" y="3716280"/>
            <a:ext cx="1584360" cy="934920"/>
          </a:xfrm>
          <a:prstGeom prst="ellipse">
            <a:avLst/>
          </a:prstGeom>
          <a:solidFill>
            <a:srgbClr val="ffff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conomías de escala y ámbito en la producción de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rot="5400000">
            <a:off x="4751280" y="2888280"/>
            <a:ext cx="2519280" cy="2016360"/>
          </a:xfrm>
          <a:custGeom>
            <a:avLst/>
            <a:gdLst>
              <a:gd name="textAreaLeft" fmla="*/ 360 w 2519280"/>
              <a:gd name="textAreaRight" fmla="*/ 2520000 w 2519280"/>
              <a:gd name="textAreaTop" fmla="*/ 0 h 2016360"/>
              <a:gd name="textAreaBottom" fmla="*/ 201672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9cc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497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3399"/>
                </a:solidFill>
                <a:latin typeface="Lucida Sans Unicode"/>
              </a:rPr>
              <a:t>La evidencia cualitativamente apoya la teoría: China logra en 30 años lo que Europa occidental logra en +500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7226640" cy="4925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3399"/>
                </a:solidFill>
                <a:latin typeface="Verdana"/>
              </a:rPr>
              <a:t>Temas Actuales en Macroeconomía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Lucida Sans Unicode"/>
              </a:rPr>
              <a:t>Temas:</a:t>
            </a:r>
            <a:r>
              <a:rPr b="1" lang="es-CL" sz="2800" spc="-1" strike="noStrike">
                <a:solidFill>
                  <a:srgbClr val="003399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La crisis sub-pri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stituciones y política monetar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Crecimiento, desarrollo y equida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3399"/>
                </a:solidFill>
                <a:latin typeface="Lucida Sans Unicode"/>
              </a:rPr>
              <a:t>Implicancias (1): de vuelta a la Gran Depresión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437000"/>
            <a:ext cx="82296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Algo hemos aprendi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Políticas contracíc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icas y no procíc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lexibilidad cambiaria y abandono del patrón oro (“una reliquia bárbar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6840360" cy="32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Implicancias (2): de vuelta a los setenta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581360"/>
            <a:ext cx="8229600" cy="15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Muchas semejanz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Consecuencias de una guerra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 debilidad del dólar, shock petrol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91200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Implicancias (2): de vuelta a los setenta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5013360"/>
            <a:ext cx="82296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ran amenaza hoy no se ve: vínculo entre precio del petróleo e inf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551640" cy="4262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19280" y="1268280"/>
            <a:ext cx="2663640" cy="352908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80000" y="1125360"/>
            <a:ext cx="2664000" cy="352908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Implicancias (2): de vuelta a los setenta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5013360"/>
            <a:ext cx="82296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spués de los setenta vinieron los och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345440" cy="37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Lucida Sans Unicode"/>
              </a:rPr>
              <a:t>Temas:</a:t>
            </a:r>
            <a:r>
              <a:rPr b="1" lang="es-CL" sz="2800" spc="-1" strike="noStrike">
                <a:solidFill>
                  <a:srgbClr val="003399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La crisis sub-pri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stituciones y política monetar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Crecimiento, desarrollo y equida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497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3399"/>
                </a:solidFill>
                <a:latin typeface="Lucida Sans Unicode"/>
              </a:rPr>
              <a:t>Entre las instituciones y el desempeño económico existe doble causalida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1280" y="3141720"/>
            <a:ext cx="1942920" cy="1401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72360" y="3141720"/>
            <a:ext cx="1942920" cy="1401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492360" y="1700280"/>
            <a:ext cx="2068560" cy="2222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3492360" y="4149720"/>
            <a:ext cx="2068560" cy="222264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2608200" y="1824120"/>
            <a:ext cx="3858840" cy="3859200"/>
            <a:chOff x="2608200" y="1824120"/>
            <a:chExt cx="3858840" cy="3859200"/>
          </a:xfrm>
        </p:grpSpPr>
        <p:sp>
          <p:nvSpPr>
            <p:cNvPr id="67" name="_s115752"/>
            <p:cNvSpPr/>
            <p:nvPr/>
          </p:nvSpPr>
          <p:spPr>
            <a:xfrm>
              <a:off x="3225960" y="1824120"/>
              <a:ext cx="2624040" cy="2624040"/>
            </a:xfrm>
            <a:custGeom>
              <a:avLst/>
              <a:gdLst>
                <a:gd name="textAreaLeft" fmla="*/ 0 w 2624040"/>
                <a:gd name="textAreaRight" fmla="*/ 2624400 w 2624040"/>
                <a:gd name="textAreaTop" fmla="*/ 0 h 2624040"/>
                <a:gd name="textAreaBottom" fmla="*/ 2624400 h 26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15750"/>
            <p:cNvSpPr/>
            <p:nvPr/>
          </p:nvSpPr>
          <p:spPr>
            <a:xfrm rot="5400000">
              <a:off x="3843000" y="2441160"/>
              <a:ext cx="2624040" cy="2624040"/>
            </a:xfrm>
            <a:custGeom>
              <a:avLst/>
              <a:gdLst>
                <a:gd name="textAreaLeft" fmla="*/ 0 w 2624040"/>
                <a:gd name="textAreaRight" fmla="*/ 2624400 w 2624040"/>
                <a:gd name="textAreaTop" fmla="*/ 0 h 2624040"/>
                <a:gd name="textAreaBottom" fmla="*/ 2624400 h 26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15754"/>
            <p:cNvSpPr/>
            <p:nvPr/>
          </p:nvSpPr>
          <p:spPr>
            <a:xfrm rot="10800000">
              <a:off x="3225600" y="3058920"/>
              <a:ext cx="2624040" cy="2624400"/>
            </a:xfrm>
            <a:custGeom>
              <a:avLst/>
              <a:gdLst>
                <a:gd name="textAreaLeft" fmla="*/ 0 w 2624040"/>
                <a:gd name="textAreaRight" fmla="*/ 2624400 w 2624040"/>
                <a:gd name="textAreaTop" fmla="*/ 0 h 2624400"/>
                <a:gd name="textAreaBottom" fmla="*/ 2624760 h 262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15749"/>
            <p:cNvSpPr/>
            <p:nvPr/>
          </p:nvSpPr>
          <p:spPr>
            <a:xfrm rot="16200000">
              <a:off x="2608200" y="2441160"/>
              <a:ext cx="2624040" cy="2624040"/>
            </a:xfrm>
            <a:custGeom>
              <a:avLst/>
              <a:gdLst>
                <a:gd name="textAreaLeft" fmla="*/ 0 w 2624040"/>
                <a:gd name="textAreaRight" fmla="*/ 2624400 w 2624040"/>
                <a:gd name="textAreaTop" fmla="*/ 0 h 2624040"/>
                <a:gd name="textAreaBottom" fmla="*/ 2624400 h 26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15747"/>
            <p:cNvSpPr/>
            <p:nvPr/>
          </p:nvSpPr>
          <p:spPr>
            <a:xfrm>
              <a:off x="2849400" y="2068560"/>
              <a:ext cx="989280" cy="9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15748"/>
            <p:cNvSpPr/>
            <p:nvPr/>
          </p:nvSpPr>
          <p:spPr>
            <a:xfrm>
              <a:off x="5237280" y="4449600"/>
              <a:ext cx="988920" cy="98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15751"/>
            <p:cNvSpPr/>
            <p:nvPr/>
          </p:nvSpPr>
          <p:spPr>
            <a:xfrm>
              <a:off x="5235480" y="2065320"/>
              <a:ext cx="989280" cy="9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15753"/>
            <p:cNvSpPr/>
            <p:nvPr/>
          </p:nvSpPr>
          <p:spPr>
            <a:xfrm>
              <a:off x="2852640" y="4452840"/>
              <a:ext cx="989280" cy="9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3:47:09Z</dcterms:created>
  <dc:creator>M. Soledad Gallardo G.</dc:creator>
  <dc:description/>
  <dc:language>en-US</dc:language>
  <cp:lastModifiedBy>BCCH</cp:lastModifiedBy>
  <dcterms:modified xsi:type="dcterms:W3CDTF">2008-04-01T21:21:22Z</dcterms:modified>
  <cp:revision>78</cp:revision>
  <dc:subject/>
  <dc:title>Diapositiva 1</dc:title>
</cp:coreProperties>
</file>