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5C9D-CFAE-457A-8864-9E84FA3A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7F23-2F90-44D7-8B5F-BD174B68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2328-9793-4D10-992A-04E17F28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BE16-CD27-4927-AD6B-62DB71B7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ACA5-4E89-40F6-A2B8-63F4C2A0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5DAA-4949-4910-AC84-E5295547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6FC9-4148-4FF7-93CF-47918BC8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0FF9-7191-47A1-BA8B-0DD9491A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CB7A-8A9D-43A5-933A-293B8505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D52E-1F30-4723-B35B-40654AAF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C8B5-D791-4B65-A549-7ECE4664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6E0D-ECC4-42F4-B0B4-040AC267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269E-FE8B-4025-B931-65DA3287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92B5-99D6-4163-831F-C3B8B29E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2C65-7581-4B39-A4D8-3BD592B9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4068-0F00-4466-9B61-77009AD9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EE36-4C72-4AA8-A519-32EA84B5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C9C10-3D8F-4F79-ABC5-EE785A46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85DF3-9CAF-4499-9547-A2C270A5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5D548-4AAC-4D2D-AE18-79F76D1D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00D81-022E-4B8F-B6AE-5C22B695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30A0A-9FDE-446F-B3BC-C9D21D13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84E3-773B-4B1F-A436-F7F67E20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022AB-C15C-4F91-9E83-D7D6DC4A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9B513-AD1B-4A3F-855F-8A9C4AC3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92335-C871-4D95-A164-1BC3D260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978D0-D871-42F5-8A4A-6CCE1D10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ADE64-341E-415C-92DE-9599794A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CED56-4B7F-4855-8A4E-BBA32FBF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E3ABC-26C2-490B-BA95-0CE8AD48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4964B-5EB4-42EE-A658-F20386D9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4169C-DB39-4019-948F-274A7BDF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97AE5-F885-4D48-9E8B-76966A0F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8851-5064-41A6-9547-F69D4068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BFD1A-9BDD-45BC-B5D0-7124AAD8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C8553-B892-47BD-ADEB-FDD62F38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F69C1-B86B-40E1-9174-0F19FA65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00EAE-D622-440C-B9D8-594A0142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F1641-D1A8-4B46-B46F-B6314DF5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73352-B2F3-471A-8A22-4B131A5E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679B9-D1F9-4D25-A340-A92CEF0D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624B4-1F97-44FF-A407-24A9363E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98441-7AA8-425D-84FA-3AD0022D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11125-2EF7-4012-9A60-A1034F58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C0CC-506F-49ED-AA67-BC123C4F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945CF-1B2D-45A0-9E11-8AA3E104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5041C-683E-48E0-B2FC-D290B6CC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CBB56-522F-4745-9C55-81DE99D9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9E141-A796-4843-BA32-046D648D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1A6B9-9029-4E71-81B2-4F0E95B3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076C0-83AA-4DF8-BA24-86B305F1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4DD40-01B2-4E46-BBAD-101D2FD8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68C7D-3F76-48DE-A736-189F5FDF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B4419-A1D0-4CD6-8618-D6CA6A6F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26403-A0C7-4D60-AC9C-5E2E93B5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2F8F-1E64-45CE-B0FA-6B6EF222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8D5FD-2D89-44B5-AEFE-09A7A4ED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E667B-9814-4B5E-8E32-91393C39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4A622-C877-4D2F-B770-292BB0BF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44390-934A-4522-AA50-6C4F294E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920D9-2262-4942-88CE-C3E92034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C2378-82E5-4187-87AE-013C090D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EC488-BEDC-42AA-9CCA-312CB34D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5517E-1A4C-4239-A18F-17A3BFA8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BAB0E-D67D-464A-A088-BDADB892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EE9EB-E02A-44AB-9F38-EC31B906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B2AB-4113-431F-80BD-718EE061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1A8F5-C231-428E-8F02-2F07ABF8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40589-5B36-4944-ABC0-B98BFF65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B5E4D-3B0C-4750-A3DC-2C0D90E6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7E03-AF02-4DB5-90BE-188DBBA7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186D-3ADC-41CB-A4FE-B5DE129C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B76D-5E0B-4B45-B474-172EF332D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AB6F-9BCC-454C-8EF8-41B7C5705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9CAF-5694-4905-A11D-9BC9D5FF4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1864-48C5-47C9-B38C-B8E8D160D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1" marL="743040" indent="-28584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2" marL="11430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3" marL="16002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4" marL="20574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145C-34E6-4347-AF0B-BF0EF93F5A20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040" y="414972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5E0D-DB8B-4ECD-B48C-7CE8F3AE1661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sto MT"/>
            </a:endParaRPr>
          </a:p>
          <a:p>
            <a:pPr lvl="2" marL="914400" algn="ctr">
              <a:spcBef>
                <a:spcPts val="601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algn="ctr">
              <a:spcBef>
                <a:spcPts val="4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4" marL="1828800" algn="ctr">
              <a:spcBef>
                <a:spcPts val="4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6040" y="446400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El Capital Humano en la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Estrategia de Innovación de Chile</a:t>
            </a:r>
            <a:endParaRPr b="0" lang="en-US" sz="3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78920" y="5587920"/>
            <a:ext cx="88362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Nicolás Eyzaguirre G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La Estrategia de Innovación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1" name=""/>
          <p:cNvSpPr/>
          <p:nvPr/>
        </p:nvSpPr>
        <p:spPr>
          <a:xfrm>
            <a:off x="420840" y="2568600"/>
            <a:ext cx="850716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La conformación de u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sistema de aprendizaje para toda la vida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, accesible y de calidad, que le permita al país contar con el capital humano que la Economía del Conocimiento demanda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El fortalecimiento de un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plataforma de generación, difusión y aplicación del conocimiento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que se funde en un esfuerzo permanente y robusto de investigación científica y tecnológica coherente con los problemas productivos y sociales del paí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La consolidación de u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sistema empresarial innovador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orientado a la creación de valor como estrategia de competencia en los mercados globale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2" name=""/>
          <p:cNvSpPr/>
          <p:nvPr/>
        </p:nvSpPr>
        <p:spPr>
          <a:xfrm>
            <a:off x="325440" y="1459080"/>
            <a:ext cx="73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Estrategia elaborada por el Consejo de Innovación se funda en tres pilares: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4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s grandes orientaciones del Volumen 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5" name=""/>
          <p:cNvSpPr/>
          <p:nvPr/>
        </p:nvSpPr>
        <p:spPr>
          <a:xfrm>
            <a:off x="482760" y="2049480"/>
            <a:ext cx="8240400" cy="53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vertir en nuestro capital humano es invertir tanto en competitividad como en equidad: fallas de mercado justifican el apoyo públic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 innovación requiere de cambios culturales a nivel de individuos e instituciones (cultura organizacional y sector público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e requiere un gran salto en educación terciari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esgo a favor de la educación técnic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o del Estado con foco en la demanda (estudiantes): créditos y bec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xigencia de calidad de la oferta es requisito para cualquier aporte públic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mación técnica y capacitación van de la mano: competencias laboral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Necesidad de formar masas críticas de capital humano especializado: conocimiento tácit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l tiempo importa: esfuerzo especial de selectividad para responder a requerimientos de sectores con potenci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7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8" name=""/>
          <p:cNvSpPr/>
          <p:nvPr/>
        </p:nvSpPr>
        <p:spPr>
          <a:xfrm>
            <a:off x="436680" y="2068560"/>
            <a:ext cx="854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Conformar un sistema de aprendizaje para toda la vida accesible y de calidad, que le permita al país contar con el capital humano que la Economía del Conocimiento demanda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9" name=""/>
          <p:cNvSpPr/>
          <p:nvPr/>
        </p:nvSpPr>
        <p:spPr>
          <a:xfrm>
            <a:off x="148608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ticulación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0" name=""/>
          <p:cNvSpPr/>
          <p:nvPr/>
        </p:nvSpPr>
        <p:spPr>
          <a:xfrm>
            <a:off x="361332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alidad y pertinenci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1" name=""/>
          <p:cNvSpPr/>
          <p:nvPr/>
        </p:nvSpPr>
        <p:spPr>
          <a:xfrm>
            <a:off x="574056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2" name=""/>
          <p:cNvSpPr/>
          <p:nvPr/>
        </p:nvSpPr>
        <p:spPr>
          <a:xfrm>
            <a:off x="1298520" y="3478320"/>
            <a:ext cx="655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Tres grandes líneas de acción en el capítulo de Capital Humano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3" name=""/>
          <p:cNvSpPr/>
          <p:nvPr/>
        </p:nvSpPr>
        <p:spPr>
          <a:xfrm>
            <a:off x="2263680" y="4989600"/>
            <a:ext cx="58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Ciencia                                             Innovación Empresarial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4" name=""/>
          <p:cNvSpPr/>
          <p:nvPr/>
        </p:nvSpPr>
        <p:spPr>
          <a:xfrm>
            <a:off x="1793880" y="5403960"/>
            <a:ext cx="187956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tación de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5" name=""/>
          <p:cNvSpPr/>
          <p:nvPr/>
        </p:nvSpPr>
        <p:spPr>
          <a:xfrm>
            <a:off x="4441680" y="5416560"/>
            <a:ext cx="187992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estión de la Innovación e I+D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6" name=""/>
          <p:cNvSpPr/>
          <p:nvPr/>
        </p:nvSpPr>
        <p:spPr>
          <a:xfrm>
            <a:off x="1293840" y="4761000"/>
            <a:ext cx="65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7" name=""/>
          <p:cNvSpPr/>
          <p:nvPr/>
        </p:nvSpPr>
        <p:spPr>
          <a:xfrm>
            <a:off x="6477120" y="54100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uster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9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0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ticulación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1" name=""/>
          <p:cNvSpPr/>
          <p:nvPr/>
        </p:nvSpPr>
        <p:spPr>
          <a:xfrm>
            <a:off x="322200" y="2897280"/>
            <a:ext cx="8526600" cy="34257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Consolidar mecanismos de articulación: entre niveles de formación y capacitación, y entre éstas y el mercado laboral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istema de certificación de competencias laborales (con participación del mundo productivo en la definición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rmonizar procesos formativos para dar más flexibilidad al sistema y asegurar competencia entre oferentes de formación. (Ej. Créditos transferibles) 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Reconocimiento del aprendizaje obtenido en instancias no formales (mejora la empleabilidad de los trabajadores y ayuda al proceso de formación continua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3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4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alidad y pertinenci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5" name=""/>
          <p:cNvSpPr/>
          <p:nvPr/>
        </p:nvSpPr>
        <p:spPr>
          <a:xfrm>
            <a:off x="328680" y="2903400"/>
            <a:ext cx="8513640" cy="2965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segurar la calidad y pertinencia de la formación y la capacitación a través de modelos de evaluación que apunten a la medición de resultad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talecer la acreditación de la oferta de pre y post grad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mplementar la acreditación de la formación y capacitación técnicas sobre la base del sistema de certificación de competencias laboral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talecer sistemas de información para orientar y retroalimentar a los actores del sistem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7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8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9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umentar cobertura con foco en el apoyo a la formación terciaria de jóvenes de menores ingresos (en especial técnicos) y en la capacitación de trabajadores de las empresas de menor tamaño relativo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Consolidar el actual sistema de Crédito con Aval del Estado como el principal sistema de financiamiento para la formación técnica y profesion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Perfeccionar cobranza y focalización del Crédito Universitario Solidario y perfeccionar el crédito Corfo (foco en educación continua y postgrados profesionales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Potenciar becas (aranceles y mantención) para quintiles más pobres, ajustando monto de los beneficios (costo de oportunidad y costos de las carreras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Reorientar el apoyo público a la capacitación de acuerdo a las necesidades de los trabajadores, y focalizar la franquicia Sence en pequeñas empres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1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Ciencia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2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tación de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3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segurar una dotación de científicos capaz de abordar los desafíos del paí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umentar aporte público para becas de postgrado (con foco en formación de investigadores), elevando el valor de las becas nacionales e internacionales, exigiendo calidad a la oferta de formación y estimulando la graduación en menos tiemp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stimular y fortalecer la oferta de programas de doctorado nacionales con orientación estratégic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ar la incorporación de investigadores nuevos al sistema y la reinserción tanto en la academia como en las empresas de los nuevos doctor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traer investigadores formados en el extranjero para cubrir brechas coyunturales en áreas prioritari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5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Innovación Empresaria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6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estión de la Innovación e I+D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7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corporar capital humano para la gestión de la innovación y para el desarrollo de I+D en las empres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Poner en marcha un programa de formación en habilidades de gestión de la innovación a través de créditos con garantía estatal u otras formas de apoyo pertinentes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Apoyar con recursos públicos la inserción en las empresas de personal especializado en la gestión de la innovación y en el desarrollo de la I+D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ar la formación de capital humano especializado en Propiedad Intelectu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Desarrollar un sistema de garantías estatales para créditos para financiar la adquisición de activos intangibles, especialmente en empresas de menor tamañ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9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Innovación Empresaria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0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uster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1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El capital humano como plataforma transversal en los sectores prioritari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 gran demanda que emerge es disponer de competencias específicas en la fuerza laboral para cada sector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s hojas de ruta de los ocho clusters estudiados por el Consejo consideran necesidades de los sectores tanto en formación profesional como técnica. Ej. habilidades en inglés para offshoring; técnicos para fruticultura y turismo; técnicos y profesionales (investigadores) para acuicultur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os sectores productivos demandan sistemas de certificación que señalicen en quiénes existen las competencias requeridas y faciliten así la relación entre oferentes y demandantes en el mercado labor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n síntesis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3" name=""/>
          <p:cNvSpPr/>
          <p:nvPr/>
        </p:nvSpPr>
        <p:spPr>
          <a:xfrm>
            <a:off x="297000" y="1433520"/>
            <a:ext cx="854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El problema de la innovación es sistémico y es necesario integrar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4" name=""/>
          <p:cNvSpPr/>
          <p:nvPr/>
        </p:nvSpPr>
        <p:spPr>
          <a:xfrm>
            <a:off x="1268280" y="32050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5" name=""/>
          <p:cNvSpPr/>
          <p:nvPr/>
        </p:nvSpPr>
        <p:spPr>
          <a:xfrm>
            <a:off x="272880" y="4770360"/>
            <a:ext cx="4299120" cy="17924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Más personas con educación terciaria, en especial de técnicos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sto MT"/>
              </a:rPr>
              <a:t>Más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Más trabajadores capacitados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6" name=""/>
          <p:cNvSpPr/>
          <p:nvPr/>
        </p:nvSpPr>
        <p:spPr>
          <a:xfrm>
            <a:off x="5014800" y="4770360"/>
            <a:ext cx="4299120" cy="21700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Demandas específicas de los  sector productiv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Participación de los privados en la definición de perfiles de competencia labora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7" name=""/>
          <p:cNvSpPr/>
          <p:nvPr/>
        </p:nvSpPr>
        <p:spPr>
          <a:xfrm>
            <a:off x="5994360" y="3203640"/>
            <a:ext cx="187956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8" name=""/>
          <p:cNvSpPr/>
          <p:nvPr/>
        </p:nvSpPr>
        <p:spPr>
          <a:xfrm>
            <a:off x="3294000" y="3147840"/>
            <a:ext cx="2554200" cy="914400"/>
          </a:xfrm>
          <a:prstGeom prst="leftRightArrow">
            <a:avLst>
              <a:gd name="adj1" fmla="val 84722"/>
              <a:gd name="adj2" fmla="val 55905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Humano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90520" y="1227240"/>
            <a:ext cx="129384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Calisto MT"/>
              </a:rPr>
              <a:t>“</a:t>
            </a:r>
            <a:endParaRPr b="0" lang="en-US" sz="20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57160" y="2198520"/>
            <a:ext cx="7398000" cy="32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En la era de la competencia y del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28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progreso tecnológico, la clave de la prosperidad vendrá de una fuerza de trabajo creativa, calificada, que sabe producir ideas, bienes y servicios intensivos en conocimiento, empleada en empresas capaces de innovar, de adoptar las tecnologías más modernas y de vender en el mundo entero bienes y servicios perfeccionados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8" name=""/>
          <p:cNvSpPr/>
          <p:nvPr/>
        </p:nvSpPr>
        <p:spPr>
          <a:xfrm rot="10800000">
            <a:off x="5862600" y="3087000"/>
            <a:ext cx="1944720" cy="30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Calisto MT"/>
              </a:rPr>
              <a:t>“</a:t>
            </a:r>
            <a:endParaRPr b="0" lang="en-US" sz="20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9" name=""/>
          <p:cNvSpPr/>
          <p:nvPr/>
        </p:nvSpPr>
        <p:spPr>
          <a:xfrm>
            <a:off x="2259000" y="5977080"/>
            <a:ext cx="67453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 algn="r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alisto MT"/>
              </a:rPr>
              <a:t>Ángel Gurría</a:t>
            </a:r>
            <a:r>
              <a:rPr b="0" i="1" lang="es-ES" sz="2200" spc="-1" strike="noStrike">
                <a:solidFill>
                  <a:srgbClr val="000000"/>
                </a:solidFill>
                <a:latin typeface="Calisto MT"/>
              </a:rPr>
              <a:t>, secretario general de la OCDE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3240" indent="-32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listo MT"/>
              </a:rPr>
              <a:t>mayo de 2007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0" name=""/>
          <p:cNvSpPr/>
          <p:nvPr/>
        </p:nvSpPr>
        <p:spPr>
          <a:xfrm>
            <a:off x="2935440" y="6012000"/>
            <a:ext cx="6002280" cy="0"/>
          </a:xfrm>
          <a:prstGeom prst="line">
            <a:avLst/>
          </a:prstGeom>
          <a:ln cap="sq"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sto MT"/>
              </a:rPr>
              <a:t>Consenso global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Dos tendencias marcan el futur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4280" y="1541160"/>
            <a:ext cx="8628120" cy="30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-184320">
              <a:spcBef>
                <a:spcPts val="601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El avance insoslayable de la globalización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-114120"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Nuevos mercados para exportaciones y nuevos bienes para consumo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-114120"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Nuevos competidores en mercados ya conquistados</a:t>
            </a: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184320" indent="-184320">
              <a:spcBef>
                <a:spcPts val="1800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calidad del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capital humano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, el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conocimiento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y la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innovación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on los nuevos motores de la competitividad y el desarrollo.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Chile requiere más “inspiración”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5" name=""/>
          <p:cNvSpPr/>
          <p:nvPr/>
        </p:nvSpPr>
        <p:spPr>
          <a:xfrm>
            <a:off x="1077840" y="3848040"/>
            <a:ext cx="2413080" cy="2705040"/>
          </a:xfrm>
          <a:prstGeom prst="rect">
            <a:avLst/>
          </a:prstGeom>
          <a:gradFill rotWithShape="0">
            <a:gsLst>
              <a:gs pos="0">
                <a:srgbClr val="dddddd">
                  <a:alpha val="20000"/>
                </a:srgbClr>
              </a:gs>
              <a:gs pos="100000">
                <a:srgbClr val="0019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6" name=""/>
          <p:cNvSpPr/>
          <p:nvPr/>
        </p:nvSpPr>
        <p:spPr>
          <a:xfrm>
            <a:off x="1217520" y="3962520"/>
            <a:ext cx="719280" cy="215892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7" name=""/>
          <p:cNvSpPr/>
          <p:nvPr/>
        </p:nvSpPr>
        <p:spPr>
          <a:xfrm>
            <a:off x="2678040" y="3962520"/>
            <a:ext cx="719280" cy="215892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8" name=""/>
          <p:cNvSpPr/>
          <p:nvPr/>
        </p:nvSpPr>
        <p:spPr>
          <a:xfrm>
            <a:off x="907920" y="3338640"/>
            <a:ext cx="4294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Aporte de la PTF al crecimiento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9" name=""/>
          <p:cNvSpPr/>
          <p:nvPr/>
        </p:nvSpPr>
        <p:spPr>
          <a:xfrm>
            <a:off x="1166760" y="610884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HILE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0" name=""/>
          <p:cNvSpPr/>
          <p:nvPr/>
        </p:nvSpPr>
        <p:spPr>
          <a:xfrm>
            <a:off x="2589120" y="6108840"/>
            <a:ext cx="88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Narrow"/>
              </a:rPr>
              <a:t>Otros países*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1" name=""/>
          <p:cNvSpPr/>
          <p:nvPr/>
        </p:nvSpPr>
        <p:spPr>
          <a:xfrm>
            <a:off x="1077840" y="3822840"/>
            <a:ext cx="241308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2" name=""/>
          <p:cNvSpPr/>
          <p:nvPr/>
        </p:nvSpPr>
        <p:spPr>
          <a:xfrm>
            <a:off x="1065240" y="6591240"/>
            <a:ext cx="241308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3" name=""/>
          <p:cNvSpPr/>
          <p:nvPr/>
        </p:nvSpPr>
        <p:spPr>
          <a:xfrm>
            <a:off x="3648240" y="6381720"/>
            <a:ext cx="47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Narrow"/>
              </a:rPr>
              <a:t>* Bálticos, Europa del Este y países de rápido crecimiento de Asia.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217520" y="5041800"/>
            <a:ext cx="2179440" cy="1087560"/>
            <a:chOff x="1217520" y="5041800"/>
            <a:chExt cx="2179440" cy="1087560"/>
          </a:xfrm>
        </p:grpSpPr>
        <p:sp>
          <p:nvSpPr>
            <p:cNvPr id="265" name=""/>
            <p:cNvSpPr/>
            <p:nvPr/>
          </p:nvSpPr>
          <p:spPr>
            <a:xfrm>
              <a:off x="1217520" y="5626080"/>
              <a:ext cx="718920" cy="503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78040" y="5041800"/>
              <a:ext cx="718920" cy="107964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672000" y="4626000"/>
            <a:ext cx="4925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1800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Según estimaciones de la Economist Intelligence Unit, la PTF explicaría menos de un cuarto del crecimiento proyectado para Chile para el período 2007-2011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buClr>
                <a:srgbClr val="d1800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En países competidores, el aporte de la PTF explicaría entre el 30% y 50% del crecimiento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8" name=""/>
          <p:cNvSpPr/>
          <p:nvPr/>
        </p:nvSpPr>
        <p:spPr>
          <a:xfrm>
            <a:off x="474840" y="1468440"/>
            <a:ext cx="84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El crecimiento de la PTF depende de muchos factores, pero, por sobre todo, de la dinámica y diseminación del conocimiento, del cambio tecnológico, de las capacidades y el esfuerzo de las personas y de la innovación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Brechas que condicionan el crecimient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0" name=""/>
          <p:cNvSpPr/>
          <p:nvPr/>
        </p:nvSpPr>
        <p:spPr>
          <a:xfrm>
            <a:off x="474840" y="1582560"/>
            <a:ext cx="846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Más allá del buen desempeño macroeconómico o el buen nivel de las instituciones y los mercados, Chile muestra importantes debilidades en las áreas claves para el crecimiento de la PTF: educación, innovación, infraestructura y preparación tecnológica</a:t>
            </a:r>
            <a:r>
              <a:rPr b="0" lang="es-MX" sz="2000" spc="-1" strike="noStrike">
                <a:solidFill>
                  <a:srgbClr val="ffffff"/>
                </a:solidFill>
                <a:latin typeface="Calisto MT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1" name=""/>
          <p:cNvSpPr/>
          <p:nvPr/>
        </p:nvSpPr>
        <p:spPr>
          <a:xfrm>
            <a:off x="3252960" y="6562800"/>
            <a:ext cx="344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246480" y="3450960"/>
            <a:ext cx="0" cy="3105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3" name=""/>
          <p:cNvSpPr/>
          <p:nvPr/>
        </p:nvSpPr>
        <p:spPr>
          <a:xfrm>
            <a:off x="5081760" y="6620040"/>
            <a:ext cx="153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osición en el ranking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4" name=""/>
          <p:cNvSpPr/>
          <p:nvPr/>
        </p:nvSpPr>
        <p:spPr>
          <a:xfrm>
            <a:off x="3195000" y="657072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5" name=""/>
          <p:cNvSpPr/>
          <p:nvPr/>
        </p:nvSpPr>
        <p:spPr>
          <a:xfrm>
            <a:off x="6416640" y="657072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6" name=""/>
          <p:cNvSpPr/>
          <p:nvPr/>
        </p:nvSpPr>
        <p:spPr>
          <a:xfrm>
            <a:off x="994680" y="3486240"/>
            <a:ext cx="2268720" cy="31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Macroeconomí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ficiencia Mdo. Trabaj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ofisticación Mdo. Financier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ficiencia Mdo. Biene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stitucione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fraestructur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ofisticación de negocio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d. Superior y Capacitación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Preparación tecnológic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novación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Tamaño del mercad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alud y Ed. Primari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284640" y="5299200"/>
            <a:ext cx="3130560" cy="1212840"/>
            <a:chOff x="3284640" y="5299200"/>
            <a:chExt cx="3130560" cy="1212840"/>
          </a:xfrm>
        </p:grpSpPr>
        <p:sp>
          <p:nvSpPr>
            <p:cNvPr id="278" name=""/>
            <p:cNvSpPr/>
            <p:nvPr/>
          </p:nvSpPr>
          <p:spPr>
            <a:xfrm>
              <a:off x="3284640" y="5299200"/>
              <a:ext cx="150480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84640" y="5551560"/>
              <a:ext cx="150480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84640" y="5797800"/>
              <a:ext cx="1612800" cy="2156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84640" y="6050160"/>
              <a:ext cx="167616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284640" y="6296040"/>
              <a:ext cx="313056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86040" y="53308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84600" y="55771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11680" y="58309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68560" y="60850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7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65720" y="63388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219480" y="3119400"/>
            <a:ext cx="5718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sto MT"/>
              </a:rPr>
              <a:t>Chile en el ranking de Competitividad Global (WEF)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284640" y="3514680"/>
            <a:ext cx="1038240" cy="722160"/>
            <a:chOff x="3284640" y="3514680"/>
            <a:chExt cx="1038240" cy="722160"/>
          </a:xfrm>
        </p:grpSpPr>
        <p:sp>
          <p:nvSpPr>
            <p:cNvPr id="290" name=""/>
            <p:cNvSpPr/>
            <p:nvPr/>
          </p:nvSpPr>
          <p:spPr>
            <a:xfrm>
              <a:off x="3284640" y="3514680"/>
              <a:ext cx="350640" cy="2156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84640" y="3767040"/>
              <a:ext cx="431640" cy="2156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25760" y="354780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81200" y="380664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84640" y="4020840"/>
              <a:ext cx="984240" cy="21600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51360" y="4060440"/>
              <a:ext cx="3715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284640" y="4275000"/>
            <a:ext cx="1120680" cy="981000"/>
            <a:chOff x="3284640" y="4275000"/>
            <a:chExt cx="1120680" cy="981000"/>
          </a:xfrm>
        </p:grpSpPr>
        <p:sp>
          <p:nvSpPr>
            <p:cNvPr id="297" name=""/>
            <p:cNvSpPr/>
            <p:nvPr/>
          </p:nvSpPr>
          <p:spPr>
            <a:xfrm>
              <a:off x="3284640" y="4781160"/>
              <a:ext cx="109224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84640" y="5040000"/>
              <a:ext cx="111744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92560" y="482256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30720" y="50767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84640" y="4275000"/>
              <a:ext cx="1022400" cy="215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03640" y="431460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28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84640" y="4528800"/>
              <a:ext cx="106020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41800" y="456876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327640" y="3925800"/>
            <a:ext cx="36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En 2007 Chile ocupó la posición 27 en el ranking general de competitividad del Foro Económico Mundi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7" name=""/>
          <p:cNvSpPr/>
          <p:nvPr/>
        </p:nvSpPr>
        <p:spPr>
          <a:xfrm>
            <a:off x="417600" y="1454040"/>
            <a:ext cx="8256600" cy="30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Existe pleno consenso en Chile sobre la urgencia de una reforma profunda en la educación que permita mejorar los niveles de capital humano para responder a los desafíos que nos el futuro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Cobertura y calidad son debilidades ampliamente reconocidas en Chile y deben ser abordadas con urgencia. 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Pero existe también una brecha de financiamiento, que se relaciona con las dos primeras. 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Cobertura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480" y="1383840"/>
            <a:ext cx="8510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800">
              <a:spcBef>
                <a:spcPts val="499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Nivel educacional promedio de nuestra fuerza de trabajo está por debajo de lo que corresponde a nuestro nivel de ingreso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10800">
              <a:spcBef>
                <a:spcPts val="1250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Existe un fuerte déficit de cobertura en educación terciaria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0" name=""/>
          <p:cNvSpPr/>
          <p:nvPr/>
        </p:nvSpPr>
        <p:spPr>
          <a:xfrm>
            <a:off x="1889280" y="6095880"/>
            <a:ext cx="5181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884240" y="3432240"/>
            <a:ext cx="0" cy="265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2" name=""/>
          <p:cNvSpPr/>
          <p:nvPr/>
        </p:nvSpPr>
        <p:spPr>
          <a:xfrm>
            <a:off x="2043000" y="5610240"/>
            <a:ext cx="324000" cy="479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3" name=""/>
          <p:cNvSpPr/>
          <p:nvPr/>
        </p:nvSpPr>
        <p:spPr>
          <a:xfrm>
            <a:off x="2911320" y="5175360"/>
            <a:ext cx="324000" cy="9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4" name=""/>
          <p:cNvSpPr/>
          <p:nvPr/>
        </p:nvSpPr>
        <p:spPr>
          <a:xfrm>
            <a:off x="3751200" y="5479920"/>
            <a:ext cx="324000" cy="609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5" name=""/>
          <p:cNvSpPr/>
          <p:nvPr/>
        </p:nvSpPr>
        <p:spPr>
          <a:xfrm>
            <a:off x="4589640" y="5407200"/>
            <a:ext cx="323640" cy="682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6" name=""/>
          <p:cNvSpPr/>
          <p:nvPr/>
        </p:nvSpPr>
        <p:spPr>
          <a:xfrm>
            <a:off x="5415120" y="5479920"/>
            <a:ext cx="323640" cy="609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7" name=""/>
          <p:cNvSpPr/>
          <p:nvPr/>
        </p:nvSpPr>
        <p:spPr>
          <a:xfrm>
            <a:off x="6238800" y="5348160"/>
            <a:ext cx="324000" cy="7416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8" name=""/>
          <p:cNvSpPr/>
          <p:nvPr/>
        </p:nvSpPr>
        <p:spPr>
          <a:xfrm>
            <a:off x="2390760" y="5116680"/>
            <a:ext cx="324000" cy="973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9" name=""/>
          <p:cNvSpPr/>
          <p:nvPr/>
        </p:nvSpPr>
        <p:spPr>
          <a:xfrm>
            <a:off x="3259080" y="4071960"/>
            <a:ext cx="324000" cy="2017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0" name=""/>
          <p:cNvSpPr/>
          <p:nvPr/>
        </p:nvSpPr>
        <p:spPr>
          <a:xfrm>
            <a:off x="4097160" y="4622760"/>
            <a:ext cx="324000" cy="1467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1" name=""/>
          <p:cNvSpPr/>
          <p:nvPr/>
        </p:nvSpPr>
        <p:spPr>
          <a:xfrm>
            <a:off x="4937040" y="4754520"/>
            <a:ext cx="324000" cy="1335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2" name=""/>
          <p:cNvSpPr/>
          <p:nvPr/>
        </p:nvSpPr>
        <p:spPr>
          <a:xfrm>
            <a:off x="5761080" y="4362480"/>
            <a:ext cx="323640" cy="1727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3" name=""/>
          <p:cNvSpPr/>
          <p:nvPr/>
        </p:nvSpPr>
        <p:spPr>
          <a:xfrm>
            <a:off x="6585120" y="4433760"/>
            <a:ext cx="323640" cy="165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4" name=""/>
          <p:cNvSpPr/>
          <p:nvPr/>
        </p:nvSpPr>
        <p:spPr>
          <a:xfrm>
            <a:off x="1778040" y="2909880"/>
            <a:ext cx="5546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Porcentaje de matrícula en educación terciari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960560" y="3479760"/>
            <a:ext cx="1131840" cy="338040"/>
            <a:chOff x="1960560" y="3479760"/>
            <a:chExt cx="1131840" cy="338040"/>
          </a:xfrm>
        </p:grpSpPr>
        <p:sp>
          <p:nvSpPr>
            <p:cNvPr id="326" name=""/>
            <p:cNvSpPr/>
            <p:nvPr/>
          </p:nvSpPr>
          <p:spPr>
            <a:xfrm>
              <a:off x="2193840" y="3483000"/>
              <a:ext cx="290520" cy="1364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62120" y="3479760"/>
              <a:ext cx="290520" cy="1364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60560" y="3602160"/>
              <a:ext cx="1131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991  2004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1846440" y="6172200"/>
            <a:ext cx="5224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Chile           Corea        Estonia        Irlanda       Letonia      Lituani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990800" y="5211720"/>
            <a:ext cx="4630680" cy="628920"/>
            <a:chOff x="1990800" y="5211720"/>
            <a:chExt cx="4630680" cy="628920"/>
          </a:xfrm>
        </p:grpSpPr>
        <p:sp>
          <p:nvSpPr>
            <p:cNvPr id="331" name=""/>
            <p:cNvSpPr/>
            <p:nvPr/>
          </p:nvSpPr>
          <p:spPr>
            <a:xfrm>
              <a:off x="1990800" y="560088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68480" y="52117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3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706920" y="548784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25920" y="54403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64000" y="549756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92720" y="53928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344680" y="4087800"/>
            <a:ext cx="4619520" cy="1287360"/>
            <a:chOff x="2344680" y="4087800"/>
            <a:chExt cx="4619520" cy="1287360"/>
          </a:xfrm>
        </p:grpSpPr>
        <p:sp>
          <p:nvSpPr>
            <p:cNvPr id="338" name=""/>
            <p:cNvSpPr/>
            <p:nvPr/>
          </p:nvSpPr>
          <p:spPr>
            <a:xfrm>
              <a:off x="2344680" y="51354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92480" y="40878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8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49640" y="464976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65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69000" y="477360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97360" y="43927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35800" y="447840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384200" y="3321000"/>
            <a:ext cx="7336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Calidad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98600" y="1444680"/>
            <a:ext cx="76881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Sólo es posible dar un gran salto en educación terciaria (técnica y universitaria) si se eleva la calidad de la educación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7" name=""/>
          <p:cNvSpPr/>
          <p:nvPr/>
        </p:nvSpPr>
        <p:spPr>
          <a:xfrm>
            <a:off x="1335240" y="6365880"/>
            <a:ext cx="7673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Brechas similares de desempeño se observan en las pruebas de Matemáticas y Ciencias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8" name=""/>
          <p:cNvSpPr/>
          <p:nvPr/>
        </p:nvSpPr>
        <p:spPr>
          <a:xfrm>
            <a:off x="1257480" y="2597040"/>
            <a:ext cx="3987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Resultados Prueba PISA y PIB per cápit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(Comprensión Lectora)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9" name=""/>
          <p:cNvSpPr/>
          <p:nvPr/>
        </p:nvSpPr>
        <p:spPr>
          <a:xfrm>
            <a:off x="1457280" y="5176800"/>
            <a:ext cx="556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0" name=""/>
          <p:cNvSpPr/>
          <p:nvPr/>
        </p:nvSpPr>
        <p:spPr>
          <a:xfrm>
            <a:off x="1444680" y="3373560"/>
            <a:ext cx="0" cy="180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984960" y="3127320"/>
            <a:ext cx="595080" cy="2095200"/>
            <a:chOff x="984960" y="3127320"/>
            <a:chExt cx="595080" cy="2095200"/>
          </a:xfrm>
        </p:grpSpPr>
        <p:sp>
          <p:nvSpPr>
            <p:cNvPr id="352" name=""/>
            <p:cNvSpPr/>
            <p:nvPr/>
          </p:nvSpPr>
          <p:spPr>
            <a:xfrm>
              <a:off x="1097280" y="50068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97280" y="449100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45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97280" y="39574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97280" y="341136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5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84960" y="3127320"/>
              <a:ext cx="595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Puntos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412640" y="5214960"/>
            <a:ext cx="5685120" cy="215640"/>
            <a:chOff x="1412640" y="5214960"/>
            <a:chExt cx="5685120" cy="215640"/>
          </a:xfrm>
        </p:grpSpPr>
        <p:sp>
          <p:nvSpPr>
            <p:cNvPr id="358" name=""/>
            <p:cNvSpPr/>
            <p:nvPr/>
          </p:nvSpPr>
          <p:spPr>
            <a:xfrm>
              <a:off x="1412640" y="5214960"/>
              <a:ext cx="50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7696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0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5964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4268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20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2536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2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727360" y="4732200"/>
            <a:ext cx="330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4" name=""/>
          <p:cNvSpPr/>
          <p:nvPr/>
        </p:nvSpPr>
        <p:spPr>
          <a:xfrm>
            <a:off x="7111800" y="508320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IB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5" name=""/>
          <p:cNvSpPr/>
          <p:nvPr/>
        </p:nvSpPr>
        <p:spPr>
          <a:xfrm>
            <a:off x="3413160" y="4618080"/>
            <a:ext cx="622440" cy="228600"/>
          </a:xfrm>
          <a:prstGeom prst="borderCallout2">
            <a:avLst>
              <a:gd name="adj1" fmla="val 18750"/>
              <a:gd name="adj2" fmla="val -8333"/>
              <a:gd name="adj3" fmla="val 50000"/>
              <a:gd name="adj4" fmla="val -46939"/>
              <a:gd name="adj5" fmla="val 133333"/>
              <a:gd name="adj6" fmla="val -8367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6" name=""/>
          <p:cNvSpPr/>
          <p:nvPr/>
        </p:nvSpPr>
        <p:spPr>
          <a:xfrm>
            <a:off x="2803680" y="4951440"/>
            <a:ext cx="88920" cy="88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865600" y="5621400"/>
            <a:ext cx="4487760" cy="550800"/>
            <a:chOff x="2865600" y="5621400"/>
            <a:chExt cx="4487760" cy="550800"/>
          </a:xfrm>
        </p:grpSpPr>
        <p:sp>
          <p:nvSpPr>
            <p:cNvPr id="368" name=""/>
            <p:cNvSpPr/>
            <p:nvPr/>
          </p:nvSpPr>
          <p:spPr>
            <a:xfrm>
              <a:off x="2905200" y="5621400"/>
              <a:ext cx="4448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Austral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Canadá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Core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Dinamarc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Finlandi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Leton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Nva. Zeland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Suec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Tailand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Tendencia promedio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08440" y="5716440"/>
              <a:ext cx="76320" cy="7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08440" y="5867280"/>
              <a:ext cx="76320" cy="763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05360" y="571500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05360" y="586116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98720" y="571500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98720" y="5867280"/>
              <a:ext cx="7632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65600" y="5708520"/>
              <a:ext cx="7596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65600" y="5861160"/>
              <a:ext cx="7596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65600" y="6013440"/>
              <a:ext cx="75960" cy="7632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56080" y="6059520"/>
              <a:ext cx="52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1847880" y="3508200"/>
            <a:ext cx="4670280" cy="1420920"/>
            <a:chOff x="1847880" y="3508200"/>
            <a:chExt cx="4670280" cy="1420920"/>
          </a:xfrm>
        </p:grpSpPr>
        <p:sp>
          <p:nvSpPr>
            <p:cNvPr id="380" name=""/>
            <p:cNvSpPr/>
            <p:nvPr/>
          </p:nvSpPr>
          <p:spPr>
            <a:xfrm>
              <a:off x="1971720" y="4452840"/>
              <a:ext cx="7632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00480" y="4087800"/>
              <a:ext cx="7596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25880" y="3720960"/>
              <a:ext cx="76320" cy="7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94240" y="3625920"/>
              <a:ext cx="76320" cy="75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70480" y="3697200"/>
              <a:ext cx="75960" cy="763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726080" y="3768840"/>
              <a:ext cx="7596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40480" y="3817800"/>
              <a:ext cx="7596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70520" y="38336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26080" y="350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16520" y="3532320"/>
              <a:ext cx="7632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53120" y="363996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51480" y="370368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86400" y="402912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42200" y="4102200"/>
              <a:ext cx="7596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47880" y="4749840"/>
              <a:ext cx="76320" cy="7632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63880" y="4853160"/>
              <a:ext cx="75960" cy="7596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96" name=""/>
          <p:cNvSpPr/>
          <p:nvPr/>
        </p:nvSpPr>
        <p:spPr>
          <a:xfrm flipV="1">
            <a:off x="1909800" y="3665160"/>
            <a:ext cx="4572000" cy="8031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Gast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90680" y="1459080"/>
            <a:ext cx="4703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¿Estamos gastando lo suficiente?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9" name=""/>
          <p:cNvSpPr/>
          <p:nvPr/>
        </p:nvSpPr>
        <p:spPr>
          <a:xfrm>
            <a:off x="1638360" y="5438880"/>
            <a:ext cx="56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0" name=""/>
          <p:cNvSpPr/>
          <p:nvPr/>
        </p:nvSpPr>
        <p:spPr>
          <a:xfrm>
            <a:off x="1638360" y="36226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1" name=""/>
          <p:cNvSpPr/>
          <p:nvPr/>
        </p:nvSpPr>
        <p:spPr>
          <a:xfrm>
            <a:off x="1426320" y="519264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2" name=""/>
          <p:cNvSpPr/>
          <p:nvPr/>
        </p:nvSpPr>
        <p:spPr>
          <a:xfrm>
            <a:off x="1357200" y="471492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3" name=""/>
          <p:cNvSpPr/>
          <p:nvPr/>
        </p:nvSpPr>
        <p:spPr>
          <a:xfrm>
            <a:off x="1357200" y="423216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4" name=""/>
          <p:cNvSpPr/>
          <p:nvPr/>
        </p:nvSpPr>
        <p:spPr>
          <a:xfrm>
            <a:off x="1357200" y="376236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5" name=""/>
          <p:cNvSpPr/>
          <p:nvPr/>
        </p:nvSpPr>
        <p:spPr>
          <a:xfrm>
            <a:off x="539640" y="3649680"/>
            <a:ext cx="77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% del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Ingreso 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6" name=""/>
          <p:cNvSpPr/>
          <p:nvPr/>
        </p:nvSpPr>
        <p:spPr>
          <a:xfrm>
            <a:off x="1896480" y="551988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7" name=""/>
          <p:cNvSpPr/>
          <p:nvPr/>
        </p:nvSpPr>
        <p:spPr>
          <a:xfrm>
            <a:off x="3313080" y="55198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5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8" name=""/>
          <p:cNvSpPr/>
          <p:nvPr/>
        </p:nvSpPr>
        <p:spPr>
          <a:xfrm>
            <a:off x="4983480" y="551988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9" name=""/>
          <p:cNvSpPr/>
          <p:nvPr/>
        </p:nvSpPr>
        <p:spPr>
          <a:xfrm>
            <a:off x="6812280" y="551988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5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0" name=""/>
          <p:cNvSpPr/>
          <p:nvPr/>
        </p:nvSpPr>
        <p:spPr>
          <a:xfrm>
            <a:off x="7407360" y="537228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IB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1" name=""/>
          <p:cNvSpPr/>
          <p:nvPr/>
        </p:nvSpPr>
        <p:spPr>
          <a:xfrm>
            <a:off x="1474200" y="2932200"/>
            <a:ext cx="529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Gasto público en educación por habitante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en edad escolar (% del PIB per cápita) y PIB per cápit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3056040" y="5942160"/>
            <a:ext cx="4487760" cy="550800"/>
            <a:chOff x="3056040" y="5942160"/>
            <a:chExt cx="4487760" cy="550800"/>
          </a:xfrm>
        </p:grpSpPr>
        <p:sp>
          <p:nvSpPr>
            <p:cNvPr id="413" name=""/>
            <p:cNvSpPr/>
            <p:nvPr/>
          </p:nvSpPr>
          <p:spPr>
            <a:xfrm>
              <a:off x="3095640" y="5942160"/>
              <a:ext cx="4448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China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Core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Eston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Ind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Leton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Lituania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Malas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Tailand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Tendencia promedio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98880" y="6037200"/>
              <a:ext cx="76320" cy="763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98880" y="6188040"/>
              <a:ext cx="76320" cy="76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96160" y="6035760"/>
              <a:ext cx="7596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96160" y="6181560"/>
              <a:ext cx="75960" cy="7632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989520" y="6035760"/>
              <a:ext cx="7596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89520" y="6188040"/>
              <a:ext cx="7596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56040" y="6029280"/>
              <a:ext cx="7596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56040" y="6181560"/>
              <a:ext cx="7596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46880" y="6380280"/>
              <a:ext cx="52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137120" y="4545000"/>
            <a:ext cx="2450880" cy="836640"/>
            <a:chOff x="4137120" y="4545000"/>
            <a:chExt cx="2450880" cy="836640"/>
          </a:xfrm>
        </p:grpSpPr>
        <p:sp>
          <p:nvSpPr>
            <p:cNvPr id="424" name=""/>
            <p:cNvSpPr/>
            <p:nvPr/>
          </p:nvSpPr>
          <p:spPr>
            <a:xfrm flipV="1">
              <a:off x="4168800" y="4854600"/>
              <a:ext cx="1155600" cy="393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37120" y="521028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30640" y="48974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91280" y="48020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386320" y="4840200"/>
              <a:ext cx="4510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rebuchet MS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65920" y="4545000"/>
              <a:ext cx="622080" cy="228600"/>
            </a:xfrm>
            <a:prstGeom prst="borderCallout2">
              <a:avLst>
                <a:gd name="adj1" fmla="val 18750"/>
                <a:gd name="adj2" fmla="val -8333"/>
                <a:gd name="adj3" fmla="val 50000"/>
                <a:gd name="adj4" fmla="val -51787"/>
                <a:gd name="adj5" fmla="val 111111"/>
                <a:gd name="adj6" fmla="val -93879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64200" y="5235480"/>
              <a:ext cx="317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rebuchet MS"/>
                </a:rPr>
                <a:t>1991</a:t>
              </a:r>
              <a:endParaRPr b="0" lang="en-US" sz="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431" name="">
            <a:hlinkClick r:id="rId2" action="ppaction://hlinksldjump"/>
          </p:cNvPr>
          <p:cNvSpPr/>
          <p:nvPr/>
        </p:nvSpPr>
        <p:spPr>
          <a:xfrm>
            <a:off x="235080" y="7256520"/>
            <a:ext cx="276120" cy="276120"/>
          </a:xfrm>
          <a:custGeom>
            <a:avLst/>
            <a:gdLst>
              <a:gd name="textAreaLeft" fmla="*/ 17640 w 276120"/>
              <a:gd name="textAreaRight" fmla="*/ 258480 w 276120"/>
              <a:gd name="textAreaTop" fmla="*/ 17640 h 276120"/>
              <a:gd name="textAreaBottom" fmla="*/ 25848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a0e2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293920" y="4118040"/>
            <a:ext cx="4889520" cy="9698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276640" y="3922560"/>
            <a:ext cx="4986000" cy="1444680"/>
            <a:chOff x="2276640" y="3922560"/>
            <a:chExt cx="4986000" cy="1444680"/>
          </a:xfrm>
        </p:grpSpPr>
        <p:sp>
          <p:nvSpPr>
            <p:cNvPr id="434" name=""/>
            <p:cNvSpPr/>
            <p:nvPr/>
          </p:nvSpPr>
          <p:spPr>
            <a:xfrm>
              <a:off x="7186680" y="4668840"/>
              <a:ext cx="7596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2276640" y="3922560"/>
              <a:ext cx="3781440" cy="1444680"/>
              <a:chOff x="2276640" y="3922560"/>
              <a:chExt cx="3781440" cy="1444680"/>
            </a:xfrm>
          </p:grpSpPr>
          <p:sp>
            <p:nvSpPr>
              <p:cNvPr id="436" name=""/>
              <p:cNvSpPr/>
              <p:nvPr/>
            </p:nvSpPr>
            <p:spPr>
              <a:xfrm>
                <a:off x="2276640" y="5105520"/>
                <a:ext cx="75960" cy="75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514600" y="4962600"/>
                <a:ext cx="76320" cy="75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268880" y="4033800"/>
                <a:ext cx="75960" cy="76320"/>
              </a:xfrm>
              <a:prstGeom prst="ellips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26000" y="4305240"/>
                <a:ext cx="76320" cy="76320"/>
              </a:xfrm>
              <a:prstGeom prst="ellips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551480" y="4432320"/>
                <a:ext cx="75960" cy="76320"/>
              </a:xfrm>
              <a:prstGeom prst="ellipse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691080" y="4844880"/>
                <a:ext cx="75960" cy="76320"/>
              </a:xfrm>
              <a:prstGeom prst="ellipse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67080" y="5291280"/>
                <a:ext cx="75960" cy="7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33800" y="520380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869000" y="4608360"/>
                <a:ext cx="75960" cy="763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513320" y="4019400"/>
                <a:ext cx="76320" cy="763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981760" y="3922560"/>
                <a:ext cx="76320" cy="7632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08200" y="5141880"/>
                <a:ext cx="76320" cy="76320"/>
              </a:xfrm>
              <a:prstGeom prst="ellips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097160" y="4608360"/>
                <a:ext cx="76320" cy="76320"/>
              </a:xfrm>
              <a:prstGeom prst="ellips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722160" y="1924200"/>
            <a:ext cx="825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Las cifras de gasto total o gasto por estudiante pueden ser engañosas..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9:33:31Z</dcterms:created>
  <dc:creator>Informática</dc:creator>
  <dc:description/>
  <dc:language>en-US</dc:language>
  <cp:lastModifiedBy>alumno</cp:lastModifiedBy>
  <dcterms:modified xsi:type="dcterms:W3CDTF">2008-05-16T19:56:00Z</dcterms:modified>
  <cp:revision>40</cp:revision>
  <dc:subject/>
  <dc:title>El Capital Humano en la  Estrategia de Innovación de Chile</dc:title>
</cp:coreProperties>
</file>