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CD52-681E-4B44-A1C0-84252DE1F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F568-3895-49C3-9C1E-ED6569ADF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5305-8DE8-48E7-88A7-EF2BF4924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98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0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528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98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0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AC4E-8861-4E35-98D1-5B47EEF95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14E8B-6A72-4957-851D-9BBA4B934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06FEE-CC35-45EF-95F7-EC0C62722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B9E18-0D1C-4A8C-B731-A9C69580F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A8F34-7427-460B-A638-CF43BD380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F704D-FF1F-41B8-802E-F555A9FCB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95280" y="476280"/>
            <a:ext cx="835344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09198-03BE-47E5-83A5-DAA2E3A63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ADB71-B47F-41C0-A54C-C34C32F26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19C0-499A-4FEC-B225-DC415FC74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728C1-5B95-426D-BD3B-F5E39A6E7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1E188-3D56-44F1-8BAE-BFD82D941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7E2B0-B030-4B32-9192-D10AA1F15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D5236-C80C-4A11-B822-F4429DC75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198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440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9528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198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440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A6C2E-C755-4563-8223-C6DDD8CF2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1D7D2-003F-44C6-A90C-A80F84399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457C7-1C2A-4C23-BD64-3A953EDD6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93433-9D2E-4408-B1B1-FDE70FCB7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A1C00-95E6-4180-AA48-43A68AF80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0DD9A-4758-45DD-AA7E-F40438459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FC00-8E99-45A1-B23C-E4B503708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395280" y="476280"/>
            <a:ext cx="835344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51CA5-F26F-4AFE-98A9-0ECF4A9C7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1C321-B4AF-49A5-97DE-57D480E17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A3666-1993-4581-A0D6-D040A30BD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E475F-C45D-4FBB-8309-C440EC0EB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71D99-21A3-4DAD-BB1E-514ECBA84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39C4D-464C-400C-A96C-6C39C2FDD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198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440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39528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198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440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F98E3-C713-4CB7-95B3-AB4C1C511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D4CE8-BF93-4FCA-8135-EBDC10019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B31AC-937C-4CBE-B6F2-69C6CBC9E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9F8DF-9D7F-4D86-8CF2-D294DD20E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A05C-EC1F-4CE0-A993-1D33FD6C6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D6417-A4CD-4A53-A80C-413266123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A2B2D-AA64-44EC-B378-CB9D906B5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395280" y="476280"/>
            <a:ext cx="835344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AC29E-E921-4E78-AFD7-CA34DCA2A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87D64-671F-42FF-A27A-FD9B90EC7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ED876-5551-48ED-91CA-DC594789F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A4AF5-367D-4BAF-A234-21792730B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51B5E-652A-46EB-A37C-B64D788E2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BD17C-32DF-4136-9709-AC8AD2C8F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198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440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39528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198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440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0D04A-02F4-4759-9E8D-E30CE02D3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E477DD-9C08-45A3-8461-145E3558E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E746-175B-4ADC-A671-377C44680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5683E0-6D91-4040-91C8-3E2E6C618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AD0B34-61C1-4FA4-9502-31FFA55D1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70437F-C9CA-4E1D-B69B-1769E714F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F7BBA6-BF1A-4A8E-801E-855D87A2A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395280" y="476280"/>
            <a:ext cx="835344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5CC014-1DFA-4E53-A086-09E1F7EA5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70F589-F194-4C42-8358-5C36AAF1C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176ABF-3566-4A14-B0F5-512C5BD52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D955AE-5556-4D02-8E0D-A3B8C68D1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8FA4E-278C-4754-9F82-7C76199F8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E791C1-93C0-4504-A4C7-BE4B85CA4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476280"/>
            <a:ext cx="835344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2241-2FB2-413B-B009-D78BCCE46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198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440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39528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198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440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91BE5-E209-4BC5-B8B7-5E1E12B7D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BA5AFC-8FCD-4D6E-9CD3-3D4732BDA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A628BB-B83E-4BC9-938F-8A9738586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9E8034-D871-4E2D-8F3C-87547C27E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84A337-DE6D-41B0-B8A3-69F928478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8D87F4-3B3B-4459-A6AA-D9C1A7F46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395280" y="476280"/>
            <a:ext cx="835344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E0DB74-A03A-4299-8D5C-A0191EC1A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9C6516-BAB3-415B-9D99-56B505291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94BBEE-E155-4861-8506-3A5A51919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5FBF4D-360C-4957-B23E-190C2ED7F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C73D-CE61-4024-B1D9-B7D6CD8BA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B6C54A-DA10-4162-92A4-B2B88C5B4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0FEA6F-F2CD-4465-A6A5-A8043D96E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198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440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39528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198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440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7CFF11-1833-47F1-9AB8-BBC0B9078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0E23-1B62-4370-A991-69B45E21B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8E60-A042-45E8-875E-DC7CA4762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sto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sto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sto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sto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sto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B2634-6B96-4171-BF17-6DA70AF84B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D1B8E-DEDD-46C9-9E38-F2BCE4FA7C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sto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sto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sto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sto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sto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576A7-A57E-4702-90E2-22AD9A58AB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2880" y="2971800"/>
            <a:ext cx="73137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10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11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12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DC65B-8668-4447-92B5-F941C18435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  <a:p>
            <a:pPr lvl="1" marL="743040" indent="-285840">
              <a:spcBef>
                <a:spcPts val="7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  <a:p>
            <a:pPr lvl="2" marL="1143000" indent="-228600">
              <a:spcBef>
                <a:spcPts val="7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  <a:p>
            <a:pPr lvl="3" marL="1600200" indent="-228600">
              <a:spcBef>
                <a:spcPts val="7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  <a:p>
            <a:pPr lvl="4" marL="2057400" indent="-228600">
              <a:spcBef>
                <a:spcPts val="7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5610C-33DF-4F79-AD41-6D97A8052E98}" type="slidenum">
              <a:rPr b="0" lang="es-E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76040" y="4149720"/>
            <a:ext cx="88567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4FD0B-7A32-4CA8-AC0D-76389E33AFDC}" type="slidenum">
              <a:rPr b="0" lang="es-E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sto MT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listo MT"/>
            </a:endParaRPr>
          </a:p>
          <a:p>
            <a:pPr lvl="2" marL="914400" algn="ctr">
              <a:spcBef>
                <a:spcPts val="601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3" marL="1371600" algn="ctr">
              <a:spcBef>
                <a:spcPts val="4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  <a:p>
            <a:pPr lvl="4" marL="1828800" algn="ctr">
              <a:spcBef>
                <a:spcPts val="4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8.xml"/><Relationship Id="rId3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76040" y="4464000"/>
            <a:ext cx="88567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alisto MT"/>
              </a:rPr>
              <a:t>El Capital Humano en la 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Calisto MT"/>
              </a:rPr>
              <a:t>Estrategia de Innovación de Chile</a:t>
            </a:r>
            <a:endParaRPr b="0" lang="en-US" sz="3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178920" y="5587920"/>
            <a:ext cx="88362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Nicolás Eyzaguirre G.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2544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sto MT"/>
              </a:rPr>
              <a:t>La Estrategia de Innovación</a:t>
            </a: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51" name=""/>
          <p:cNvSpPr/>
          <p:nvPr/>
        </p:nvSpPr>
        <p:spPr>
          <a:xfrm>
            <a:off x="420840" y="2568600"/>
            <a:ext cx="8507160" cy="39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18009"/>
                </a:solidFill>
                <a:latin typeface="Calisto MT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La conformación de un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Calisto MT"/>
              </a:rPr>
              <a:t>sistema de aprendizaje para toda la vida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, accesible y de calidad, que le permita al país contar con el capital humano que la Economía del Conocimiento demanda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18009"/>
                </a:solidFill>
                <a:latin typeface="Calisto MT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El fortalecimiento de una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Calisto MT"/>
              </a:rPr>
              <a:t>plataforma de generación, difusión y aplicación del conocimiento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que se funde en un esfuerzo permanente y robusto de investigación científica y tecnológica coherente con los problemas productivos y sociales del país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18009"/>
                </a:solidFill>
                <a:latin typeface="Calisto MT"/>
              </a:rPr>
              <a:t>3.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La consolidación de un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Calisto MT"/>
              </a:rPr>
              <a:t>sistema empresarial innovador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orientado a la creación de valor como estrategia de competencia en los mercados globales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52" name=""/>
          <p:cNvSpPr/>
          <p:nvPr/>
        </p:nvSpPr>
        <p:spPr>
          <a:xfrm>
            <a:off x="325440" y="1459080"/>
            <a:ext cx="733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La Estrategia elaborada por el Consejo de Innovación se funda en tres pilares: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000"/>
                            </p:stCondLst>
                            <p:childTnLst>
                              <p:par>
                                <p:cTn id="3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500"/>
                            </p:stCondLst>
                            <p:childTnLst>
                              <p:par>
                                <p:cTn id="3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25440" y="476280"/>
            <a:ext cx="881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Estrategia: foco en Capital Humano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54" name=""/>
          <p:cNvSpPr/>
          <p:nvPr/>
        </p:nvSpPr>
        <p:spPr>
          <a:xfrm>
            <a:off x="297000" y="1433520"/>
            <a:ext cx="854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Las grandes orientaciones del Volumen I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55" name=""/>
          <p:cNvSpPr/>
          <p:nvPr/>
        </p:nvSpPr>
        <p:spPr>
          <a:xfrm>
            <a:off x="482760" y="2049480"/>
            <a:ext cx="8240400" cy="53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Invertir en nuestro capital humano es invertir tanto en competitividad como en equidad: fallas de mercado justifican el apoyo público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La innovación requiere de cambios culturales a nivel de individuos e instituciones (cultura organizacional y sector público)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Se requiere un gran salto en educación terciaria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Sesgo a favor de la educación técnica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Apoyo del Estado con foco en la demanda (estudiantes): créditos y becas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Exigencia de calidad de la oferta es requisito para cualquier aporte público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Formación técnica y capacitación van de la mano: competencias laborales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Necesidad de formar masas críticas de capital humano especializado: conocimiento tácito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El tiempo importa: esfuerzo especial de selectividad para responder a requerimientos de sectores con potencial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25440" y="476280"/>
            <a:ext cx="881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Estrategia: foco en Capital Humano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57" name=""/>
          <p:cNvSpPr/>
          <p:nvPr/>
        </p:nvSpPr>
        <p:spPr>
          <a:xfrm>
            <a:off x="297000" y="1433520"/>
            <a:ext cx="854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La propuesta del Volumen II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58" name=""/>
          <p:cNvSpPr/>
          <p:nvPr/>
        </p:nvSpPr>
        <p:spPr>
          <a:xfrm>
            <a:off x="436680" y="2068560"/>
            <a:ext cx="8548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Conformar un sistema de aprendizaje para toda la vida accesible y de calidad, que le permita al país contar con el capital humano que la Economía del Conocimiento demanda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59" name=""/>
          <p:cNvSpPr/>
          <p:nvPr/>
        </p:nvSpPr>
        <p:spPr>
          <a:xfrm>
            <a:off x="1486080" y="391788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rticulación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0" name=""/>
          <p:cNvSpPr/>
          <p:nvPr/>
        </p:nvSpPr>
        <p:spPr>
          <a:xfrm>
            <a:off x="3613320" y="391788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alidad y pertinencia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1" name=""/>
          <p:cNvSpPr/>
          <p:nvPr/>
        </p:nvSpPr>
        <p:spPr>
          <a:xfrm>
            <a:off x="5740560" y="391788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obertura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2" name=""/>
          <p:cNvSpPr/>
          <p:nvPr/>
        </p:nvSpPr>
        <p:spPr>
          <a:xfrm>
            <a:off x="1298520" y="3478320"/>
            <a:ext cx="655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sto MT"/>
              </a:rPr>
              <a:t>Tres grandes líneas de acción en el capítulo de Capital Humano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3" name=""/>
          <p:cNvSpPr/>
          <p:nvPr/>
        </p:nvSpPr>
        <p:spPr>
          <a:xfrm>
            <a:off x="2263680" y="4989600"/>
            <a:ext cx="589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sto MT"/>
              </a:rPr>
              <a:t>Ciencia                                             Innovación Empresarial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4" name=""/>
          <p:cNvSpPr/>
          <p:nvPr/>
        </p:nvSpPr>
        <p:spPr>
          <a:xfrm>
            <a:off x="1793880" y="5403960"/>
            <a:ext cx="1879560" cy="83808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Dotación de científicos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5" name=""/>
          <p:cNvSpPr/>
          <p:nvPr/>
        </p:nvSpPr>
        <p:spPr>
          <a:xfrm>
            <a:off x="4441680" y="5416560"/>
            <a:ext cx="1879920" cy="83808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Gestión de la Innovación e I+D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6" name=""/>
          <p:cNvSpPr/>
          <p:nvPr/>
        </p:nvSpPr>
        <p:spPr>
          <a:xfrm>
            <a:off x="1293840" y="4761000"/>
            <a:ext cx="655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sto MT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7" name=""/>
          <p:cNvSpPr/>
          <p:nvPr/>
        </p:nvSpPr>
        <p:spPr>
          <a:xfrm>
            <a:off x="6477120" y="541008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lusters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25440" y="476280"/>
            <a:ext cx="881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Estrategia: foco en Capital Humano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69" name=""/>
          <p:cNvSpPr/>
          <p:nvPr/>
        </p:nvSpPr>
        <p:spPr>
          <a:xfrm>
            <a:off x="297000" y="1433520"/>
            <a:ext cx="854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La propuesta del Volumen II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0" name=""/>
          <p:cNvSpPr/>
          <p:nvPr/>
        </p:nvSpPr>
        <p:spPr>
          <a:xfrm>
            <a:off x="511200" y="196200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rticulación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1" name=""/>
          <p:cNvSpPr/>
          <p:nvPr/>
        </p:nvSpPr>
        <p:spPr>
          <a:xfrm>
            <a:off x="322200" y="2897280"/>
            <a:ext cx="8526600" cy="342576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Consolidar mecanismos de articulación: entre niveles de formación y capacitación, y entre éstas y el mercado laboral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Sistema de certificación de competencias laborales (con participación del mundo productivo en la definición)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Armonizar procesos formativos para dar más flexibilidad al sistema y asegurar competencia entre oferentes de formación. (Ej. Créditos transferibles) 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Reconocimiento del aprendizaje obtenido en instancias no formales (mejora la empleabilidad de los trabajadores y ayuda al proceso de formación continua)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25440" y="476280"/>
            <a:ext cx="881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Estrategia: foco en Capital Humano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73" name=""/>
          <p:cNvSpPr/>
          <p:nvPr/>
        </p:nvSpPr>
        <p:spPr>
          <a:xfrm>
            <a:off x="297000" y="1433520"/>
            <a:ext cx="854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La propuesta del Volumen II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4" name=""/>
          <p:cNvSpPr/>
          <p:nvPr/>
        </p:nvSpPr>
        <p:spPr>
          <a:xfrm>
            <a:off x="511200" y="196200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alidad y pertinencia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5" name=""/>
          <p:cNvSpPr/>
          <p:nvPr/>
        </p:nvSpPr>
        <p:spPr>
          <a:xfrm>
            <a:off x="328680" y="2903400"/>
            <a:ext cx="8513640" cy="296568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Asegurar la calidad y pertinencia de la formación y la capacitación a través de modelos de evaluación que apunten a la medición de resultados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Fortalecer la acreditación de la oferta de pre y post grado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Implementar la acreditación de la formación y capacitación técnicas sobre la base del sistema de certificación de competencias laborales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Fortalecer sistemas de información para orientar y retroalimentar a los actores del sistema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500"/>
                            </p:stCondLst>
                            <p:childTnLst>
                              <p:par>
                                <p:cTn id="4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25440" y="476280"/>
            <a:ext cx="881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Estrategia: foco en Capital Humano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77" name=""/>
          <p:cNvSpPr/>
          <p:nvPr/>
        </p:nvSpPr>
        <p:spPr>
          <a:xfrm>
            <a:off x="297000" y="1433520"/>
            <a:ext cx="854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La propuesta del Volumen II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8" name=""/>
          <p:cNvSpPr/>
          <p:nvPr/>
        </p:nvSpPr>
        <p:spPr>
          <a:xfrm>
            <a:off x="511200" y="196200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obertura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9" name=""/>
          <p:cNvSpPr/>
          <p:nvPr/>
        </p:nvSpPr>
        <p:spPr>
          <a:xfrm>
            <a:off x="272880" y="2898720"/>
            <a:ext cx="8871120" cy="347652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Aumentar cobertura con foco en el apoyo a la formación terciaria de jóvenes de menores ingresos (en especial técnicos) y en la capacitación de trabajadores de las empresas de menor tamaño relativo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Consolidar el actual sistema de Crédito con Aval del Estado como el principal sistema de financiamiento para la formación técnica y profesional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Perfeccionar cobranza y focalización del Crédito Universitario Solidario y perfeccionar el crédito Corfo (foco en educación continua y postgrados profesionales)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Potenciar becas (aranceles y mantención) para quintiles más pobres, ajustando monto de los beneficios (costo de oportunidad y costos de las carreras)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Reorientar el apoyo público a la capacitación de acuerdo a las necesidades de los trabajadores, y focalizar la franquicia Sence en pequeñas empresas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500"/>
                            </p:stCondLst>
                            <p:childTnLst>
                              <p:par>
                                <p:cTn id="4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25440" y="476280"/>
            <a:ext cx="881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Estrategia: foco en Capital Humano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81" name=""/>
          <p:cNvSpPr/>
          <p:nvPr/>
        </p:nvSpPr>
        <p:spPr>
          <a:xfrm>
            <a:off x="297000" y="1433520"/>
            <a:ext cx="854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La propuesta del Volumen II en Ciencia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82" name=""/>
          <p:cNvSpPr/>
          <p:nvPr/>
        </p:nvSpPr>
        <p:spPr>
          <a:xfrm>
            <a:off x="511200" y="196200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Dotación de científicos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83" name=""/>
          <p:cNvSpPr/>
          <p:nvPr/>
        </p:nvSpPr>
        <p:spPr>
          <a:xfrm>
            <a:off x="272880" y="2898720"/>
            <a:ext cx="8871120" cy="347652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Asegurar una dotación de científicos capaz de abordar los desafíos del país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Aumentar aporte público para becas de postgrado (con foco en formación de investigadores), elevando el valor de las becas nacionales e internacionales, exigiendo calidad a la oferta de formación y estimulando la graduación en menos tiempo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Estimular y fortalecer la oferta de programas de doctorado nacionales con orientación estratégica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Apoyar la incorporación de investigadores nuevos al sistema y la reinserción tanto en la academia como en las empresas de los nuevos doctores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Atraer investigadores formados en el extranjero para cubrir brechas coyunturales en áreas prioritarias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500"/>
                            </p:stCondLst>
                            <p:childTnLst>
                              <p:par>
                                <p:cTn id="5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25440" y="476280"/>
            <a:ext cx="881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Estrategia: foco en Capital Humano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85" name=""/>
          <p:cNvSpPr/>
          <p:nvPr/>
        </p:nvSpPr>
        <p:spPr>
          <a:xfrm>
            <a:off x="297000" y="1433520"/>
            <a:ext cx="854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La propuesta del Volumen II en Innovación Empresaria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86" name=""/>
          <p:cNvSpPr/>
          <p:nvPr/>
        </p:nvSpPr>
        <p:spPr>
          <a:xfrm>
            <a:off x="511200" y="196200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Gestión de la Innovación e I+D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87" name=""/>
          <p:cNvSpPr/>
          <p:nvPr/>
        </p:nvSpPr>
        <p:spPr>
          <a:xfrm>
            <a:off x="272880" y="2898720"/>
            <a:ext cx="8871120" cy="347652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0" tIns="0" bIns="0" anchor="t">
            <a:noAutofit/>
          </a:bodyPr>
          <a:p>
            <a:pPr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Incorporar capital humano para la gestión de la innovación y para el desarrollo de I+D en las empresas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 lvl="1" marL="179280">
              <a:lnSpc>
                <a:spcPct val="100000"/>
              </a:lnSpc>
              <a:spcBef>
                <a:spcPts val="601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sto MT"/>
              </a:rPr>
              <a:t>Poner en marcha un programa de formación en habilidades de gestión de la innovación a través de créditos con garantía estatal u otras formas de apoyo pertinentes.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  <a:p>
            <a:pPr lvl="1" marL="179280">
              <a:lnSpc>
                <a:spcPct val="100000"/>
              </a:lnSpc>
              <a:spcBef>
                <a:spcPts val="601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sto MT"/>
              </a:rPr>
              <a:t>Apoyar con recursos públicos la inserción en las empresas de personal especializado en la gestión de la innovación y en el desarrollo de la I+D.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Apoyar la formación de capital humano especializado en Propiedad Intelectual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Desarrollar un sistema de garantías estatales para créditos para financiar la adquisición de activos intangibles, especialmente en empresas de menor tamaño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25440" y="476280"/>
            <a:ext cx="881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Estrategia: foco en Capital Humano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89" name=""/>
          <p:cNvSpPr/>
          <p:nvPr/>
        </p:nvSpPr>
        <p:spPr>
          <a:xfrm>
            <a:off x="297000" y="1433520"/>
            <a:ext cx="854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La propuesta del Volumen II en Innovación Empresaria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0" name=""/>
          <p:cNvSpPr/>
          <p:nvPr/>
        </p:nvSpPr>
        <p:spPr>
          <a:xfrm>
            <a:off x="511200" y="196200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lusters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1" name=""/>
          <p:cNvSpPr/>
          <p:nvPr/>
        </p:nvSpPr>
        <p:spPr>
          <a:xfrm>
            <a:off x="272880" y="2898720"/>
            <a:ext cx="8871120" cy="347652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El capital humano como plataforma transversal en los sectores prioritarios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La gran demanda que emerge es disponer de competencias específicas en la fuerza laboral para cada sector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Las hojas de ruta de los ocho clusters estudiados por el Consejo consideran necesidades de los sectores tanto en formación profesional como técnica. Ej. habilidades en inglés para offshoring; técnicos para fruticultura y turismo; técnicos y profesionales (investigadores) para acuicultura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Los sectores productivos demandan sistemas de certificación que señalicen en quiénes existen las competencias requeridas y faciliten así la relación entre oferentes y demandantes en el mercado laboral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25440" y="476280"/>
            <a:ext cx="881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En síntesis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93" name=""/>
          <p:cNvSpPr/>
          <p:nvPr/>
        </p:nvSpPr>
        <p:spPr>
          <a:xfrm>
            <a:off x="297000" y="1433520"/>
            <a:ext cx="854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El problema de la innovación es sistémico y es necesario integrar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4" name=""/>
          <p:cNvSpPr/>
          <p:nvPr/>
        </p:nvSpPr>
        <p:spPr>
          <a:xfrm>
            <a:off x="1268280" y="320508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ferta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5" name=""/>
          <p:cNvSpPr/>
          <p:nvPr/>
        </p:nvSpPr>
        <p:spPr>
          <a:xfrm>
            <a:off x="272880" y="4770360"/>
            <a:ext cx="4299120" cy="179244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0" tIns="0" bIns="0" anchor="t">
            <a:noAutofit/>
          </a:bodyPr>
          <a:p>
            <a:pPr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Más personas con educación terciaria, en especial de técnicos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alisto MT"/>
              </a:rPr>
              <a:t>Más científicos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Más trabajadores capacitados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6" name=""/>
          <p:cNvSpPr/>
          <p:nvPr/>
        </p:nvSpPr>
        <p:spPr>
          <a:xfrm>
            <a:off x="5014800" y="4770360"/>
            <a:ext cx="4299120" cy="217008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0" tIns="0" bIns="0" anchor="t">
            <a:noAutofit/>
          </a:bodyPr>
          <a:p>
            <a:pPr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Demandas específicas de los  sector productivos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Participación de los privados en la definición de perfiles de competencia laboral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7" name=""/>
          <p:cNvSpPr/>
          <p:nvPr/>
        </p:nvSpPr>
        <p:spPr>
          <a:xfrm>
            <a:off x="5994360" y="3203640"/>
            <a:ext cx="1879560" cy="83808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Demanda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8" name=""/>
          <p:cNvSpPr/>
          <p:nvPr/>
        </p:nvSpPr>
        <p:spPr>
          <a:xfrm>
            <a:off x="3294000" y="3147840"/>
            <a:ext cx="2554200" cy="914400"/>
          </a:xfrm>
          <a:prstGeom prst="leftRightArrow">
            <a:avLst>
              <a:gd name="adj1" fmla="val 84722"/>
              <a:gd name="adj2" fmla="val 55905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Capital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Humano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90520" y="1227240"/>
            <a:ext cx="129384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ffff"/>
                </a:solidFill>
                <a:latin typeface="Calisto MT"/>
              </a:rPr>
              <a:t>“</a:t>
            </a:r>
            <a:endParaRPr b="0" lang="en-US" sz="20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57160" y="2198520"/>
            <a:ext cx="7398000" cy="32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En la era de la competencia y del 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28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progreso tecnológico, la clave de la prosperidad vendrá de una fuerza de trabajo creativa, calificada, que sabe producir ideas, bienes y servicios intensivos en conocimiento, empleada en empresas capaces de innovar, de adoptar las tecnologías más modernas y de vender en el mundo entero bienes y servicios perfeccionados.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8" name=""/>
          <p:cNvSpPr/>
          <p:nvPr/>
        </p:nvSpPr>
        <p:spPr>
          <a:xfrm rot="10800000">
            <a:off x="5862600" y="3087000"/>
            <a:ext cx="1944720" cy="30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ffff"/>
                </a:solidFill>
                <a:latin typeface="Calisto MT"/>
              </a:rPr>
              <a:t>“</a:t>
            </a:r>
            <a:endParaRPr b="0" lang="en-US" sz="20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49" name=""/>
          <p:cNvSpPr/>
          <p:nvPr/>
        </p:nvSpPr>
        <p:spPr>
          <a:xfrm>
            <a:off x="2259000" y="5977080"/>
            <a:ext cx="674532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240" indent="-3240" algn="r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Calisto MT"/>
              </a:rPr>
              <a:t>Ángel Gurría</a:t>
            </a:r>
            <a:r>
              <a:rPr b="0" i="1" lang="es-ES" sz="2200" spc="-1" strike="noStrike">
                <a:solidFill>
                  <a:srgbClr val="000000"/>
                </a:solidFill>
                <a:latin typeface="Calisto MT"/>
              </a:rPr>
              <a:t>, secretario general de la OCDE</a:t>
            </a:r>
            <a:endParaRPr b="0" lang="en-US" sz="2200" spc="-1" strike="noStrike">
              <a:solidFill>
                <a:srgbClr val="000000"/>
              </a:solidFill>
              <a:latin typeface="Calisto MT"/>
            </a:endParaRPr>
          </a:p>
          <a:p>
            <a:pPr marL="3240" indent="-324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Calisto MT"/>
              </a:rPr>
              <a:t>mayo de 2007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0" name=""/>
          <p:cNvSpPr/>
          <p:nvPr/>
        </p:nvSpPr>
        <p:spPr>
          <a:xfrm>
            <a:off x="2935440" y="6012000"/>
            <a:ext cx="6002280" cy="0"/>
          </a:xfrm>
          <a:prstGeom prst="line">
            <a:avLst/>
          </a:prstGeom>
          <a:ln cap="sq"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1" name=""/>
          <p:cNvSpPr/>
          <p:nvPr/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sto MT"/>
              </a:rPr>
              <a:t>Consenso global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sto MT"/>
              </a:rPr>
              <a:t>Dos tendencias marcan el futuro</a:t>
            </a: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04280" y="1541160"/>
            <a:ext cx="8628120" cy="30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-184320">
              <a:spcBef>
                <a:spcPts val="601"/>
              </a:spcBef>
              <a:buClr>
                <a:srgbClr val="d18009"/>
              </a:buClr>
              <a:buSzPct val="75000"/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El avance insoslayable de la globalización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1" marL="477720" indent="-114120">
              <a:buClr>
                <a:srgbClr val="d18009"/>
              </a:buClr>
              <a:buSzPct val="75000"/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Nuevos mercados para exportaciones y nuevos bienes para consumo</a:t>
            </a: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  <a:p>
            <a:pPr lvl="1" marL="477720" indent="-114120">
              <a:buClr>
                <a:srgbClr val="d18009"/>
              </a:buClr>
              <a:buSzPct val="75000"/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Nuevos competidores en mercados ya conquistados</a:t>
            </a: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1" marL="4777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184320" indent="-184320">
              <a:spcBef>
                <a:spcPts val="1800"/>
              </a:spcBef>
              <a:buClr>
                <a:srgbClr val="d18009"/>
              </a:buClr>
              <a:buSzPct val="75000"/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La calidad del </a:t>
            </a:r>
            <a:r>
              <a:rPr b="1" lang="en-US" sz="2400" spc="-1" strike="noStrike">
                <a:solidFill>
                  <a:srgbClr val="ffffff"/>
                </a:solidFill>
                <a:latin typeface="Calisto MT"/>
              </a:rPr>
              <a:t>capital humano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, el </a:t>
            </a:r>
            <a:r>
              <a:rPr b="1" lang="en-US" sz="2400" spc="-1" strike="noStrike">
                <a:solidFill>
                  <a:srgbClr val="ffffff"/>
                </a:solidFill>
                <a:latin typeface="Calisto MT"/>
              </a:rPr>
              <a:t>conocimiento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y la </a:t>
            </a:r>
            <a:r>
              <a:rPr b="1" lang="en-US" sz="2400" spc="-1" strike="noStrike">
                <a:solidFill>
                  <a:srgbClr val="ffffff"/>
                </a:solidFill>
                <a:latin typeface="Calisto MT"/>
              </a:rPr>
              <a:t>innovación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son los nuevos motores de la competitividad y el desarrollo.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sto MT"/>
              </a:rPr>
              <a:t>Chile requiere más “inspiración”</a:t>
            </a: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5" name=""/>
          <p:cNvSpPr/>
          <p:nvPr/>
        </p:nvSpPr>
        <p:spPr>
          <a:xfrm>
            <a:off x="1077840" y="3848040"/>
            <a:ext cx="2413080" cy="2705040"/>
          </a:xfrm>
          <a:prstGeom prst="rect">
            <a:avLst/>
          </a:prstGeom>
          <a:gradFill rotWithShape="0">
            <a:gsLst>
              <a:gs pos="0">
                <a:srgbClr val="dddddd">
                  <a:alpha val="20000"/>
                </a:srgbClr>
              </a:gs>
              <a:gs pos="100000">
                <a:srgbClr val="0019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6" name=""/>
          <p:cNvSpPr/>
          <p:nvPr/>
        </p:nvSpPr>
        <p:spPr>
          <a:xfrm>
            <a:off x="1217520" y="3962520"/>
            <a:ext cx="719280" cy="2158920"/>
          </a:xfrm>
          <a:prstGeom prst="rect">
            <a:avLst/>
          </a:prstGeom>
          <a:solidFill>
            <a:srgbClr val="dddddd">
              <a:alpha val="15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7" name=""/>
          <p:cNvSpPr/>
          <p:nvPr/>
        </p:nvSpPr>
        <p:spPr>
          <a:xfrm>
            <a:off x="2678040" y="3962520"/>
            <a:ext cx="719280" cy="2158920"/>
          </a:xfrm>
          <a:prstGeom prst="rect">
            <a:avLst/>
          </a:prstGeom>
          <a:solidFill>
            <a:srgbClr val="dddddd">
              <a:alpha val="15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8" name=""/>
          <p:cNvSpPr/>
          <p:nvPr/>
        </p:nvSpPr>
        <p:spPr>
          <a:xfrm>
            <a:off x="907920" y="3338640"/>
            <a:ext cx="4294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Aporte de la PTF al crecimiento</a:t>
            </a:r>
            <a:endParaRPr b="0" lang="en-US" sz="22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9" name=""/>
          <p:cNvSpPr/>
          <p:nvPr/>
        </p:nvSpPr>
        <p:spPr>
          <a:xfrm>
            <a:off x="1166760" y="6108840"/>
            <a:ext cx="78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 Black"/>
              </a:rPr>
              <a:t>CHILE</a:t>
            </a:r>
            <a:endParaRPr b="0" lang="en-US" sz="1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60" name=""/>
          <p:cNvSpPr/>
          <p:nvPr/>
        </p:nvSpPr>
        <p:spPr>
          <a:xfrm>
            <a:off x="2589120" y="6108840"/>
            <a:ext cx="889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 Narrow"/>
              </a:rPr>
              <a:t>Otros países*</a:t>
            </a:r>
            <a:r>
              <a:rPr b="0" lang="en-US" sz="1400" spc="-1" strike="noStrike">
                <a:solidFill>
                  <a:srgbClr val="b2b2b2"/>
                </a:solidFill>
                <a:latin typeface="Arial Black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61" name=""/>
          <p:cNvSpPr/>
          <p:nvPr/>
        </p:nvSpPr>
        <p:spPr>
          <a:xfrm>
            <a:off x="1077840" y="3822840"/>
            <a:ext cx="2413080" cy="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62" name=""/>
          <p:cNvSpPr/>
          <p:nvPr/>
        </p:nvSpPr>
        <p:spPr>
          <a:xfrm>
            <a:off x="1065240" y="6591240"/>
            <a:ext cx="2413080" cy="0"/>
          </a:xfrm>
          <a:prstGeom prst="line">
            <a:avLst/>
          </a:prstGeom>
          <a:ln w="32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63" name=""/>
          <p:cNvSpPr/>
          <p:nvPr/>
        </p:nvSpPr>
        <p:spPr>
          <a:xfrm>
            <a:off x="3648240" y="6381720"/>
            <a:ext cx="477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 Narrow"/>
              </a:rPr>
              <a:t>* Bálticos, Europa del Este y países de rápido crecimiento de Asia.</a:t>
            </a:r>
            <a:endParaRPr b="0" lang="en-US" sz="1400" spc="-1" strike="noStrike">
              <a:solidFill>
                <a:srgbClr val="000000"/>
              </a:solidFill>
              <a:latin typeface="Calisto MT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1217520" y="5041800"/>
            <a:ext cx="2179440" cy="1087560"/>
            <a:chOff x="1217520" y="5041800"/>
            <a:chExt cx="2179440" cy="1087560"/>
          </a:xfrm>
        </p:grpSpPr>
        <p:sp>
          <p:nvSpPr>
            <p:cNvPr id="265" name=""/>
            <p:cNvSpPr/>
            <p:nvPr/>
          </p:nvSpPr>
          <p:spPr>
            <a:xfrm>
              <a:off x="1217520" y="5626080"/>
              <a:ext cx="718920" cy="503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678040" y="5041800"/>
              <a:ext cx="718920" cy="1079640"/>
            </a:xfrm>
            <a:prstGeom prst="rect">
              <a:avLst/>
            </a:prstGeom>
            <a:solidFill>
              <a:srgbClr val="3366cc"/>
            </a:solidFill>
            <a:ln w="93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3672000" y="4626000"/>
            <a:ext cx="4925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d1800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Arial Narrow"/>
              </a:rPr>
              <a:t>Según estimaciones de la Economist Intelligence Unit, la PTF explicaría menos de un cuarto del crecimiento proyectado para Chile para el período 2007-2011.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  <a:p>
            <a:pPr>
              <a:lnSpc>
                <a:spcPct val="100000"/>
              </a:lnSpc>
              <a:buClr>
                <a:srgbClr val="d1800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Arial Narrow"/>
              </a:rPr>
              <a:t>En países competidores, el aporte de la PTF explicaría entre el 30% y 50% del crecimiento.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68" name=""/>
          <p:cNvSpPr/>
          <p:nvPr/>
        </p:nvSpPr>
        <p:spPr>
          <a:xfrm>
            <a:off x="474840" y="1468440"/>
            <a:ext cx="846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Calisto MT"/>
              </a:rPr>
              <a:t>El crecimiento de la PTF depende de muchos factores, pero, por sobre todo, de la dinámica y diseminación del conocimiento, del cambio tecnológico, de las capacidades y el esfuerzo de las personas y de la innovación.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50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sto MT"/>
              </a:rPr>
              <a:t>Brechas que condicionan el crecimiento</a:t>
            </a: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0" name=""/>
          <p:cNvSpPr/>
          <p:nvPr/>
        </p:nvSpPr>
        <p:spPr>
          <a:xfrm>
            <a:off x="474840" y="1582560"/>
            <a:ext cx="8462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Más allá del buen desempeño macroeconómico o el buen nivel de las instituciones y los mercados, Chile muestra importantes debilidades en las áreas claves para el crecimiento de la PTF: educación, innovación, infraestructura y preparación tecnológica</a:t>
            </a:r>
            <a:r>
              <a:rPr b="0" lang="es-MX" sz="2000" spc="-1" strike="noStrike">
                <a:solidFill>
                  <a:srgbClr val="ffffff"/>
                </a:solidFill>
                <a:latin typeface="Calisto MT"/>
              </a:rPr>
              <a:t>.</a:t>
            </a:r>
            <a:r>
              <a:rPr b="0" lang="es-ES" sz="1800" spc="-1" strike="noStrike">
                <a:solidFill>
                  <a:srgbClr val="ffffff"/>
                </a:solidFill>
                <a:latin typeface="Calisto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1" name=""/>
          <p:cNvSpPr/>
          <p:nvPr/>
        </p:nvSpPr>
        <p:spPr>
          <a:xfrm>
            <a:off x="3252960" y="6562800"/>
            <a:ext cx="3441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246480" y="3450960"/>
            <a:ext cx="0" cy="3105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3" name=""/>
          <p:cNvSpPr/>
          <p:nvPr/>
        </p:nvSpPr>
        <p:spPr>
          <a:xfrm>
            <a:off x="5081760" y="6620040"/>
            <a:ext cx="1531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Posición en el ranking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4" name=""/>
          <p:cNvSpPr/>
          <p:nvPr/>
        </p:nvSpPr>
        <p:spPr>
          <a:xfrm>
            <a:off x="3195000" y="6570720"/>
            <a:ext cx="2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5" name=""/>
          <p:cNvSpPr/>
          <p:nvPr/>
        </p:nvSpPr>
        <p:spPr>
          <a:xfrm>
            <a:off x="6416640" y="6570720"/>
            <a:ext cx="3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80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6" name=""/>
          <p:cNvSpPr/>
          <p:nvPr/>
        </p:nvSpPr>
        <p:spPr>
          <a:xfrm>
            <a:off x="994680" y="3486240"/>
            <a:ext cx="2268720" cy="31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Macroeconomía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Eficiencia Mdo. Trabajo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Sofisticación Mdo. Financiero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Eficiencia Mdo. Bienes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Instituciones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Infraestructura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Sofisticación de negocios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Ed. Superior y Capacitación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Preparación tecnológica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Innovación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Tamaño del mercado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Salud y Ed. Primaria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3284640" y="5299200"/>
            <a:ext cx="3130560" cy="1212840"/>
            <a:chOff x="3284640" y="5299200"/>
            <a:chExt cx="3130560" cy="1212840"/>
          </a:xfrm>
        </p:grpSpPr>
        <p:sp>
          <p:nvSpPr>
            <p:cNvPr id="278" name=""/>
            <p:cNvSpPr/>
            <p:nvPr/>
          </p:nvSpPr>
          <p:spPr>
            <a:xfrm>
              <a:off x="3284640" y="5299200"/>
              <a:ext cx="1504800" cy="2160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284640" y="5551560"/>
              <a:ext cx="1504800" cy="2160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284640" y="5797800"/>
              <a:ext cx="1612800" cy="2156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284640" y="6050160"/>
              <a:ext cx="1676160" cy="2160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284640" y="6296040"/>
              <a:ext cx="3130560" cy="2160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86040" y="533088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42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84600" y="557712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42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11680" y="583092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45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768560" y="608508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47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165720" y="633888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70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3219480" y="3119400"/>
            <a:ext cx="57182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sto MT"/>
              </a:rPr>
              <a:t>Chile en el ranking de Competitividad Global (WEF)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3284640" y="3514680"/>
            <a:ext cx="1038240" cy="722160"/>
            <a:chOff x="3284640" y="3514680"/>
            <a:chExt cx="1038240" cy="722160"/>
          </a:xfrm>
        </p:grpSpPr>
        <p:sp>
          <p:nvSpPr>
            <p:cNvPr id="290" name=""/>
            <p:cNvSpPr/>
            <p:nvPr/>
          </p:nvSpPr>
          <p:spPr>
            <a:xfrm>
              <a:off x="3284640" y="3514680"/>
              <a:ext cx="350640" cy="215640"/>
            </a:xfrm>
            <a:prstGeom prst="rect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284640" y="3767040"/>
              <a:ext cx="431640" cy="215640"/>
            </a:xfrm>
            <a:prstGeom prst="rect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425760" y="354780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481200" y="380664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14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284640" y="4020840"/>
              <a:ext cx="984240" cy="216000"/>
            </a:xfrm>
            <a:prstGeom prst="rect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951360" y="4060440"/>
              <a:ext cx="37152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26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3284640" y="4275000"/>
            <a:ext cx="1120680" cy="981000"/>
            <a:chOff x="3284640" y="4275000"/>
            <a:chExt cx="1120680" cy="981000"/>
          </a:xfrm>
        </p:grpSpPr>
        <p:sp>
          <p:nvSpPr>
            <p:cNvPr id="297" name=""/>
            <p:cNvSpPr/>
            <p:nvPr/>
          </p:nvSpPr>
          <p:spPr>
            <a:xfrm>
              <a:off x="3284640" y="4781160"/>
              <a:ext cx="1092240" cy="2160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284640" y="5040000"/>
              <a:ext cx="1117440" cy="2160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192560" y="482256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1968"/>
                  </a:solidFill>
                  <a:latin typeface="Trebuchet MS"/>
                </a:rPr>
                <a:t>31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230720" y="507672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1968"/>
                  </a:solidFill>
                  <a:latin typeface="Trebuchet MS"/>
                </a:rPr>
                <a:t>32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284640" y="4275000"/>
              <a:ext cx="1022400" cy="2156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103640" y="431460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1968"/>
                  </a:solidFill>
                  <a:latin typeface="Trebuchet MS"/>
                </a:rPr>
                <a:t>28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284640" y="4528800"/>
              <a:ext cx="1060200" cy="2160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141800" y="456876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1968"/>
                  </a:solidFill>
                  <a:latin typeface="Trebuchet MS"/>
                </a:rPr>
                <a:t>29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5327640" y="3925800"/>
            <a:ext cx="361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En 2007 Chile ocupó la posición 27 en el ranking general de competitividad del Foro Económico Mundial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2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2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2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sto MT"/>
              </a:rPr>
              <a:t>Tres brechas en Educación</a:t>
            </a: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7" name=""/>
          <p:cNvSpPr/>
          <p:nvPr/>
        </p:nvSpPr>
        <p:spPr>
          <a:xfrm>
            <a:off x="417600" y="1454040"/>
            <a:ext cx="8256600" cy="30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Calisto MT"/>
              </a:rPr>
              <a:t>Existe pleno consenso en Chile sobre la urgencia de una reforma profunda en la educación que permita mejorar los niveles de capital humano para responder a los desafíos que nos el futuro.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Cobertura y calidad son debilidades ampliamente reconocidas en Chile y deben ser abordadas con urgencia. 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Pero existe también una brecha de financiamiento, que se relaciona con las dos primeras. 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sto MT"/>
              </a:rPr>
              <a:t>Tres brechas en Educación: Cobertura</a:t>
            </a: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480" y="1383840"/>
            <a:ext cx="8510400" cy="12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10800">
              <a:spcBef>
                <a:spcPts val="499"/>
              </a:spcBef>
              <a:buClr>
                <a:srgbClr val="d18009"/>
              </a:buClr>
              <a:buSzPct val="75000"/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Nivel educacional promedio de nuestra fuerza de trabajo está por debajo de lo que corresponde a nuestro nivel de ingreso.</a:t>
            </a: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10800">
              <a:spcBef>
                <a:spcPts val="1250"/>
              </a:spcBef>
              <a:buClr>
                <a:srgbClr val="d18009"/>
              </a:buClr>
              <a:buSzPct val="75000"/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Existe un fuerte déficit de cobertura en educación terciaria.</a:t>
            </a: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0" name=""/>
          <p:cNvSpPr/>
          <p:nvPr/>
        </p:nvSpPr>
        <p:spPr>
          <a:xfrm>
            <a:off x="1889280" y="6095880"/>
            <a:ext cx="5181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1884240" y="3432240"/>
            <a:ext cx="0" cy="2658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2" name=""/>
          <p:cNvSpPr/>
          <p:nvPr/>
        </p:nvSpPr>
        <p:spPr>
          <a:xfrm>
            <a:off x="2043000" y="5610240"/>
            <a:ext cx="324000" cy="4795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3" name=""/>
          <p:cNvSpPr/>
          <p:nvPr/>
        </p:nvSpPr>
        <p:spPr>
          <a:xfrm>
            <a:off x="2911320" y="5175360"/>
            <a:ext cx="324000" cy="9144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4" name=""/>
          <p:cNvSpPr/>
          <p:nvPr/>
        </p:nvSpPr>
        <p:spPr>
          <a:xfrm>
            <a:off x="3751200" y="5479920"/>
            <a:ext cx="324000" cy="6098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5" name=""/>
          <p:cNvSpPr/>
          <p:nvPr/>
        </p:nvSpPr>
        <p:spPr>
          <a:xfrm>
            <a:off x="4589640" y="5407200"/>
            <a:ext cx="323640" cy="6825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6" name=""/>
          <p:cNvSpPr/>
          <p:nvPr/>
        </p:nvSpPr>
        <p:spPr>
          <a:xfrm>
            <a:off x="5415120" y="5479920"/>
            <a:ext cx="323640" cy="6098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7" name=""/>
          <p:cNvSpPr/>
          <p:nvPr/>
        </p:nvSpPr>
        <p:spPr>
          <a:xfrm>
            <a:off x="6238800" y="5348160"/>
            <a:ext cx="324000" cy="7416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8" name=""/>
          <p:cNvSpPr/>
          <p:nvPr/>
        </p:nvSpPr>
        <p:spPr>
          <a:xfrm>
            <a:off x="2390760" y="5116680"/>
            <a:ext cx="324000" cy="9730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9" name=""/>
          <p:cNvSpPr/>
          <p:nvPr/>
        </p:nvSpPr>
        <p:spPr>
          <a:xfrm>
            <a:off x="3259080" y="4071960"/>
            <a:ext cx="324000" cy="2017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0" name=""/>
          <p:cNvSpPr/>
          <p:nvPr/>
        </p:nvSpPr>
        <p:spPr>
          <a:xfrm>
            <a:off x="4097160" y="4622760"/>
            <a:ext cx="324000" cy="1467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1" name=""/>
          <p:cNvSpPr/>
          <p:nvPr/>
        </p:nvSpPr>
        <p:spPr>
          <a:xfrm>
            <a:off x="4937040" y="4754520"/>
            <a:ext cx="324000" cy="133524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2" name=""/>
          <p:cNvSpPr/>
          <p:nvPr/>
        </p:nvSpPr>
        <p:spPr>
          <a:xfrm>
            <a:off x="5761080" y="4362480"/>
            <a:ext cx="323640" cy="17272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3" name=""/>
          <p:cNvSpPr/>
          <p:nvPr/>
        </p:nvSpPr>
        <p:spPr>
          <a:xfrm>
            <a:off x="6585120" y="4433760"/>
            <a:ext cx="323640" cy="1656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4" name=""/>
          <p:cNvSpPr/>
          <p:nvPr/>
        </p:nvSpPr>
        <p:spPr>
          <a:xfrm>
            <a:off x="1778040" y="2909880"/>
            <a:ext cx="55465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rebuchet MS"/>
              </a:rPr>
              <a:t>Porcentaje de matrícula en educación terciaria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1960560" y="3479760"/>
            <a:ext cx="1131840" cy="338040"/>
            <a:chOff x="1960560" y="3479760"/>
            <a:chExt cx="1131840" cy="338040"/>
          </a:xfrm>
        </p:grpSpPr>
        <p:sp>
          <p:nvSpPr>
            <p:cNvPr id="326" name=""/>
            <p:cNvSpPr/>
            <p:nvPr/>
          </p:nvSpPr>
          <p:spPr>
            <a:xfrm>
              <a:off x="2193840" y="3483000"/>
              <a:ext cx="290520" cy="13644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562120" y="3479760"/>
              <a:ext cx="290520" cy="1364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960560" y="3602160"/>
              <a:ext cx="1131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1991  2004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1846440" y="6172200"/>
            <a:ext cx="52243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Chile           Corea        Estonia        Irlanda       Letonia      Lituania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1990800" y="5211720"/>
            <a:ext cx="4630680" cy="628920"/>
            <a:chOff x="1990800" y="5211720"/>
            <a:chExt cx="4630680" cy="628920"/>
          </a:xfrm>
        </p:grpSpPr>
        <p:sp>
          <p:nvSpPr>
            <p:cNvPr id="331" name=""/>
            <p:cNvSpPr/>
            <p:nvPr/>
          </p:nvSpPr>
          <p:spPr>
            <a:xfrm>
              <a:off x="1990800" y="5600880"/>
              <a:ext cx="42840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21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868480" y="5211720"/>
              <a:ext cx="42876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39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706920" y="5487840"/>
              <a:ext cx="42840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26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525920" y="5440320"/>
              <a:ext cx="42876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29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364000" y="5497560"/>
              <a:ext cx="42876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26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192720" y="5392800"/>
              <a:ext cx="42876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33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2344680" y="4087800"/>
            <a:ext cx="4619520" cy="1287360"/>
            <a:chOff x="2344680" y="4087800"/>
            <a:chExt cx="4619520" cy="1287360"/>
          </a:xfrm>
        </p:grpSpPr>
        <p:sp>
          <p:nvSpPr>
            <p:cNvPr id="338" name=""/>
            <p:cNvSpPr/>
            <p:nvPr/>
          </p:nvSpPr>
          <p:spPr>
            <a:xfrm>
              <a:off x="2344680" y="5135400"/>
              <a:ext cx="42876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43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192480" y="4087800"/>
              <a:ext cx="42876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89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49640" y="4649760"/>
              <a:ext cx="42876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65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869000" y="4773600"/>
              <a:ext cx="42840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59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697360" y="4392720"/>
              <a:ext cx="42876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76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535800" y="4478400"/>
              <a:ext cx="42840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73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1384200" y="3321000"/>
            <a:ext cx="73368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rebuchet MS"/>
              </a:rPr>
              <a:t>%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9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2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5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8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1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sto MT"/>
              </a:rPr>
              <a:t>Tres brechas en Educación: Calidad</a:t>
            </a: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98600" y="1444680"/>
            <a:ext cx="768816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buClr>
                <a:srgbClr val="d18009"/>
              </a:buClr>
              <a:buSzPct val="75000"/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Sólo es posible dar un gran salto en educación terciaria (técnica y universitaria) si se eleva la calidad de la educación.</a:t>
            </a: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7" name=""/>
          <p:cNvSpPr/>
          <p:nvPr/>
        </p:nvSpPr>
        <p:spPr>
          <a:xfrm>
            <a:off x="1335240" y="6365880"/>
            <a:ext cx="767376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Narrow"/>
              </a:rPr>
              <a:t>Brechas similares de desempeño se observan en las pruebas de Matemáticas y Ciencias.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48" name=""/>
          <p:cNvSpPr/>
          <p:nvPr/>
        </p:nvSpPr>
        <p:spPr>
          <a:xfrm>
            <a:off x="1257480" y="2597040"/>
            <a:ext cx="39877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rebuchet MS"/>
              </a:rPr>
              <a:t>Resultados Prueba PISA y PIB per cápita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(Comprensión Lectora)</a:t>
            </a:r>
            <a:endParaRPr b="0" lang="en-US" sz="1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49" name=""/>
          <p:cNvSpPr/>
          <p:nvPr/>
        </p:nvSpPr>
        <p:spPr>
          <a:xfrm>
            <a:off x="1457280" y="5176800"/>
            <a:ext cx="5562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50" name=""/>
          <p:cNvSpPr/>
          <p:nvPr/>
        </p:nvSpPr>
        <p:spPr>
          <a:xfrm>
            <a:off x="1444680" y="3373560"/>
            <a:ext cx="0" cy="180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984960" y="3127320"/>
            <a:ext cx="595080" cy="2095200"/>
            <a:chOff x="984960" y="3127320"/>
            <a:chExt cx="595080" cy="2095200"/>
          </a:xfrm>
        </p:grpSpPr>
        <p:sp>
          <p:nvSpPr>
            <p:cNvPr id="352" name=""/>
            <p:cNvSpPr/>
            <p:nvPr/>
          </p:nvSpPr>
          <p:spPr>
            <a:xfrm>
              <a:off x="1097280" y="5006880"/>
              <a:ext cx="395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400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097280" y="4491000"/>
              <a:ext cx="395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450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097280" y="3957480"/>
              <a:ext cx="395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500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097280" y="3411360"/>
              <a:ext cx="395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550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984960" y="3127320"/>
              <a:ext cx="595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Puntos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1412640" y="5214960"/>
            <a:ext cx="5685120" cy="215640"/>
            <a:chOff x="1412640" y="5214960"/>
            <a:chExt cx="5685120" cy="215640"/>
          </a:xfrm>
        </p:grpSpPr>
        <p:sp>
          <p:nvSpPr>
            <p:cNvPr id="358" name=""/>
            <p:cNvSpPr/>
            <p:nvPr/>
          </p:nvSpPr>
          <p:spPr>
            <a:xfrm>
              <a:off x="1412640" y="5214960"/>
              <a:ext cx="500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5.000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676960" y="5214960"/>
              <a:ext cx="572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10.000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959640" y="5214960"/>
              <a:ext cx="572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15.000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242680" y="5214960"/>
              <a:ext cx="572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20.000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525360" y="5214960"/>
              <a:ext cx="572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25.000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2727360" y="4732200"/>
            <a:ext cx="3301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64" name=""/>
          <p:cNvSpPr/>
          <p:nvPr/>
        </p:nvSpPr>
        <p:spPr>
          <a:xfrm>
            <a:off x="7111800" y="5083200"/>
            <a:ext cx="77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PIB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per cápita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65" name=""/>
          <p:cNvSpPr/>
          <p:nvPr/>
        </p:nvSpPr>
        <p:spPr>
          <a:xfrm>
            <a:off x="3413160" y="4618080"/>
            <a:ext cx="622440" cy="228600"/>
          </a:xfrm>
          <a:prstGeom prst="borderCallout2">
            <a:avLst>
              <a:gd name="adj1" fmla="val 18750"/>
              <a:gd name="adj2" fmla="val -8333"/>
              <a:gd name="adj3" fmla="val 50000"/>
              <a:gd name="adj4" fmla="val -46939"/>
              <a:gd name="adj5" fmla="val 133333"/>
              <a:gd name="adj6" fmla="val -83671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Chile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66" name=""/>
          <p:cNvSpPr/>
          <p:nvPr/>
        </p:nvSpPr>
        <p:spPr>
          <a:xfrm>
            <a:off x="2803680" y="4951440"/>
            <a:ext cx="88920" cy="88920"/>
          </a:xfrm>
          <a:prstGeom prst="ellipse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2865600" y="5621400"/>
            <a:ext cx="4487760" cy="550800"/>
            <a:chOff x="2865600" y="5621400"/>
            <a:chExt cx="4487760" cy="550800"/>
          </a:xfrm>
        </p:grpSpPr>
        <p:sp>
          <p:nvSpPr>
            <p:cNvPr id="368" name=""/>
            <p:cNvSpPr/>
            <p:nvPr/>
          </p:nvSpPr>
          <p:spPr>
            <a:xfrm>
              <a:off x="2905200" y="5621400"/>
              <a:ext cx="4448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Australia 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Canadá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Corea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     Dinamarca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Finlandia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Letonia 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Nva. Zelanda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     Suecia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Tailandia 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     Tendencia promedio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08440" y="5716440"/>
              <a:ext cx="76320" cy="763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708440" y="5867280"/>
              <a:ext cx="76320" cy="76320"/>
            </a:xfrm>
            <a:prstGeom prst="ellipse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805360" y="5715000"/>
              <a:ext cx="76320" cy="7632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805360" y="5861160"/>
              <a:ext cx="76320" cy="7596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798720" y="5715000"/>
              <a:ext cx="76320" cy="7632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798720" y="5867280"/>
              <a:ext cx="76320" cy="76320"/>
            </a:xfrm>
            <a:prstGeom prst="ellipse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865600" y="5708520"/>
              <a:ext cx="75960" cy="76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865600" y="5861160"/>
              <a:ext cx="75960" cy="7596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865600" y="6013440"/>
              <a:ext cx="75960" cy="76320"/>
            </a:xfrm>
            <a:prstGeom prst="ellipse">
              <a:avLst/>
            </a:prstGeom>
            <a:solidFill>
              <a:srgbClr val="a0e2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356080" y="6059520"/>
              <a:ext cx="52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1847880" y="3508200"/>
            <a:ext cx="4670280" cy="1420920"/>
            <a:chOff x="1847880" y="3508200"/>
            <a:chExt cx="4670280" cy="1420920"/>
          </a:xfrm>
        </p:grpSpPr>
        <p:sp>
          <p:nvSpPr>
            <p:cNvPr id="380" name=""/>
            <p:cNvSpPr/>
            <p:nvPr/>
          </p:nvSpPr>
          <p:spPr>
            <a:xfrm>
              <a:off x="1971720" y="4452840"/>
              <a:ext cx="76320" cy="76320"/>
            </a:xfrm>
            <a:prstGeom prst="ellipse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400480" y="4087800"/>
              <a:ext cx="75960" cy="76320"/>
            </a:xfrm>
            <a:prstGeom prst="ellipse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025880" y="3720960"/>
              <a:ext cx="76320" cy="763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494240" y="3625920"/>
              <a:ext cx="76320" cy="759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470480" y="3697200"/>
              <a:ext cx="75960" cy="76320"/>
            </a:xfrm>
            <a:prstGeom prst="ellipse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726080" y="3768840"/>
              <a:ext cx="75960" cy="75960"/>
            </a:xfrm>
            <a:prstGeom prst="ellipse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640480" y="3817800"/>
              <a:ext cx="75960" cy="7632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870520" y="3833640"/>
              <a:ext cx="76320" cy="7632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626080" y="3508200"/>
              <a:ext cx="76320" cy="7632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816520" y="3532320"/>
              <a:ext cx="76320" cy="7596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153120" y="3639960"/>
              <a:ext cx="76320" cy="7632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351480" y="3703680"/>
              <a:ext cx="76320" cy="7632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386400" y="4029120"/>
              <a:ext cx="76320" cy="7632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442200" y="4102200"/>
              <a:ext cx="75960" cy="7596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847880" y="4749840"/>
              <a:ext cx="76320" cy="76320"/>
            </a:xfrm>
            <a:prstGeom prst="ellipse">
              <a:avLst/>
            </a:prstGeom>
            <a:solidFill>
              <a:srgbClr val="a0e2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063880" y="4853160"/>
              <a:ext cx="75960" cy="75960"/>
            </a:xfrm>
            <a:prstGeom prst="ellipse">
              <a:avLst/>
            </a:prstGeom>
            <a:solidFill>
              <a:srgbClr val="a0e2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sp>
        <p:nvSpPr>
          <p:cNvPr id="396" name=""/>
          <p:cNvSpPr/>
          <p:nvPr/>
        </p:nvSpPr>
        <p:spPr>
          <a:xfrm flipV="1">
            <a:off x="1909800" y="3665160"/>
            <a:ext cx="4572000" cy="80316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500"/>
                            </p:stCondLst>
                            <p:childTnLst>
                              <p:par>
                                <p:cTn id="29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sto MT"/>
              </a:rPr>
              <a:t>Tres brechas en Educación: Gasto</a:t>
            </a: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90680" y="1459080"/>
            <a:ext cx="47037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d18009"/>
              </a:buClr>
              <a:buSzPct val="75000"/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¿Estamos gastando lo suficiente?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9" name=""/>
          <p:cNvSpPr/>
          <p:nvPr/>
        </p:nvSpPr>
        <p:spPr>
          <a:xfrm>
            <a:off x="1638360" y="5438880"/>
            <a:ext cx="5686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0" name=""/>
          <p:cNvSpPr/>
          <p:nvPr/>
        </p:nvSpPr>
        <p:spPr>
          <a:xfrm>
            <a:off x="1638360" y="3622680"/>
            <a:ext cx="0" cy="1828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1" name=""/>
          <p:cNvSpPr/>
          <p:nvPr/>
        </p:nvSpPr>
        <p:spPr>
          <a:xfrm>
            <a:off x="1426320" y="5192640"/>
            <a:ext cx="2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2" name=""/>
          <p:cNvSpPr/>
          <p:nvPr/>
        </p:nvSpPr>
        <p:spPr>
          <a:xfrm>
            <a:off x="1357200" y="4714920"/>
            <a:ext cx="3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3" name=""/>
          <p:cNvSpPr/>
          <p:nvPr/>
        </p:nvSpPr>
        <p:spPr>
          <a:xfrm>
            <a:off x="1357200" y="4232160"/>
            <a:ext cx="3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4" name=""/>
          <p:cNvSpPr/>
          <p:nvPr/>
        </p:nvSpPr>
        <p:spPr>
          <a:xfrm>
            <a:off x="1357200" y="3762360"/>
            <a:ext cx="3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5" name=""/>
          <p:cNvSpPr/>
          <p:nvPr/>
        </p:nvSpPr>
        <p:spPr>
          <a:xfrm>
            <a:off x="539640" y="3649680"/>
            <a:ext cx="775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% del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Ingreso 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per cápita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6" name=""/>
          <p:cNvSpPr/>
          <p:nvPr/>
        </p:nvSpPr>
        <p:spPr>
          <a:xfrm>
            <a:off x="1896480" y="5519880"/>
            <a:ext cx="2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7" name=""/>
          <p:cNvSpPr/>
          <p:nvPr/>
        </p:nvSpPr>
        <p:spPr>
          <a:xfrm>
            <a:off x="3313080" y="5519880"/>
            <a:ext cx="50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5.000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8" name=""/>
          <p:cNvSpPr/>
          <p:nvPr/>
        </p:nvSpPr>
        <p:spPr>
          <a:xfrm>
            <a:off x="4983480" y="5519880"/>
            <a:ext cx="572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10.000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9" name=""/>
          <p:cNvSpPr/>
          <p:nvPr/>
        </p:nvSpPr>
        <p:spPr>
          <a:xfrm>
            <a:off x="6812280" y="5519880"/>
            <a:ext cx="572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15.000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10" name=""/>
          <p:cNvSpPr/>
          <p:nvPr/>
        </p:nvSpPr>
        <p:spPr>
          <a:xfrm>
            <a:off x="7407360" y="5372280"/>
            <a:ext cx="77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PIB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per cápita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11" name=""/>
          <p:cNvSpPr/>
          <p:nvPr/>
        </p:nvSpPr>
        <p:spPr>
          <a:xfrm>
            <a:off x="1474200" y="2932200"/>
            <a:ext cx="5293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rebuchet MS"/>
              </a:rPr>
              <a:t>Gasto público en educación por habitante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rebuchet MS"/>
              </a:rPr>
              <a:t>en edad escolar (% del PIB per cápita) y PIB per cápita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</p:txBody>
      </p:sp>
      <p:grpSp>
        <p:nvGrpSpPr>
          <p:cNvPr id="412" name=""/>
          <p:cNvGrpSpPr/>
          <p:nvPr/>
        </p:nvGrpSpPr>
        <p:grpSpPr>
          <a:xfrm>
            <a:off x="3056040" y="5942160"/>
            <a:ext cx="4487760" cy="550800"/>
            <a:chOff x="3056040" y="5942160"/>
            <a:chExt cx="4487760" cy="550800"/>
          </a:xfrm>
        </p:grpSpPr>
        <p:sp>
          <p:nvSpPr>
            <p:cNvPr id="413" name=""/>
            <p:cNvSpPr/>
            <p:nvPr/>
          </p:nvSpPr>
          <p:spPr>
            <a:xfrm>
              <a:off x="3095640" y="5942160"/>
              <a:ext cx="4448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China 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Corea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Estonia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     India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Letonia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Lituania 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Malasia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     Tailandia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     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Tendencia promedio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898880" y="6037200"/>
              <a:ext cx="76320" cy="76320"/>
            </a:xfrm>
            <a:prstGeom prst="ellipse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898880" y="6188040"/>
              <a:ext cx="76320" cy="76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996160" y="6035760"/>
              <a:ext cx="75960" cy="75960"/>
            </a:xfrm>
            <a:prstGeom prst="ellipse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996160" y="6181560"/>
              <a:ext cx="75960" cy="7632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989520" y="6035760"/>
              <a:ext cx="75960" cy="7596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989520" y="6188040"/>
              <a:ext cx="75960" cy="7632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056040" y="6029280"/>
              <a:ext cx="75960" cy="76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056040" y="6181560"/>
              <a:ext cx="75960" cy="7632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546880" y="6380280"/>
              <a:ext cx="52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4137120" y="4545000"/>
            <a:ext cx="2450880" cy="836640"/>
            <a:chOff x="4137120" y="4545000"/>
            <a:chExt cx="2450880" cy="836640"/>
          </a:xfrm>
        </p:grpSpPr>
        <p:sp>
          <p:nvSpPr>
            <p:cNvPr id="424" name=""/>
            <p:cNvSpPr/>
            <p:nvPr/>
          </p:nvSpPr>
          <p:spPr>
            <a:xfrm flipV="1">
              <a:off x="4168800" y="4854600"/>
              <a:ext cx="1155600" cy="3938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137120" y="5210280"/>
              <a:ext cx="88920" cy="8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030640" y="4897440"/>
              <a:ext cx="88920" cy="8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291280" y="4802040"/>
              <a:ext cx="88920" cy="8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386320" y="4840200"/>
              <a:ext cx="45108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rebuchet MS"/>
                </a:rPr>
                <a:t>2002</a:t>
              </a:r>
              <a:endParaRPr b="0" lang="en-US" sz="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965920" y="4545000"/>
              <a:ext cx="622080" cy="228600"/>
            </a:xfrm>
            <a:prstGeom prst="borderCallout2">
              <a:avLst>
                <a:gd name="adj1" fmla="val 18750"/>
                <a:gd name="adj2" fmla="val -8333"/>
                <a:gd name="adj3" fmla="val 50000"/>
                <a:gd name="adj4" fmla="val -51787"/>
                <a:gd name="adj5" fmla="val 111111"/>
                <a:gd name="adj6" fmla="val -93879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Chile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264200" y="5235480"/>
              <a:ext cx="31716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rebuchet MS"/>
                </a:rPr>
                <a:t>1991</a:t>
              </a:r>
              <a:endParaRPr b="0" lang="en-US" sz="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sp>
        <p:nvSpPr>
          <p:cNvPr id="431" name="">
            <a:hlinkClick r:id="rId2" action="ppaction://hlinksldjump"/>
          </p:cNvPr>
          <p:cNvSpPr/>
          <p:nvPr/>
        </p:nvSpPr>
        <p:spPr>
          <a:xfrm>
            <a:off x="235080" y="7256520"/>
            <a:ext cx="276120" cy="276120"/>
          </a:xfrm>
          <a:custGeom>
            <a:avLst/>
            <a:gdLst>
              <a:gd name="textAreaLeft" fmla="*/ 17640 w 276120"/>
              <a:gd name="textAreaRight" fmla="*/ 258480 w 276120"/>
              <a:gd name="textAreaTop" fmla="*/ 17640 h 276120"/>
              <a:gd name="textAreaBottom" fmla="*/ 258480 h 276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a0e2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2293920" y="4118040"/>
            <a:ext cx="4889520" cy="96984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2276640" y="3922560"/>
            <a:ext cx="4986000" cy="1444680"/>
            <a:chOff x="2276640" y="3922560"/>
            <a:chExt cx="4986000" cy="1444680"/>
          </a:xfrm>
        </p:grpSpPr>
        <p:sp>
          <p:nvSpPr>
            <p:cNvPr id="434" name=""/>
            <p:cNvSpPr/>
            <p:nvPr/>
          </p:nvSpPr>
          <p:spPr>
            <a:xfrm>
              <a:off x="7186680" y="4668840"/>
              <a:ext cx="75960" cy="7632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2276640" y="3922560"/>
              <a:ext cx="3781440" cy="1444680"/>
              <a:chOff x="2276640" y="3922560"/>
              <a:chExt cx="3781440" cy="1444680"/>
            </a:xfrm>
          </p:grpSpPr>
          <p:sp>
            <p:nvSpPr>
              <p:cNvPr id="436" name=""/>
              <p:cNvSpPr/>
              <p:nvPr/>
            </p:nvSpPr>
            <p:spPr>
              <a:xfrm>
                <a:off x="2276640" y="5105520"/>
                <a:ext cx="75960" cy="75960"/>
              </a:xfrm>
              <a:prstGeom prst="ellipse">
                <a:avLst/>
              </a:pr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514600" y="4962600"/>
                <a:ext cx="76320" cy="75960"/>
              </a:xfrm>
              <a:prstGeom prst="ellipse">
                <a:avLst/>
              </a:pr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268880" y="4033800"/>
                <a:ext cx="75960" cy="76320"/>
              </a:xfrm>
              <a:prstGeom prst="ellipse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626000" y="4305240"/>
                <a:ext cx="76320" cy="76320"/>
              </a:xfrm>
              <a:prstGeom prst="ellipse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551480" y="4432320"/>
                <a:ext cx="75960" cy="76320"/>
              </a:xfrm>
              <a:prstGeom prst="ellipse">
                <a:avLst/>
              </a:prstGeom>
              <a:solidFill>
                <a:srgbClr val="cc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691080" y="4844880"/>
                <a:ext cx="75960" cy="76320"/>
              </a:xfrm>
              <a:prstGeom prst="ellipse">
                <a:avLst/>
              </a:prstGeom>
              <a:solidFill>
                <a:srgbClr val="cc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467080" y="5291280"/>
                <a:ext cx="75960" cy="75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133800" y="5203800"/>
                <a:ext cx="75960" cy="76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4869000" y="4608360"/>
                <a:ext cx="75960" cy="76320"/>
              </a:xfrm>
              <a:prstGeom prst="ellipse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513320" y="4019400"/>
                <a:ext cx="76320" cy="76320"/>
              </a:xfrm>
              <a:prstGeom prst="ellipse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5981760" y="3922560"/>
                <a:ext cx="76320" cy="7632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508200" y="5141880"/>
                <a:ext cx="76320" cy="76320"/>
              </a:xfrm>
              <a:prstGeom prst="ellipse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097160" y="4608360"/>
                <a:ext cx="76320" cy="76320"/>
              </a:xfrm>
              <a:prstGeom prst="ellipse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</p:grpSp>
      </p:grpSp>
      <p:sp>
        <p:nvSpPr>
          <p:cNvPr id="449" name=""/>
          <p:cNvSpPr/>
          <p:nvPr/>
        </p:nvSpPr>
        <p:spPr>
          <a:xfrm>
            <a:off x="722160" y="1924200"/>
            <a:ext cx="825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Las cifras de gasto total o gasto por estudiante pueden ser engañosas..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19:33:31Z</dcterms:created>
  <dc:creator>Informática</dc:creator>
  <dc:description/>
  <dc:language>en-US</dc:language>
  <cp:lastModifiedBy>alumno</cp:lastModifiedBy>
  <dcterms:modified xsi:type="dcterms:W3CDTF">2008-05-16T19:56:00Z</dcterms:modified>
  <cp:revision>40</cp:revision>
  <dc:subject/>
  <dc:title>El Capital Humano en la  Estrategia de Innovación de Chile</dc:title>
</cp:coreProperties>
</file>