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3.png" ContentType="image/png"/>
  <Override PartName="/ppt/media/image5.wmf" ContentType="image/x-wmf"/>
  <Override PartName="/ppt/media/image22.png" ContentType="image/png"/>
  <Override PartName="/ppt/media/image4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650B-7E2D-46A0-90F6-5F1E3D3B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43EE-6D3C-4825-9B7C-640270AD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08A5-3216-41A3-B21D-AECCF47F6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6512-9C75-49EC-9C96-B5C8244C5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993E-30E6-41A1-B735-B59D73AF5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0311-CAF1-4982-97C4-14D479F6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B835-2A7B-4FC4-9049-05B52C28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7357-1971-4605-A1C9-E2EFA575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DE42-0FCF-4466-94F8-8DD2B9F3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CBBE-CAA9-4480-BCBE-EBB86881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980E-226E-476E-B439-37599F34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F727-07A9-43E4-B856-DA24C049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53DC-6E45-4486-A7CB-860A8075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A453-F7E9-48F2-8D7D-A897F0C4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D336-9308-4FBF-AB6F-8418E6D4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D832-883D-4B85-AB79-94BA551C8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1FF4-1B10-4BE5-997C-037820174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D63B-1F1D-42DE-B105-8FFC6C60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87A6-99C0-4200-BBBB-2013DFD0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A471-7041-4CB0-B6F6-80117471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342A-7B78-40E7-8C30-22C7464F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B095-D517-4BAB-A32E-511177A5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567A-EE9A-40F8-A059-5C0BD882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81C5-AD7B-4C60-86F1-7E405599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2502-9AF1-480B-B7B3-727F40A1D85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B0C1-CDF9-4FEF-B4A6-3774661BBF6F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IN 2C1</a:t>
            </a:r>
            <a:br>
              <a:rPr sz="4200"/>
            </a:b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Introducción a la Economí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ilar Romaguera 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partamento de Ingeniería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bril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755640" y="1557360"/>
            <a:ext cx="74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endencias en la Participación Laboral en Chile y Países seleccionad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7993080" cy="3890880"/>
          </a:xfrm>
          <a:prstGeom prst="rect">
            <a:avLst/>
          </a:prstGeom>
          <a:ln w="0">
            <a:noFill/>
          </a:ln>
        </p:spPr>
      </p:pic>
      <p:sp>
        <p:nvSpPr>
          <p:cNvPr id="156" name="4 CuadroTexto"/>
          <p:cNvSpPr/>
          <p:nvPr/>
        </p:nvSpPr>
        <p:spPr>
          <a:xfrm>
            <a:off x="714240" y="628668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Banco 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777744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1258920" y="1386000"/>
            <a:ext cx="5400720" cy="32734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6"/>
          <p:cNvGrpSpPr/>
          <p:nvPr/>
        </p:nvGrpSpPr>
        <p:grpSpPr>
          <a:xfrm>
            <a:off x="1835280" y="4797360"/>
            <a:ext cx="4968720" cy="1368360"/>
            <a:chOff x="1835280" y="4797360"/>
            <a:chExt cx="4968720" cy="1368360"/>
          </a:xfrm>
        </p:grpSpPr>
        <p:pic>
          <p:nvPicPr>
            <p:cNvPr id="162" name="Picture 7" descr=""/>
            <p:cNvPicPr/>
            <p:nvPr/>
          </p:nvPicPr>
          <p:blipFill>
            <a:blip r:embed="rId2"/>
            <a:stretch/>
          </p:blipFill>
          <p:spPr>
            <a:xfrm>
              <a:off x="1835280" y="4797360"/>
              <a:ext cx="496872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Rectangle 8"/>
            <p:cNvSpPr/>
            <p:nvPr/>
          </p:nvSpPr>
          <p:spPr>
            <a:xfrm>
              <a:off x="4690800" y="5154480"/>
              <a:ext cx="840960" cy="77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3419640" y="1484280"/>
            <a:ext cx="3966840" cy="4503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900000" y="170028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sempleo, participación y sal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os Salarios en Chi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9246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muneraciones Medias, por Ocup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6696000" cy="43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</a:rPr>
              <a:t>Remuneraciones de algunas Profesio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187280" y="1628640"/>
          <a:ext cx="6697800" cy="3168720"/>
        </p:xfrm>
        <a:graphic>
          <a:graphicData uri="http://schemas.openxmlformats.org/drawingml/2006/table">
            <a:tbl>
              <a:tblPr/>
              <a:tblGrid>
                <a:gridCol w="2311560"/>
                <a:gridCol w="1359000"/>
                <a:gridCol w="1357200"/>
                <a:gridCol w="1670040"/>
              </a:tblGrid>
              <a:tr h="47952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emuneraciones Ocupaciones Seleccionadas: EE.UU y 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h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.UU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.UU (US$) anu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genieros Civi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338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858.3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8.6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ofesores educacion med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91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061.2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9.47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nfermer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73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522.91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6.5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eriodis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85.8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745.8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1.9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ecretaria (recepcionist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92.0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3.81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arpinte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663.7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9.9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brero Construcc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4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247.0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9.9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1332000" y="5013360"/>
          <a:ext cx="4680000" cy="82224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ota: Chile: corresponde a 4 a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ñ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s de experiencia. Futuro Labor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UU: Remuneraci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ó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 promedio, datos Encue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Exceso de Ofer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7707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Qué pasa cuando existe un Exceso de Oferta de Profesiona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espera una caída de sal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jemplo, caída de salarios de period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AutoShape 91"/>
          <p:cNvCxnSpPr/>
          <p:nvPr/>
        </p:nvCxnSpPr>
        <p:spPr>
          <a:xfrm>
            <a:off x="3755520" y="561960"/>
            <a:ext cx="213480" cy="162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76" name="AutoShape 90"/>
          <p:cNvCxnSpPr/>
          <p:nvPr/>
        </p:nvCxnSpPr>
        <p:spPr>
          <a:xfrm flipH="1">
            <a:off x="1063080" y="1420560"/>
            <a:ext cx="1943640" cy="1080"/>
          </a:xfrm>
          <a:prstGeom prst="straightConnector1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177" name="Group 68"/>
          <p:cNvGrpSpPr/>
          <p:nvPr/>
        </p:nvGrpSpPr>
        <p:grpSpPr>
          <a:xfrm>
            <a:off x="1928880" y="2357280"/>
            <a:ext cx="3786120" cy="2956680"/>
            <a:chOff x="1928880" y="2357280"/>
            <a:chExt cx="3786120" cy="2956680"/>
          </a:xfrm>
        </p:grpSpPr>
        <p:grpSp>
          <p:nvGrpSpPr>
            <p:cNvPr id="178" name="Group 74"/>
            <p:cNvGrpSpPr/>
            <p:nvPr/>
          </p:nvGrpSpPr>
          <p:grpSpPr>
            <a:xfrm>
              <a:off x="1928880" y="2357280"/>
              <a:ext cx="3707280" cy="2956680"/>
              <a:chOff x="1928880" y="2357280"/>
              <a:chExt cx="3707280" cy="2956680"/>
            </a:xfrm>
          </p:grpSpPr>
          <p:sp>
            <p:nvSpPr>
              <p:cNvPr id="179" name="Rectangle 89"/>
              <p:cNvSpPr/>
              <p:nvPr/>
            </p:nvSpPr>
            <p:spPr>
              <a:xfrm>
                <a:off x="2031120" y="4649760"/>
                <a:ext cx="338400" cy="37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88"/>
              <p:cNvSpPr/>
              <p:nvPr/>
            </p:nvSpPr>
            <p:spPr>
              <a:xfrm>
                <a:off x="1928880" y="2911320"/>
                <a:ext cx="51912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87"/>
              <p:cNvSpPr/>
              <p:nvPr/>
            </p:nvSpPr>
            <p:spPr>
              <a:xfrm>
                <a:off x="3794400" y="4421520"/>
                <a:ext cx="39348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86"/>
              <p:cNvSpPr/>
              <p:nvPr/>
            </p:nvSpPr>
            <p:spPr>
              <a:xfrm>
                <a:off x="5333040" y="49986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85"/>
              <p:cNvSpPr/>
              <p:nvPr/>
            </p:nvSpPr>
            <p:spPr>
              <a:xfrm>
                <a:off x="2424600" y="2448360"/>
                <a:ext cx="360" cy="2520000"/>
              </a:xfrm>
              <a:prstGeom prst="line">
                <a:avLst/>
              </a:prstGeom>
              <a:ln w="7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84"/>
              <p:cNvSpPr/>
              <p:nvPr/>
            </p:nvSpPr>
            <p:spPr>
              <a:xfrm>
                <a:off x="2424600" y="4972320"/>
                <a:ext cx="3211560" cy="360"/>
              </a:xfrm>
              <a:prstGeom prst="line">
                <a:avLst/>
              </a:prstGeom>
              <a:ln w="7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83"/>
              <p:cNvSpPr/>
              <p:nvPr/>
            </p:nvSpPr>
            <p:spPr>
              <a:xfrm>
                <a:off x="2865240" y="2958840"/>
                <a:ext cx="2247840" cy="159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82"/>
              <p:cNvSpPr/>
              <p:nvPr/>
            </p:nvSpPr>
            <p:spPr>
              <a:xfrm flipV="1">
                <a:off x="2865240" y="3088080"/>
                <a:ext cx="2339280" cy="142740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81"/>
              <p:cNvSpPr/>
              <p:nvPr/>
            </p:nvSpPr>
            <p:spPr>
              <a:xfrm>
                <a:off x="4698000" y="3017520"/>
                <a:ext cx="217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80"/>
              <p:cNvSpPr/>
              <p:nvPr/>
            </p:nvSpPr>
            <p:spPr>
              <a:xfrm>
                <a:off x="5028120" y="4206240"/>
                <a:ext cx="225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79"/>
              <p:cNvSpPr/>
              <p:nvPr/>
            </p:nvSpPr>
            <p:spPr>
              <a:xfrm>
                <a:off x="2098440" y="2357280"/>
                <a:ext cx="241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78"/>
              <p:cNvSpPr/>
              <p:nvPr/>
            </p:nvSpPr>
            <p:spPr>
              <a:xfrm>
                <a:off x="4052160" y="3816360"/>
                <a:ext cx="0" cy="1143000"/>
              </a:xfrm>
              <a:prstGeom prst="line">
                <a:avLst/>
              </a:prstGeom>
              <a:ln w="7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77"/>
              <p:cNvSpPr/>
              <p:nvPr/>
            </p:nvSpPr>
            <p:spPr>
              <a:xfrm flipH="1">
                <a:off x="2424600" y="3800520"/>
                <a:ext cx="1605600" cy="360"/>
              </a:xfrm>
              <a:prstGeom prst="line">
                <a:avLst/>
              </a:prstGeom>
              <a:ln w="7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76"/>
              <p:cNvSpPr/>
              <p:nvPr/>
            </p:nvSpPr>
            <p:spPr>
              <a:xfrm>
                <a:off x="2161440" y="3666600"/>
                <a:ext cx="2170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</a:t>
                </a:r>
                <a:r>
                  <a:rPr b="0" lang="en-US" sz="17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*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75"/>
              <p:cNvSpPr/>
              <p:nvPr/>
            </p:nvSpPr>
            <p:spPr>
              <a:xfrm>
                <a:off x="3938760" y="5008680"/>
                <a:ext cx="171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*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Line 73"/>
            <p:cNvSpPr/>
            <p:nvPr/>
          </p:nvSpPr>
          <p:spPr>
            <a:xfrm flipV="1">
              <a:off x="3094560" y="3279960"/>
              <a:ext cx="2339280" cy="1427400"/>
            </a:xfrm>
            <a:prstGeom prst="line">
              <a:avLst/>
            </a:prstGeom>
            <a:ln w="284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72"/>
            <p:cNvSpPr/>
            <p:nvPr/>
          </p:nvSpPr>
          <p:spPr>
            <a:xfrm>
              <a:off x="5438520" y="3197880"/>
              <a:ext cx="27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AutoShape 71"/>
            <p:cNvCxnSpPr/>
            <p:nvPr/>
          </p:nvCxnSpPr>
          <p:spPr>
            <a:xfrm>
              <a:off x="4314600" y="3946680"/>
              <a:ext cx="1080" cy="921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7" name="Rectangle 70"/>
            <p:cNvSpPr/>
            <p:nvPr/>
          </p:nvSpPr>
          <p:spPr>
            <a:xfrm>
              <a:off x="2098080" y="3852360"/>
              <a:ext cx="247680" cy="2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</a:t>
              </a:r>
              <a:r>
                <a:rPr b="0" lang="en-US" sz="17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69"/>
            <p:cNvSpPr/>
            <p:nvPr/>
          </p:nvSpPr>
          <p:spPr>
            <a:xfrm>
              <a:off x="4235040" y="4935600"/>
              <a:ext cx="260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Rectangle 9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93 Conector recto de flecha"/>
          <p:cNvCxnSpPr/>
          <p:nvPr/>
        </p:nvCxnSpPr>
        <p:spPr>
          <a:xfrm>
            <a:off x="5000400" y="3285720"/>
            <a:ext cx="143640" cy="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iferenciales de Remuneraciones y </a:t>
            </a:r>
            <a:br>
              <a:rPr sz="2600"/>
            </a:b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s altos diferenciales de remuneraciones entre profesionales y no profesionales, están en la raíz de la desigualdad de la distribución de ingresos en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662472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Imagen 1" descr=""/>
          <p:cNvPicPr/>
          <p:nvPr/>
        </p:nvPicPr>
        <p:blipFill>
          <a:blip r:embed="rId1"/>
          <a:stretch/>
        </p:blipFill>
        <p:spPr>
          <a:xfrm>
            <a:off x="428760" y="1214280"/>
            <a:ext cx="77436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Imagen 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34544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152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troducción a la Economía: Mercado Laboral, Salarios y Distribución del Ingr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6920" y="2190600"/>
            <a:ext cx="6788160" cy="25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 esta presentación, utilizaremos la economía para comprender fenómenos del mercado laboral, por ejemplo,  la determinación de los sala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Imagen 3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06436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Futur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Qué podemos esperar a futuro en la evolución del mercado labor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ejor información: “plaza públic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mento en la participación laboral feme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mento de trabajadores inmigr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sminución relativa de las remuneraciones de los profesionales vs. otros trabaj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1 CuadroTexto"/>
          <p:cNvSpPr/>
          <p:nvPr/>
        </p:nvSpPr>
        <p:spPr>
          <a:xfrm>
            <a:off x="1428840" y="2786040"/>
            <a:ext cx="578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ff"/>
                </a:solidFill>
                <a:latin typeface="Arial"/>
              </a:rPr>
              <a:t>ANEX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3 CuadroTexto"/>
          <p:cNvSpPr/>
          <p:nvPr/>
        </p:nvSpPr>
        <p:spPr>
          <a:xfrm>
            <a:off x="500040" y="500040"/>
            <a:ext cx="75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valores mínimos y máximos de  dec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7143840" cy="4786200"/>
          </a:xfrm>
          <a:prstGeom prst="rect">
            <a:avLst/>
          </a:prstGeom>
          <a:ln w="0">
            <a:noFill/>
          </a:ln>
        </p:spPr>
      </p:pic>
      <p:sp>
        <p:nvSpPr>
          <p:cNvPr id="216" name="5 CuadroTexto"/>
          <p:cNvSpPr/>
          <p:nvPr/>
        </p:nvSpPr>
        <p:spPr>
          <a:xfrm>
            <a:off x="868320" y="635796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: CASEN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428760" y="2286000"/>
            <a:ext cx="8215200" cy="4071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1071720" y="1285920"/>
            <a:ext cx="7076880" cy="1143000"/>
          </a:xfrm>
          <a:prstGeom prst="rect">
            <a:avLst/>
          </a:prstGeom>
          <a:ln w="0">
            <a:noFill/>
          </a:ln>
        </p:spPr>
      </p:pic>
      <p:sp>
        <p:nvSpPr>
          <p:cNvPr id="219" name="3 CuadroTexto"/>
          <p:cNvSpPr/>
          <p:nvPr/>
        </p:nvSpPr>
        <p:spPr>
          <a:xfrm>
            <a:off x="500040" y="50004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Decil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466560" y="2643120"/>
            <a:ext cx="8128080" cy="3176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785880" y="1428840"/>
            <a:ext cx="7358040" cy="1071360"/>
          </a:xfrm>
          <a:prstGeom prst="rect">
            <a:avLst/>
          </a:prstGeom>
          <a:ln w="0">
            <a:noFill/>
          </a:ln>
        </p:spPr>
      </p:pic>
      <p:sp>
        <p:nvSpPr>
          <p:cNvPr id="222" name="4 CuadroTexto"/>
          <p:cNvSpPr/>
          <p:nvPr/>
        </p:nvSpPr>
        <p:spPr>
          <a:xfrm>
            <a:off x="516960" y="714240"/>
            <a:ext cx="48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efecto subsid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0" y="2857680"/>
            <a:ext cx="9144000" cy="2409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285840" y="1357200"/>
            <a:ext cx="8591400" cy="1357560"/>
          </a:xfrm>
          <a:prstGeom prst="rect">
            <a:avLst/>
          </a:prstGeom>
          <a:ln w="0">
            <a:noFill/>
          </a:ln>
        </p:spPr>
      </p:pic>
      <p:sp>
        <p:nvSpPr>
          <p:cNvPr id="225" name="3 CuadroTexto"/>
          <p:cNvSpPr/>
          <p:nvPr/>
        </p:nvSpPr>
        <p:spPr>
          <a:xfrm>
            <a:off x="428760" y="428760"/>
            <a:ext cx="78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subsidios monetarios + educación +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8143920" cy="2786040"/>
          </a:xfrm>
          <a:prstGeom prst="rect">
            <a:avLst/>
          </a:prstGeom>
          <a:ln w="0">
            <a:noFill/>
          </a:ln>
        </p:spPr>
      </p:pic>
      <p:sp>
        <p:nvSpPr>
          <p:cNvPr id="227" name="8 CuadroTexto"/>
          <p:cNvSpPr/>
          <p:nvPr/>
        </p:nvSpPr>
        <p:spPr>
          <a:xfrm>
            <a:off x="522360" y="642960"/>
            <a:ext cx="62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Indices y Coeficiente de G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ANEXOS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fini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Participación: corresponde al porcentaje de la fuerza de trabajo o población económicamente activa (ocupados y desocupados) de 15 años y más con respecto a la población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Ocupación: corresponde al porcentaje de la población ocupada de 15 años y más con respecto a la población en edad de trabajar (activa e inactiva)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Dependencia: número de personas que deben ser solventadas económicamente por cada persona ocupada en una población determin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Desocupación: corresponde al porcentaje de la población desocupada (cesantes y personas que buscan trabajo por primera vez) de 15 años y más con respecto a la fuerza de trabajo o población económicamente activa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2 CuadroTexto"/>
          <p:cNvSpPr/>
          <p:nvPr/>
        </p:nvSpPr>
        <p:spPr>
          <a:xfrm>
            <a:off x="660600" y="714240"/>
            <a:ext cx="517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dicadores Distribución del Ingreso: In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642960" y="1719360"/>
            <a:ext cx="7000920" cy="4113000"/>
          </a:xfrm>
          <a:prstGeom prst="rect">
            <a:avLst/>
          </a:prstGeom>
          <a:ln w="0">
            <a:noFill/>
          </a:ln>
        </p:spPr>
      </p:pic>
      <p:sp>
        <p:nvSpPr>
          <p:cNvPr id="232" name="4 CuadroTexto"/>
          <p:cNvSpPr/>
          <p:nvPr/>
        </p:nvSpPr>
        <p:spPr>
          <a:xfrm>
            <a:off x="785880" y="6357960"/>
            <a:ext cx="22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Modelos de Oferta y Demand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os modelos de Oferta y Demanda se utilizan para comprender los comportamientos de precios y cantidades en distintos merc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os modelos de Oferta y Demanda de Trabajo permiten analizar: salarios, tasas de participación, horas trabajada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Ahora bien, la “racionalidad económica” da cuenta de una parte de los fenómenos. Ej: participacion laboral femeni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785880" y="1476360"/>
            <a:ext cx="7000920" cy="4705200"/>
          </a:xfrm>
          <a:prstGeom prst="rect">
            <a:avLst/>
          </a:prstGeom>
          <a:ln w="0">
            <a:noFill/>
          </a:ln>
        </p:spPr>
      </p:pic>
      <p:sp>
        <p:nvSpPr>
          <p:cNvPr id="234" name="2 CuadroTexto"/>
          <p:cNvSpPr/>
          <p:nvPr/>
        </p:nvSpPr>
        <p:spPr>
          <a:xfrm>
            <a:off x="666000" y="714240"/>
            <a:ext cx="65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dicadores Distribución del Ingreso: Coeficiente de G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3 Rectángulo"/>
          <p:cNvSpPr/>
          <p:nvPr/>
        </p:nvSpPr>
        <p:spPr>
          <a:xfrm>
            <a:off x="720720" y="628668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Ofert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ás personas desean trabajar, y por más horas, en función del salario y de otras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1"/>
          <p:cNvGrpSpPr/>
          <p:nvPr/>
        </p:nvGrpSpPr>
        <p:grpSpPr>
          <a:xfrm>
            <a:off x="2071800" y="2637000"/>
            <a:ext cx="6394680" cy="2946960"/>
            <a:chOff x="2071800" y="2637000"/>
            <a:chExt cx="6394680" cy="2946960"/>
          </a:xfrm>
        </p:grpSpPr>
        <p:sp>
          <p:nvSpPr>
            <p:cNvPr id="100" name="Rectangle 22"/>
            <p:cNvSpPr/>
            <p:nvPr/>
          </p:nvSpPr>
          <p:spPr>
            <a:xfrm>
              <a:off x="2586600" y="49298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3"/>
            <p:cNvSpPr/>
            <p:nvPr/>
          </p:nvSpPr>
          <p:spPr>
            <a:xfrm>
              <a:off x="2484360" y="319140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4"/>
            <p:cNvSpPr/>
            <p:nvPr/>
          </p:nvSpPr>
          <p:spPr>
            <a:xfrm>
              <a:off x="4350600" y="4701240"/>
              <a:ext cx="393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5"/>
            <p:cNvSpPr/>
            <p:nvPr/>
          </p:nvSpPr>
          <p:spPr>
            <a:xfrm>
              <a:off x="5881320" y="5278680"/>
              <a:ext cx="2585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(horas trabajadas o fuerza laboral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6"/>
            <p:cNvSpPr/>
            <p:nvPr/>
          </p:nvSpPr>
          <p:spPr>
            <a:xfrm>
              <a:off x="2980440" y="2728440"/>
              <a:ext cx="720" cy="2520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7"/>
            <p:cNvSpPr/>
            <p:nvPr/>
          </p:nvSpPr>
          <p:spPr>
            <a:xfrm>
              <a:off x="2980440" y="5252400"/>
              <a:ext cx="321228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8"/>
            <p:cNvSpPr/>
            <p:nvPr/>
          </p:nvSpPr>
          <p:spPr>
            <a:xfrm flipV="1">
              <a:off x="3421440" y="3368160"/>
              <a:ext cx="2339640" cy="14274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9"/>
            <p:cNvSpPr/>
            <p:nvPr/>
          </p:nvSpPr>
          <p:spPr>
            <a:xfrm>
              <a:off x="5256000" y="3297240"/>
              <a:ext cx="21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30"/>
            <p:cNvSpPr/>
            <p:nvPr/>
          </p:nvSpPr>
          <p:spPr>
            <a:xfrm>
              <a:off x="2071800" y="2637000"/>
              <a:ext cx="107136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(salario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13 CuadroTexto"/>
          <p:cNvSpPr/>
          <p:nvPr/>
        </p:nvSpPr>
        <p:spPr>
          <a:xfrm>
            <a:off x="5857560" y="3071880"/>
            <a:ext cx="138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ferta de Traba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Ofert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920" y="1599840"/>
            <a:ext cx="7707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sas de Participación de Chile vs. otros países del mundo (ver …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Tasa de Participación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: corresponde al porcentaje de la fuerza de trabajo o población económicamente activa (ocupados y desocupados) de 15 años y más con respecto a la población total de 15 años o má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16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773360" y="2438280"/>
            <a:ext cx="5391000" cy="3295800"/>
          </a:xfrm>
          <a:prstGeom prst="rect">
            <a:avLst/>
          </a:prstGeom>
          <a:ln w="0">
            <a:noFill/>
          </a:ln>
        </p:spPr>
      </p:pic>
      <p:sp>
        <p:nvSpPr>
          <p:cNvPr id="114" name="5 CuadroTexto"/>
          <p:cNvSpPr/>
          <p:nvPr/>
        </p:nvSpPr>
        <p:spPr>
          <a:xfrm rot="16200000">
            <a:off x="1381320" y="3306240"/>
            <a:ext cx="107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porcentaj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Demand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s empresas están dispuestas a contratar más trabajadores a salarios más bajos; o bien, están dispuestas a contratar menos trabajadores si los salarios son más altos (todo lo demás constan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2"/>
          <p:cNvGrpSpPr/>
          <p:nvPr/>
        </p:nvGrpSpPr>
        <p:grpSpPr>
          <a:xfrm>
            <a:off x="2448000" y="3238560"/>
            <a:ext cx="5947920" cy="2854800"/>
            <a:chOff x="2448000" y="3238560"/>
            <a:chExt cx="5947920" cy="2854800"/>
          </a:xfrm>
        </p:grpSpPr>
        <p:sp>
          <p:nvSpPr>
            <p:cNvPr id="118" name="Rectangle 23"/>
            <p:cNvSpPr/>
            <p:nvPr/>
          </p:nvSpPr>
          <p:spPr>
            <a:xfrm>
              <a:off x="2550240" y="54392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4"/>
            <p:cNvSpPr/>
            <p:nvPr/>
          </p:nvSpPr>
          <p:spPr>
            <a:xfrm>
              <a:off x="2448000" y="370116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5"/>
            <p:cNvSpPr/>
            <p:nvPr/>
          </p:nvSpPr>
          <p:spPr>
            <a:xfrm>
              <a:off x="4313880" y="5211000"/>
              <a:ext cx="39348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6"/>
            <p:cNvSpPr/>
            <p:nvPr/>
          </p:nvSpPr>
          <p:spPr>
            <a:xfrm>
              <a:off x="5845680" y="5788080"/>
              <a:ext cx="2550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(horas trabajadas o fuerza labora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7"/>
            <p:cNvSpPr/>
            <p:nvPr/>
          </p:nvSpPr>
          <p:spPr>
            <a:xfrm>
              <a:off x="2943720" y="3238560"/>
              <a:ext cx="720" cy="251964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8"/>
            <p:cNvSpPr/>
            <p:nvPr/>
          </p:nvSpPr>
          <p:spPr>
            <a:xfrm>
              <a:off x="2943720" y="5761800"/>
              <a:ext cx="321264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9"/>
            <p:cNvSpPr/>
            <p:nvPr/>
          </p:nvSpPr>
          <p:spPr>
            <a:xfrm>
              <a:off x="3384720" y="3748680"/>
              <a:ext cx="2248200" cy="15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30"/>
            <p:cNvSpPr/>
            <p:nvPr/>
          </p:nvSpPr>
          <p:spPr>
            <a:xfrm>
              <a:off x="5546160" y="4996440"/>
              <a:ext cx="225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30"/>
          <p:cNvSpPr/>
          <p:nvPr/>
        </p:nvSpPr>
        <p:spPr>
          <a:xfrm>
            <a:off x="1857240" y="3286080"/>
            <a:ext cx="1000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salar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14 CuadroTexto"/>
          <p:cNvSpPr/>
          <p:nvPr/>
        </p:nvSpPr>
        <p:spPr>
          <a:xfrm>
            <a:off x="6072120" y="5143680"/>
            <a:ext cx="185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manda de Trabaj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Equilibrio en el Mercado Labor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ta: ¿Cómo se encuentran la Oferta y Deman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(ejemplo: plaza pública o merca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5"/>
          <p:cNvGrpSpPr/>
          <p:nvPr/>
        </p:nvGrpSpPr>
        <p:grpSpPr>
          <a:xfrm>
            <a:off x="2016000" y="2417760"/>
            <a:ext cx="3708000" cy="2956320"/>
            <a:chOff x="2016000" y="2417760"/>
            <a:chExt cx="3708000" cy="2956320"/>
          </a:xfrm>
        </p:grpSpPr>
        <p:sp>
          <p:nvSpPr>
            <p:cNvPr id="131" name="Rectangle 6"/>
            <p:cNvSpPr/>
            <p:nvPr/>
          </p:nvSpPr>
          <p:spPr>
            <a:xfrm>
              <a:off x="2118240" y="47102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7"/>
            <p:cNvSpPr/>
            <p:nvPr/>
          </p:nvSpPr>
          <p:spPr>
            <a:xfrm>
              <a:off x="2016000" y="297180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8"/>
            <p:cNvSpPr/>
            <p:nvPr/>
          </p:nvSpPr>
          <p:spPr>
            <a:xfrm>
              <a:off x="3881880" y="4481640"/>
              <a:ext cx="393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9"/>
            <p:cNvSpPr/>
            <p:nvPr/>
          </p:nvSpPr>
          <p:spPr>
            <a:xfrm>
              <a:off x="5414400" y="5059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0"/>
            <p:cNvSpPr/>
            <p:nvPr/>
          </p:nvSpPr>
          <p:spPr>
            <a:xfrm>
              <a:off x="2511720" y="2508840"/>
              <a:ext cx="720" cy="251964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1"/>
            <p:cNvSpPr/>
            <p:nvPr/>
          </p:nvSpPr>
          <p:spPr>
            <a:xfrm>
              <a:off x="2511720" y="5032800"/>
              <a:ext cx="321228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2"/>
            <p:cNvSpPr/>
            <p:nvPr/>
          </p:nvSpPr>
          <p:spPr>
            <a:xfrm>
              <a:off x="2952720" y="3019320"/>
              <a:ext cx="2248200" cy="15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3"/>
            <p:cNvSpPr/>
            <p:nvPr/>
          </p:nvSpPr>
          <p:spPr>
            <a:xfrm flipV="1">
              <a:off x="2952720" y="3148920"/>
              <a:ext cx="2339640" cy="142704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4"/>
            <p:cNvSpPr/>
            <p:nvPr/>
          </p:nvSpPr>
          <p:spPr>
            <a:xfrm>
              <a:off x="4787640" y="3078000"/>
              <a:ext cx="21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5"/>
            <p:cNvSpPr/>
            <p:nvPr/>
          </p:nvSpPr>
          <p:spPr>
            <a:xfrm>
              <a:off x="5114160" y="4267080"/>
              <a:ext cx="225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6"/>
            <p:cNvSpPr/>
            <p:nvPr/>
          </p:nvSpPr>
          <p:spPr>
            <a:xfrm>
              <a:off x="2181600" y="2417760"/>
              <a:ext cx="24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7"/>
            <p:cNvSpPr/>
            <p:nvPr/>
          </p:nvSpPr>
          <p:spPr>
            <a:xfrm>
              <a:off x="4139640" y="3876840"/>
              <a:ext cx="0" cy="1142640"/>
            </a:xfrm>
            <a:prstGeom prst="line">
              <a:avLst/>
            </a:prstGeom>
            <a:ln w="7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8"/>
            <p:cNvSpPr/>
            <p:nvPr/>
          </p:nvSpPr>
          <p:spPr>
            <a:xfrm flipH="1">
              <a:off x="2511360" y="3860640"/>
              <a:ext cx="1605960" cy="360"/>
            </a:xfrm>
            <a:prstGeom prst="line">
              <a:avLst/>
            </a:prstGeom>
            <a:ln w="7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9"/>
            <p:cNvSpPr/>
            <p:nvPr/>
          </p:nvSpPr>
          <p:spPr>
            <a:xfrm>
              <a:off x="2234880" y="3727440"/>
              <a:ext cx="25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s-ES" sz="17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0"/>
            <p:cNvSpPr/>
            <p:nvPr/>
          </p:nvSpPr>
          <p:spPr>
            <a:xfrm>
              <a:off x="4013280" y="5068800"/>
              <a:ext cx="200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3 CuadroTexto"/>
          <p:cNvSpPr/>
          <p:nvPr/>
        </p:nvSpPr>
        <p:spPr>
          <a:xfrm>
            <a:off x="428760" y="142920"/>
            <a:ext cx="890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ferta y Demanda de Profesion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rcado de “Spider” o “Cobweb” (tela de arañ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5 Rectángulo"/>
          <p:cNvSpPr/>
          <p:nvPr/>
        </p:nvSpPr>
        <p:spPr>
          <a:xfrm>
            <a:off x="7143840" y="5000760"/>
            <a:ext cx="200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Labor Economics. G. Borjas, pp.1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928800" y="1138320"/>
            <a:ext cx="610524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611280" y="1700280"/>
            <a:ext cx="748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endencias en la Participación Laboral en Chile y por Grupos de Paí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136000" cy="3887640"/>
          </a:xfrm>
          <a:prstGeom prst="rect">
            <a:avLst/>
          </a:prstGeom>
          <a:ln w="0">
            <a:noFill/>
          </a:ln>
        </p:spPr>
      </p:pic>
      <p:sp>
        <p:nvSpPr>
          <p:cNvPr id="152" name="4 CuadroTexto"/>
          <p:cNvSpPr/>
          <p:nvPr/>
        </p:nvSpPr>
        <p:spPr>
          <a:xfrm>
            <a:off x="714240" y="628668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Banco 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5:54:20Z</dcterms:created>
  <dc:creator>Pilar Romaguera</dc:creator>
  <dc:description/>
  <dc:language>en-US</dc:language>
  <cp:lastModifiedBy>alumnodii</cp:lastModifiedBy>
  <dcterms:modified xsi:type="dcterms:W3CDTF">2008-05-09T14:38:51Z</dcterms:modified>
  <cp:revision>29</cp:revision>
  <dc:subject/>
  <dc:title>Economia:…..</dc:title>
</cp:coreProperties>
</file>