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79A76-AA0F-4C56-8DE8-F7E1C0E21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35344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95280" y="4079880"/>
            <a:ext cx="835344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861EA-A818-4F51-8B49-348DFB144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56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95280" y="407988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5680" y="407988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FF942-E5C8-4FBC-A827-F5143509D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19840" y="148392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4040" y="148392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95280" y="407988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19840" y="407988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4040" y="407988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BA16D-6347-4AE3-A5A1-C64C83216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924C9-496F-4E9E-A3BB-4A88D2BFA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95280" y="1483920"/>
            <a:ext cx="8353440" cy="496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BDAE8-3947-43E2-A5DC-D36914C7B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35344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574AD-F185-443D-90AD-6F61C6AC8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40762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5680" y="1483920"/>
            <a:ext cx="40762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D38BE-9BB0-413A-8D7E-288D812A9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D3083-381C-46E6-BADC-539286512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95280" y="476280"/>
            <a:ext cx="8353440" cy="33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D193C-1E73-49F2-8A53-9AAE0CCCA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5680" y="1483920"/>
            <a:ext cx="40762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95280" y="407988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3A914-9116-4BF1-8F9C-21B266076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95280" y="1483920"/>
            <a:ext cx="8353440" cy="496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89E23-CA7D-47A7-9775-F18E6B29E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40762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56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5680" y="407988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EE31B-E98A-4C71-BC27-517E1D3D8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56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95280" y="4079880"/>
            <a:ext cx="835344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9A912-E424-4444-BA7E-58A7A0578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35344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95280" y="4079880"/>
            <a:ext cx="835344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E5D92-D2A9-4919-B5E6-D7859B0D9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56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95280" y="407988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5680" y="407988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21ABF-260F-4C7A-9B12-FDB1C0A60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19840" y="148392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44040" y="148392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95280" y="407988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19840" y="407988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44040" y="407988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D0968-C257-455F-BB55-CA3329CFC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716D69-36EC-4D6B-9110-39E3DFCEE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395280" y="1483920"/>
            <a:ext cx="8353440" cy="496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9291D3-1605-4D52-B503-FDC9E7BE6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35344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11DA6C-CE50-453D-ACCA-7B508A203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40762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5680" y="1483920"/>
            <a:ext cx="40762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269750-78F0-4B9E-A598-EA98A38EA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D7A1D7-C390-4324-B486-9AA681A83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35344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D3019-2972-443A-8C3A-83A691C1A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395280" y="476280"/>
            <a:ext cx="8353440" cy="33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B8AE92-22A6-44E0-9150-8A5AFD0CA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5680" y="1483920"/>
            <a:ext cx="40762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395280" y="407988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D87719-6BEB-4A03-93AA-0FBAA9C9D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40762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56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5680" y="407988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AF243C-1534-4F5D-9306-4B78247A8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56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395280" y="4079880"/>
            <a:ext cx="835344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828C55-95FB-4229-9268-1CFD4F349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35344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95280" y="4079880"/>
            <a:ext cx="835344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7F18E5-F055-4656-9B9E-868487B41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56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395280" y="407988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5680" y="407988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B3C1E1-E397-47E6-976D-E7D193F50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19840" y="148392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44040" y="148392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395280" y="407988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19840" y="407988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44040" y="407988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E33841-55F1-45C7-96BA-06C776615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5DC604-E2DC-4686-8019-1E6808A57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395280" y="1483920"/>
            <a:ext cx="8353440" cy="496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6E4F10-5DB3-4A80-817E-A765CFA49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35344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186110-CCA7-47A6-8212-C760194A9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40762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5680" y="1483920"/>
            <a:ext cx="40762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27D7C-058A-406A-86D4-8EA521168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40762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5680" y="1483920"/>
            <a:ext cx="40762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F7C43F-496B-4A20-9849-FC45F9DE6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68D5EC-C443-4F6D-994B-FE93CCF91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395280" y="476280"/>
            <a:ext cx="8353440" cy="33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B2C2D3-3487-4211-A833-F544F8E3C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5680" y="1483920"/>
            <a:ext cx="40762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95280" y="407988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2BA28F-541E-4AAA-9388-6C7230D80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40762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56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5680" y="407988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727B88-25D4-4D03-BBDB-4E2BECCEF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56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395280" y="4079880"/>
            <a:ext cx="835344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47C30A-F2B5-444D-9993-0FDB7C545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35344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95280" y="4079880"/>
            <a:ext cx="835344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A31166-56E6-49A8-98C6-3F5CE2420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56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395280" y="407988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5680" y="407988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F2C5F0-94E2-4788-9502-F069A92BB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19840" y="148392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44040" y="148392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395280" y="407988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19840" y="407988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44040" y="407988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0CE4BF-57C2-458E-8138-BB82C929C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F01F9E-7A02-46B0-8893-E667C8C43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0AD4D-38E2-44CB-8232-59BE77901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395280" y="1483920"/>
            <a:ext cx="8353440" cy="496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9C6B12-1C49-47CD-9ECE-127E29BC0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35344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13BB9C-CAF2-49C3-8960-6DAA907C4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40762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5680" y="1483920"/>
            <a:ext cx="40762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EF837B-EC3C-4F34-A442-76BDA60C1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33A152-30A6-4717-9877-F4A91DAEB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395280" y="476280"/>
            <a:ext cx="8353440" cy="33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23CC81-949F-49F0-A046-9F766BE90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5680" y="1483920"/>
            <a:ext cx="40762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95280" y="407988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4D41C1-0348-4CC4-A2C3-052F0A513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40762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56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5680" y="407988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DCD944-EE56-45B7-A8BD-D3DDCE7B2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56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395280" y="4079880"/>
            <a:ext cx="835344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DB1F9F-2385-40AC-9B91-0B75BD925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35344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95280" y="4079880"/>
            <a:ext cx="835344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8FDEC2-BB56-405F-9171-27BD3325C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56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395280" y="407988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5680" y="407988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38E534-F092-4589-A15B-7138DFF64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95280" y="476280"/>
            <a:ext cx="8353440" cy="33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F089D-3361-416E-8CD0-A590EA9C5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19840" y="148392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044040" y="148392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395280" y="407988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19840" y="407988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044040" y="407988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FAF9EC-1A1B-44E2-9450-9655D7129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91B9B2-4A77-4D8A-A922-6C5812380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395280" y="1483920"/>
            <a:ext cx="8353440" cy="496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D7FB90-63D6-4CBD-8024-88318BA27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35344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B023E1-6190-412A-B5A9-7B7B878E1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40762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5680" y="1483920"/>
            <a:ext cx="40762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0E8113-037A-4BDF-8DAC-D445E1BA5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E8B0F2-8A23-4DEA-BC8C-29532CB89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395280" y="476280"/>
            <a:ext cx="8353440" cy="33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0563B4-9EEC-4909-9C12-15F56AAEC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5680" y="1483920"/>
            <a:ext cx="40762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395280" y="407988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D23F3C-B509-4CAB-9B6D-340E97A5A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40762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56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75680" y="407988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BA41AA-B016-43EC-9237-0636E5668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56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395280" y="4079880"/>
            <a:ext cx="835344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620DBB-1CAB-4353-849D-87D2D8D23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5680" y="1483920"/>
            <a:ext cx="40762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95280" y="407988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D5A3A-92DC-4F90-AF85-F7DD5C529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35344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95280" y="4079880"/>
            <a:ext cx="835344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F136C5-BA48-451D-9ACC-B0325DB20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56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395280" y="407988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75680" y="407988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B24710-DB76-4E17-ACB9-B8776B00A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219840" y="148392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044040" y="148392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395280" y="407988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219840" y="407988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044040" y="407988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BB5B25-9F68-48D7-B811-C79645927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40762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56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5680" y="407988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A248C-0675-42BA-A88E-42111E84F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56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95280" y="4079880"/>
            <a:ext cx="835344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2ADF6-9866-40A3-879A-5B007CEEA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sto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sto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sto MT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alisto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sto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sto MT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sto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sto MT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Calisto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sto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sto MT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Calisto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sto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sto MT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Calisto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sto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sto MT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Calisto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sto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A38D7-FB31-44E5-85C9-738C10A25A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sto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4285E-EDF6-40D6-BA53-42F486CDB4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sto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sto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sto MT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alisto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sto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sto MT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sto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sto MT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Calisto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sto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sto MT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Calisto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sto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sto MT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Calisto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sto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sto MT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Calisto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sto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7"/>
          </p:nvPr>
        </p:nvSpPr>
        <p:spPr>
          <a:xfrm>
            <a:off x="14425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8"/>
          </p:nvPr>
        </p:nvSpPr>
        <p:spPr>
          <a:xfrm>
            <a:off x="3733560" y="6524640"/>
            <a:ext cx="289548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9"/>
          </p:nvPr>
        </p:nvSpPr>
        <p:spPr>
          <a:xfrm>
            <a:off x="67813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8D20C-E0E5-4A60-A5A7-4F471ADCEF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42880" y="2971800"/>
            <a:ext cx="73137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sto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dt" idx="10"/>
          </p:nvPr>
        </p:nvSpPr>
        <p:spPr>
          <a:xfrm>
            <a:off x="14425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ftr" idx="11"/>
          </p:nvPr>
        </p:nvSpPr>
        <p:spPr>
          <a:xfrm>
            <a:off x="3733560" y="6524640"/>
            <a:ext cx="289548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sldNum" idx="12"/>
          </p:nvPr>
        </p:nvSpPr>
        <p:spPr>
          <a:xfrm>
            <a:off x="67813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13689-826B-45B0-BACC-32583B56B9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395280" y="1483920"/>
            <a:ext cx="835344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1800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sto MT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  <a:p>
            <a:pPr lvl="1" marL="743040" indent="-285840">
              <a:spcBef>
                <a:spcPts val="799"/>
              </a:spcBef>
              <a:buClr>
                <a:srgbClr val="d1800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sto MT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  <a:p>
            <a:pPr lvl="2" marL="1143000" indent="-228600">
              <a:spcBef>
                <a:spcPts val="799"/>
              </a:spcBef>
              <a:buClr>
                <a:srgbClr val="d1800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sto MT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  <a:p>
            <a:pPr lvl="3" marL="1600200" indent="-228600">
              <a:spcBef>
                <a:spcPts val="799"/>
              </a:spcBef>
              <a:buClr>
                <a:srgbClr val="d1800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sto MT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  <a:p>
            <a:pPr lvl="4" marL="2057400" indent="-228600">
              <a:spcBef>
                <a:spcPts val="799"/>
              </a:spcBef>
              <a:buClr>
                <a:srgbClr val="d1800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sto MT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sto MT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sto MT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2C412-DEEB-42B7-B90F-D901B3D1F372}" type="slidenum">
              <a:rPr b="0" lang="es-ES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76040" y="4149720"/>
            <a:ext cx="885672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1C91D-CBA4-47D0-8725-6D9AC50C06BC}" type="slidenum">
              <a:rPr b="0" lang="es-ES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sto MT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sto MT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alisto MT"/>
            </a:endParaRPr>
          </a:p>
          <a:p>
            <a:pPr lvl="2" marL="914400" algn="ctr">
              <a:spcBef>
                <a:spcPts val="601"/>
              </a:spcBef>
              <a:buClr>
                <a:srgbClr val="d1800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  <a:p>
            <a:pPr lvl="3" marL="1371600" algn="ctr">
              <a:spcBef>
                <a:spcPts val="499"/>
              </a:spcBef>
              <a:buClr>
                <a:srgbClr val="d1800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sto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alisto MT"/>
            </a:endParaRPr>
          </a:p>
          <a:p>
            <a:pPr lvl="4" marL="1828800" algn="ctr">
              <a:spcBef>
                <a:spcPts val="499"/>
              </a:spcBef>
              <a:buClr>
                <a:srgbClr val="d18009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sto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alisto MT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sto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alisto MT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sto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alisto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6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18.xml"/><Relationship Id="rId3" Type="http://schemas.openxmlformats.org/officeDocument/2006/relationships/slideLayout" Target="../slideLayouts/slideLayout5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76040" y="4464000"/>
            <a:ext cx="885672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Calisto MT"/>
              </a:rPr>
              <a:t>El Capital Humano en la </a:t>
            </a:r>
            <a:br>
              <a:rPr sz="3800"/>
            </a:br>
            <a:r>
              <a:rPr b="0" lang="en-US" sz="3800" spc="-1" strike="noStrike">
                <a:solidFill>
                  <a:srgbClr val="ffffff"/>
                </a:solidFill>
                <a:latin typeface="Calisto MT"/>
              </a:rPr>
              <a:t>Estrategia de Innovación de Chile</a:t>
            </a:r>
            <a:endParaRPr b="0" lang="en-US" sz="3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178920" y="5587920"/>
            <a:ext cx="88362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sto MT"/>
              </a:rPr>
              <a:t>Nicolás Eyzaguirre G.</a:t>
            </a: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32544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sto MT"/>
              </a:rPr>
              <a:t>La Estrategia de Innovación</a:t>
            </a: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51" name=""/>
          <p:cNvSpPr/>
          <p:nvPr/>
        </p:nvSpPr>
        <p:spPr>
          <a:xfrm>
            <a:off x="420840" y="2568600"/>
            <a:ext cx="8507160" cy="39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18009"/>
                </a:solidFill>
                <a:latin typeface="Calisto MT"/>
              </a:rPr>
              <a:t>1.</a:t>
            </a:r>
            <a:r>
              <a:rPr b="0" lang="en-US" sz="2000" spc="-1" strike="noStrike">
                <a:solidFill>
                  <a:srgbClr val="ffffff"/>
                </a:solidFill>
                <a:latin typeface="Calisto MT"/>
              </a:rPr>
              <a:t> La conformación de un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Calisto MT"/>
              </a:rPr>
              <a:t>sistema de aprendizaje para toda la vida</a:t>
            </a:r>
            <a:r>
              <a:rPr b="0" lang="en-US" sz="2000" spc="-1" strike="noStrike">
                <a:solidFill>
                  <a:srgbClr val="ffffff"/>
                </a:solidFill>
                <a:latin typeface="Calisto MT"/>
              </a:rPr>
              <a:t>, accesible y de calidad, que le permita al país contar con el capital humano que la Economía del Conocimiento demanda.</a:t>
            </a:r>
            <a:endParaRPr b="0" lang="en-US" sz="2000" spc="-1" strike="noStrike">
              <a:solidFill>
                <a:srgbClr val="000000"/>
              </a:solidFill>
              <a:latin typeface="Calisto MT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18009"/>
                </a:solidFill>
                <a:latin typeface="Calisto MT"/>
              </a:rPr>
              <a:t>2.</a:t>
            </a:r>
            <a:r>
              <a:rPr b="0" lang="en-US" sz="2000" spc="-1" strike="noStrike">
                <a:solidFill>
                  <a:srgbClr val="ffffff"/>
                </a:solidFill>
                <a:latin typeface="Calisto MT"/>
              </a:rPr>
              <a:t> El fortalecimiento de una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Calisto MT"/>
              </a:rPr>
              <a:t>plataforma de generación, difusión y aplicación del conocimiento</a:t>
            </a:r>
            <a:r>
              <a:rPr b="0" lang="en-US" sz="2000" spc="-1" strike="noStrike">
                <a:solidFill>
                  <a:srgbClr val="ffffff"/>
                </a:solidFill>
                <a:latin typeface="Calisto MT"/>
              </a:rPr>
              <a:t> que se funde en un esfuerzo permanente y robusto de investigación científica y tecnológica coherente con los problemas productivos y sociales del país.</a:t>
            </a:r>
            <a:endParaRPr b="0" lang="en-US" sz="2000" spc="-1" strike="noStrike">
              <a:solidFill>
                <a:srgbClr val="000000"/>
              </a:solidFill>
              <a:latin typeface="Calisto MT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18009"/>
                </a:solidFill>
                <a:latin typeface="Calisto MT"/>
              </a:rPr>
              <a:t>3.</a:t>
            </a:r>
            <a:r>
              <a:rPr b="0" lang="en-US" sz="2000" spc="-1" strike="noStrike">
                <a:solidFill>
                  <a:srgbClr val="ffffff"/>
                </a:solidFill>
                <a:latin typeface="Calisto MT"/>
              </a:rPr>
              <a:t> La consolidación de un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Calisto MT"/>
              </a:rPr>
              <a:t>sistema empresarial innovador</a:t>
            </a:r>
            <a:r>
              <a:rPr b="0" lang="en-US" sz="2000" spc="-1" strike="noStrike">
                <a:solidFill>
                  <a:srgbClr val="ffffff"/>
                </a:solidFill>
                <a:latin typeface="Calisto MT"/>
              </a:rPr>
              <a:t> orientado a la creación de valor como estrategia de competencia en los mercados globales.</a:t>
            </a:r>
            <a:endParaRPr b="0" lang="en-US" sz="20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52" name=""/>
          <p:cNvSpPr/>
          <p:nvPr/>
        </p:nvSpPr>
        <p:spPr>
          <a:xfrm>
            <a:off x="325440" y="1459080"/>
            <a:ext cx="7334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La Estrategia elaborada por el Consejo de Innovación se funda en tres pilares: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500"/>
                            </p:stCondLst>
                            <p:childTnLst>
                              <p:par>
                                <p:cTn id="3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" dur="500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1000"/>
                            </p:stCondLst>
                            <p:childTnLst>
                              <p:par>
                                <p:cTn id="3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1" dur="500"/>
                                        <p:tgtEl>
                                          <p:spTgt spid="4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1500"/>
                            </p:stCondLst>
                            <p:childTnLst>
                              <p:par>
                                <p:cTn id="3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" dur="500"/>
                                        <p:tgtEl>
                                          <p:spTgt spid="4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325440" y="476280"/>
            <a:ext cx="88185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sto MT"/>
              </a:rPr>
              <a:t>Estrategia: foco en Capital Humano</a:t>
            </a: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54" name=""/>
          <p:cNvSpPr/>
          <p:nvPr/>
        </p:nvSpPr>
        <p:spPr>
          <a:xfrm>
            <a:off x="297000" y="1433520"/>
            <a:ext cx="854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Las grandes orientaciones del Volumen I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55" name=""/>
          <p:cNvSpPr/>
          <p:nvPr/>
        </p:nvSpPr>
        <p:spPr>
          <a:xfrm>
            <a:off x="482760" y="2049480"/>
            <a:ext cx="8240400" cy="53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Invertir en nuestro capital humano es invertir tanto en competitividad como en equidad: fallas de mercado justifican el apoyo público.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  <a:p>
            <a:pPr>
              <a:spcBef>
                <a:spcPts val="1125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La innovación requiere de cambios culturales a nivel de individuos e instituciones (cultura organizacional y sector público).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  <a:p>
            <a:pPr>
              <a:spcBef>
                <a:spcPts val="1125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Se requiere un gran salto en educación terciaria.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  <a:p>
            <a:pPr>
              <a:spcBef>
                <a:spcPts val="1125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Sesgo a favor de la educación técnica.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  <a:p>
            <a:pPr>
              <a:spcBef>
                <a:spcPts val="1125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Apoyo del Estado con foco en la demanda (estudiantes): créditos y becas.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  <a:p>
            <a:pPr>
              <a:spcBef>
                <a:spcPts val="1125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Exigencia de calidad de la oferta es requisito para cualquier aporte público.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  <a:p>
            <a:pPr>
              <a:spcBef>
                <a:spcPts val="1125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Formación técnica y capacitación van de la mano: competencias laborales.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  <a:p>
            <a:pPr>
              <a:spcBef>
                <a:spcPts val="1125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Necesidad de formar masas críticas de capital humano especializado: conocimiento tácito.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  <a:p>
            <a:pPr>
              <a:spcBef>
                <a:spcPts val="1125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El tiempo importa: esfuerzo especial de selectividad para responder a requerimientos de sectores con potencial.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2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7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325440" y="476280"/>
            <a:ext cx="88185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sto MT"/>
              </a:rPr>
              <a:t>Estrategia: foco en Capital Humano</a:t>
            </a: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57" name=""/>
          <p:cNvSpPr/>
          <p:nvPr/>
        </p:nvSpPr>
        <p:spPr>
          <a:xfrm>
            <a:off x="297000" y="1433520"/>
            <a:ext cx="854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La propuesta del Volumen II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58" name=""/>
          <p:cNvSpPr/>
          <p:nvPr/>
        </p:nvSpPr>
        <p:spPr>
          <a:xfrm>
            <a:off x="436680" y="2068560"/>
            <a:ext cx="8548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listo MT"/>
              </a:rPr>
              <a:t>Conformar un sistema de aprendizaje para toda la vida accesible y de calidad, que le permita al país contar con el capital humano que la Economía del Conocimiento demanda.</a:t>
            </a:r>
            <a:endParaRPr b="0" lang="en-US" sz="20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59" name=""/>
          <p:cNvSpPr/>
          <p:nvPr/>
        </p:nvSpPr>
        <p:spPr>
          <a:xfrm>
            <a:off x="1486080" y="3917880"/>
            <a:ext cx="1879560" cy="838440"/>
          </a:xfrm>
          <a:prstGeom prst="roundRect">
            <a:avLst>
              <a:gd name="adj" fmla="val 16667"/>
            </a:avLst>
          </a:prstGeom>
          <a:solidFill>
            <a:srgbClr val="a0e2fa">
              <a:alpha val="20000"/>
            </a:srgbClr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Articulación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60" name=""/>
          <p:cNvSpPr/>
          <p:nvPr/>
        </p:nvSpPr>
        <p:spPr>
          <a:xfrm>
            <a:off x="3613320" y="3917880"/>
            <a:ext cx="1879560" cy="838440"/>
          </a:xfrm>
          <a:prstGeom prst="roundRect">
            <a:avLst>
              <a:gd name="adj" fmla="val 16667"/>
            </a:avLst>
          </a:prstGeom>
          <a:solidFill>
            <a:srgbClr val="a0e2fa">
              <a:alpha val="20000"/>
            </a:srgbClr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Calidad y pertinencia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61" name=""/>
          <p:cNvSpPr/>
          <p:nvPr/>
        </p:nvSpPr>
        <p:spPr>
          <a:xfrm>
            <a:off x="5740560" y="3917880"/>
            <a:ext cx="1879560" cy="838440"/>
          </a:xfrm>
          <a:prstGeom prst="roundRect">
            <a:avLst>
              <a:gd name="adj" fmla="val 16667"/>
            </a:avLst>
          </a:prstGeom>
          <a:solidFill>
            <a:srgbClr val="a0e2fa">
              <a:alpha val="20000"/>
            </a:srgbClr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Cobertura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62" name=""/>
          <p:cNvSpPr/>
          <p:nvPr/>
        </p:nvSpPr>
        <p:spPr>
          <a:xfrm>
            <a:off x="1298520" y="3478320"/>
            <a:ext cx="6554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sto MT"/>
              </a:rPr>
              <a:t>Tres grandes líneas de acción en el capítulo de Capital Humano</a:t>
            </a:r>
            <a:endParaRPr b="0" lang="en-US" sz="16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63" name=""/>
          <p:cNvSpPr/>
          <p:nvPr/>
        </p:nvSpPr>
        <p:spPr>
          <a:xfrm>
            <a:off x="2263680" y="4989600"/>
            <a:ext cx="589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sto MT"/>
              </a:rPr>
              <a:t>Ciencia                                             Innovación Empresarial</a:t>
            </a:r>
            <a:endParaRPr b="0" lang="en-US" sz="16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64" name=""/>
          <p:cNvSpPr/>
          <p:nvPr/>
        </p:nvSpPr>
        <p:spPr>
          <a:xfrm>
            <a:off x="1793880" y="5403960"/>
            <a:ext cx="1879560" cy="838080"/>
          </a:xfrm>
          <a:prstGeom prst="roundRect">
            <a:avLst>
              <a:gd name="adj" fmla="val 16667"/>
            </a:avLst>
          </a:prstGeom>
          <a:solidFill>
            <a:srgbClr val="a0e2fa">
              <a:alpha val="20000"/>
            </a:srgbClr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Dotación de científicos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65" name=""/>
          <p:cNvSpPr/>
          <p:nvPr/>
        </p:nvSpPr>
        <p:spPr>
          <a:xfrm>
            <a:off x="4441680" y="5416560"/>
            <a:ext cx="1879920" cy="838080"/>
          </a:xfrm>
          <a:prstGeom prst="roundRect">
            <a:avLst>
              <a:gd name="adj" fmla="val 16667"/>
            </a:avLst>
          </a:prstGeom>
          <a:solidFill>
            <a:srgbClr val="a0e2fa">
              <a:alpha val="20000"/>
            </a:srgbClr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Gestión de la Innovación e I+D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66" name=""/>
          <p:cNvSpPr/>
          <p:nvPr/>
        </p:nvSpPr>
        <p:spPr>
          <a:xfrm>
            <a:off x="1293840" y="4761000"/>
            <a:ext cx="655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sto MT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67" name=""/>
          <p:cNvSpPr/>
          <p:nvPr/>
        </p:nvSpPr>
        <p:spPr>
          <a:xfrm>
            <a:off x="6477120" y="5410080"/>
            <a:ext cx="1879560" cy="838440"/>
          </a:xfrm>
          <a:prstGeom prst="roundRect">
            <a:avLst>
              <a:gd name="adj" fmla="val 16667"/>
            </a:avLst>
          </a:prstGeom>
          <a:solidFill>
            <a:srgbClr val="a0e2fa">
              <a:alpha val="20000"/>
            </a:srgbClr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Clusters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4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500"/>
                            </p:stCondLst>
                            <p:childTnLst>
                              <p:par>
                                <p:cTn id="4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8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3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6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9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2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5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8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1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4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7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25440" y="476280"/>
            <a:ext cx="88185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sto MT"/>
              </a:rPr>
              <a:t>Estrategia: foco en Capital Humano</a:t>
            </a: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69" name=""/>
          <p:cNvSpPr/>
          <p:nvPr/>
        </p:nvSpPr>
        <p:spPr>
          <a:xfrm>
            <a:off x="297000" y="1433520"/>
            <a:ext cx="854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La propuesta del Volumen II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70" name=""/>
          <p:cNvSpPr/>
          <p:nvPr/>
        </p:nvSpPr>
        <p:spPr>
          <a:xfrm>
            <a:off x="511200" y="1962000"/>
            <a:ext cx="1879560" cy="838440"/>
          </a:xfrm>
          <a:prstGeom prst="roundRect">
            <a:avLst>
              <a:gd name="adj" fmla="val 16667"/>
            </a:avLst>
          </a:prstGeom>
          <a:solidFill>
            <a:srgbClr val="a0e2fa">
              <a:alpha val="20000"/>
            </a:srgbClr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Articulación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71" name=""/>
          <p:cNvSpPr/>
          <p:nvPr/>
        </p:nvSpPr>
        <p:spPr>
          <a:xfrm>
            <a:off x="322200" y="2897280"/>
            <a:ext cx="8526600" cy="342576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sto MT"/>
              </a:rPr>
              <a:t>Consolidar mecanismos de articulación: entre niveles de formación y capacitación, y entre éstas y el mercado laboral.</a:t>
            </a:r>
            <a:endParaRPr b="0" lang="en-US" sz="2000" spc="-1" strike="noStrike">
              <a:solidFill>
                <a:srgbClr val="000000"/>
              </a:solidFill>
              <a:latin typeface="Calisto MT"/>
            </a:endParaRPr>
          </a:p>
          <a:p>
            <a:pPr>
              <a:spcBef>
                <a:spcPts val="1125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Sistema de certificación de competencias laborales (con participación del mundo productivo en la definición).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  <a:p>
            <a:pPr>
              <a:spcBef>
                <a:spcPts val="1125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Armonizar procesos formativos para dar más flexibilidad al sistema y asegurar competencia entre oferentes de formación. (Ej. Créditos transferibles) 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  <a:p>
            <a:pPr>
              <a:spcBef>
                <a:spcPts val="1125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Reconocimiento del aprendizaje obtenido en instancias no formales (mejora la empleabilidad de los trabajadores y ayuda al proceso de formación continua).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4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500"/>
                            </p:stCondLst>
                            <p:childTnLst>
                              <p:par>
                                <p:cTn id="4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8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3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25440" y="476280"/>
            <a:ext cx="88185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sto MT"/>
              </a:rPr>
              <a:t>Estrategia: foco en Capital Humano</a:t>
            </a: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73" name=""/>
          <p:cNvSpPr/>
          <p:nvPr/>
        </p:nvSpPr>
        <p:spPr>
          <a:xfrm>
            <a:off x="297000" y="1433520"/>
            <a:ext cx="854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La propuesta del Volumen II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74" name=""/>
          <p:cNvSpPr/>
          <p:nvPr/>
        </p:nvSpPr>
        <p:spPr>
          <a:xfrm>
            <a:off x="511200" y="1962000"/>
            <a:ext cx="1879560" cy="838440"/>
          </a:xfrm>
          <a:prstGeom prst="roundRect">
            <a:avLst>
              <a:gd name="adj" fmla="val 16667"/>
            </a:avLst>
          </a:prstGeom>
          <a:solidFill>
            <a:srgbClr val="a0e2fa">
              <a:alpha val="20000"/>
            </a:srgbClr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Calidad y pertinencia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75" name=""/>
          <p:cNvSpPr/>
          <p:nvPr/>
        </p:nvSpPr>
        <p:spPr>
          <a:xfrm>
            <a:off x="328680" y="2903400"/>
            <a:ext cx="8513640" cy="296568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sto MT"/>
              </a:rPr>
              <a:t>Asegurar la calidad y pertinencia de la formación y la capacitación a través de modelos de evaluación que apunten a la medición de resultados.</a:t>
            </a:r>
            <a:endParaRPr b="0" lang="en-US" sz="2000" spc="-1" strike="noStrike">
              <a:solidFill>
                <a:srgbClr val="000000"/>
              </a:solidFill>
              <a:latin typeface="Calisto MT"/>
            </a:endParaRPr>
          </a:p>
          <a:p>
            <a:pPr>
              <a:spcBef>
                <a:spcPts val="1125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Fortalecer la acreditación de la oferta de pre y post grado.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  <a:p>
            <a:pPr>
              <a:spcBef>
                <a:spcPts val="1125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Implementar la acreditación de la formación y capacitación técnicas sobre la base del sistema de certificación de competencias laborales.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  <a:p>
            <a:pPr>
              <a:spcBef>
                <a:spcPts val="1125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Fortalecer sistemas de información para orientar y retroalimentar a los actores del sistema.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0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500"/>
                            </p:stCondLst>
                            <p:childTnLst>
                              <p:par>
                                <p:cTn id="4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4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9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25440" y="476280"/>
            <a:ext cx="88185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sto MT"/>
              </a:rPr>
              <a:t>Estrategia: foco en Capital Humano</a:t>
            </a: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77" name=""/>
          <p:cNvSpPr/>
          <p:nvPr/>
        </p:nvSpPr>
        <p:spPr>
          <a:xfrm>
            <a:off x="297000" y="1433520"/>
            <a:ext cx="854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La propuesta del Volumen II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78" name=""/>
          <p:cNvSpPr/>
          <p:nvPr/>
        </p:nvSpPr>
        <p:spPr>
          <a:xfrm>
            <a:off x="511200" y="1962000"/>
            <a:ext cx="1879560" cy="838440"/>
          </a:xfrm>
          <a:prstGeom prst="roundRect">
            <a:avLst>
              <a:gd name="adj" fmla="val 16667"/>
            </a:avLst>
          </a:prstGeom>
          <a:solidFill>
            <a:srgbClr val="a0e2fa">
              <a:alpha val="20000"/>
            </a:srgbClr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Cobertura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79" name=""/>
          <p:cNvSpPr/>
          <p:nvPr/>
        </p:nvSpPr>
        <p:spPr>
          <a:xfrm>
            <a:off x="272880" y="2898720"/>
            <a:ext cx="8871120" cy="347652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18000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sto MT"/>
              </a:rPr>
              <a:t>Aumentar cobertura con foco en el apoyo a la formación terciaria de jóvenes de menores ingresos (en especial técnicos) y en la capacitación de trabajadores de las empresas de menor tamaño relativo.</a:t>
            </a:r>
            <a:endParaRPr b="0" lang="en-US" sz="2000" spc="-1" strike="noStrike">
              <a:solidFill>
                <a:srgbClr val="000000"/>
              </a:solidFill>
              <a:latin typeface="Calisto MT"/>
            </a:endParaRPr>
          </a:p>
          <a:p>
            <a:pPr>
              <a:spcBef>
                <a:spcPts val="1125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Consolidar el actual sistema de Crédito con Aval del Estado como el principal sistema de financiamiento para la formación técnica y profesional.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  <a:p>
            <a:pPr>
              <a:spcBef>
                <a:spcPts val="1125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Perfeccionar cobranza y focalización del Crédito Universitario Solidario y perfeccionar el crédito Corfo (foco en educación continua y postgrados profesionales).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  <a:p>
            <a:pPr>
              <a:spcBef>
                <a:spcPts val="1125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Potenciar becas (aranceles y mantención) para quintiles más pobres, ajustando monto de los beneficios (costo de oportunidad y costos de las carreras).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  <a:p>
            <a:pPr>
              <a:spcBef>
                <a:spcPts val="1125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Reorientar el apoyo público a la capacitación de acuerdo a las necesidades de los trabajadores, y focalizar la franquicia Sence en pequeñas empresas.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6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500"/>
                            </p:stCondLst>
                            <p:childTnLst>
                              <p:par>
                                <p:cTn id="4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0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5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25440" y="476280"/>
            <a:ext cx="88185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sto MT"/>
              </a:rPr>
              <a:t>Estrategia: foco en Capital Humano</a:t>
            </a: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81" name=""/>
          <p:cNvSpPr/>
          <p:nvPr/>
        </p:nvSpPr>
        <p:spPr>
          <a:xfrm>
            <a:off x="297000" y="1433520"/>
            <a:ext cx="854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La propuesta del Volumen II en Ciencia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82" name=""/>
          <p:cNvSpPr/>
          <p:nvPr/>
        </p:nvSpPr>
        <p:spPr>
          <a:xfrm>
            <a:off x="511200" y="1962000"/>
            <a:ext cx="1879560" cy="838440"/>
          </a:xfrm>
          <a:prstGeom prst="roundRect">
            <a:avLst>
              <a:gd name="adj" fmla="val 16667"/>
            </a:avLst>
          </a:prstGeom>
          <a:solidFill>
            <a:srgbClr val="a0e2fa">
              <a:alpha val="20000"/>
            </a:srgbClr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Dotación de científicos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83" name=""/>
          <p:cNvSpPr/>
          <p:nvPr/>
        </p:nvSpPr>
        <p:spPr>
          <a:xfrm>
            <a:off x="272880" y="2898720"/>
            <a:ext cx="8871120" cy="347652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18000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sto MT"/>
              </a:rPr>
              <a:t>Asegurar una dotación de científicos capaz de abordar los desafíos del país.</a:t>
            </a:r>
            <a:endParaRPr b="0" lang="en-US" sz="2000" spc="-1" strike="noStrike">
              <a:solidFill>
                <a:srgbClr val="000000"/>
              </a:solidFill>
              <a:latin typeface="Calisto MT"/>
            </a:endParaRPr>
          </a:p>
          <a:p>
            <a:pPr>
              <a:spcBef>
                <a:spcPts val="1125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Aumentar aporte público para becas de postgrado (con foco en formación de investigadores), elevando el valor de las becas nacionales e internacionales, exigiendo calidad a la oferta de formación y estimulando la graduación en menos tiempo.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  <a:p>
            <a:pPr>
              <a:spcBef>
                <a:spcPts val="1125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Estimular y fortalecer la oferta de programas de doctorado nacionales con orientación estratégica.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  <a:p>
            <a:pPr>
              <a:spcBef>
                <a:spcPts val="1125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Apoyar la incorporación de investigadores nuevos al sistema y la reinserción tanto en la academia como en las empresas de los nuevos doctores.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  <a:p>
            <a:pPr>
              <a:spcBef>
                <a:spcPts val="1125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Atraer investigadores formados en el extranjero para cubrir brechas coyunturales en áreas prioritarias.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2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500"/>
                            </p:stCondLst>
                            <p:childTnLst>
                              <p:par>
                                <p:cTn id="5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6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1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325440" y="476280"/>
            <a:ext cx="88185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sto MT"/>
              </a:rPr>
              <a:t>Estrategia: foco en Capital Humano</a:t>
            </a: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85" name=""/>
          <p:cNvSpPr/>
          <p:nvPr/>
        </p:nvSpPr>
        <p:spPr>
          <a:xfrm>
            <a:off x="297000" y="1433520"/>
            <a:ext cx="854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La propuesta del Volumen II en Innovación Empresaria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86" name=""/>
          <p:cNvSpPr/>
          <p:nvPr/>
        </p:nvSpPr>
        <p:spPr>
          <a:xfrm>
            <a:off x="511200" y="1962000"/>
            <a:ext cx="1879560" cy="838440"/>
          </a:xfrm>
          <a:prstGeom prst="roundRect">
            <a:avLst>
              <a:gd name="adj" fmla="val 16667"/>
            </a:avLst>
          </a:prstGeom>
          <a:solidFill>
            <a:srgbClr val="a0e2fa">
              <a:alpha val="20000"/>
            </a:srgbClr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Gestión de la Innovación e I+D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87" name=""/>
          <p:cNvSpPr/>
          <p:nvPr/>
        </p:nvSpPr>
        <p:spPr>
          <a:xfrm>
            <a:off x="272880" y="2898720"/>
            <a:ext cx="8871120" cy="347652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180000" tIns="0" bIns="0" anchor="t">
            <a:noAutofit/>
          </a:bodyPr>
          <a:p>
            <a:pPr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Incorporar capital humano para la gestión de la innovación y para el desarrollo de I+D en las empresas.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  <a:p>
            <a:pPr lvl="1" marL="179280">
              <a:lnSpc>
                <a:spcPct val="100000"/>
              </a:lnSpc>
              <a:spcBef>
                <a:spcPts val="601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Calisto MT"/>
              </a:rPr>
              <a:t>Poner en marcha un programa de formación en habilidades de gestión de la innovación a través de créditos con garantía estatal u otras formas de apoyo pertinentes.</a:t>
            </a:r>
            <a:endParaRPr b="0" lang="en-US" sz="1600" spc="-1" strike="noStrike">
              <a:solidFill>
                <a:srgbClr val="000000"/>
              </a:solidFill>
              <a:latin typeface="Calisto MT"/>
            </a:endParaRPr>
          </a:p>
          <a:p>
            <a:pPr lvl="1" marL="179280">
              <a:lnSpc>
                <a:spcPct val="100000"/>
              </a:lnSpc>
              <a:spcBef>
                <a:spcPts val="601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Calisto MT"/>
              </a:rPr>
              <a:t>Apoyar con recursos públicos la inserción en las empresas de personal especializado en la gestión de la innovación y en el desarrollo de la I+D.</a:t>
            </a:r>
            <a:endParaRPr b="0" lang="en-US" sz="1600" spc="-1" strike="noStrike">
              <a:solidFill>
                <a:srgbClr val="000000"/>
              </a:solidFill>
              <a:latin typeface="Calisto MT"/>
            </a:endParaRPr>
          </a:p>
          <a:p>
            <a:pPr>
              <a:spcBef>
                <a:spcPts val="1125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Apoyar la formación de capital humano especializado en Propiedad Intelectual.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  <a:p>
            <a:pPr>
              <a:spcBef>
                <a:spcPts val="1125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Desarrollar un sistema de garantías estatales para créditos para financiar la adquisición de activos intangibles, especialmente en empresas de menor tamaño.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2" dur="indefinite" restart="never" nodeType="tmRoot">
          <p:childTnLst>
            <p:seq>
              <p:cTn id="513" dur="indefinite" nodeType="mainSeq">
                <p:childTnLst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8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500"/>
                            </p:stCondLst>
                            <p:childTnLst>
                              <p:par>
                                <p:cTn id="5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2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7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25440" y="476280"/>
            <a:ext cx="88185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sto MT"/>
              </a:rPr>
              <a:t>Estrategia: foco en Capital Humano</a:t>
            </a: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89" name=""/>
          <p:cNvSpPr/>
          <p:nvPr/>
        </p:nvSpPr>
        <p:spPr>
          <a:xfrm>
            <a:off x="297000" y="1433520"/>
            <a:ext cx="854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La propuesta del Volumen II en Innovación Empresaria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90" name=""/>
          <p:cNvSpPr/>
          <p:nvPr/>
        </p:nvSpPr>
        <p:spPr>
          <a:xfrm>
            <a:off x="511200" y="1962000"/>
            <a:ext cx="1879560" cy="838440"/>
          </a:xfrm>
          <a:prstGeom prst="roundRect">
            <a:avLst>
              <a:gd name="adj" fmla="val 16667"/>
            </a:avLst>
          </a:prstGeom>
          <a:solidFill>
            <a:srgbClr val="a0e2fa">
              <a:alpha val="20000"/>
            </a:srgbClr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Clusters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91" name=""/>
          <p:cNvSpPr/>
          <p:nvPr/>
        </p:nvSpPr>
        <p:spPr>
          <a:xfrm>
            <a:off x="272880" y="2898720"/>
            <a:ext cx="8871120" cy="347652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18000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sto MT"/>
              </a:rPr>
              <a:t>El capital humano como plataforma transversal en los sectores prioritarios.</a:t>
            </a:r>
            <a:endParaRPr b="0" lang="en-US" sz="2000" spc="-1" strike="noStrike">
              <a:solidFill>
                <a:srgbClr val="000000"/>
              </a:solidFill>
              <a:latin typeface="Calisto MT"/>
            </a:endParaRPr>
          </a:p>
          <a:p>
            <a:pPr>
              <a:spcBef>
                <a:spcPts val="1125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La gran demanda que emerge es disponer de competencias específicas en la fuerza laboral para cada sector.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  <a:p>
            <a:pPr>
              <a:spcBef>
                <a:spcPts val="1125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Las hojas de ruta de los ocho clusters estudiados por el Consejo consideran necesidades de los sectores tanto en formación profesional como técnica. Ej. habilidades en inglés para offshoring; técnicos para fruticultura y turismo; técnicos y profesionales (investigadores) para acuicultura.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  <a:p>
            <a:pPr>
              <a:spcBef>
                <a:spcPts val="1125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Los sectores productivos demandan sistemas de certificación que señalicen en quiénes existen las competencias requeridas y faciliten así la relación entre oferentes y demandantes en el mercado laboral.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4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500"/>
                            </p:stCondLst>
                            <p:childTnLst>
                              <p:par>
                                <p:cTn id="5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8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325440" y="476280"/>
            <a:ext cx="88185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sto MT"/>
              </a:rPr>
              <a:t>En síntesis</a:t>
            </a: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93" name=""/>
          <p:cNvSpPr/>
          <p:nvPr/>
        </p:nvSpPr>
        <p:spPr>
          <a:xfrm>
            <a:off x="297000" y="1433520"/>
            <a:ext cx="8548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El problema de la innovación es sistémico y es necesario integrar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94" name=""/>
          <p:cNvSpPr/>
          <p:nvPr/>
        </p:nvSpPr>
        <p:spPr>
          <a:xfrm>
            <a:off x="1268280" y="3205080"/>
            <a:ext cx="1879560" cy="838440"/>
          </a:xfrm>
          <a:prstGeom prst="roundRect">
            <a:avLst>
              <a:gd name="adj" fmla="val 16667"/>
            </a:avLst>
          </a:prstGeom>
          <a:solidFill>
            <a:srgbClr val="a0e2fa">
              <a:alpha val="20000"/>
            </a:srgbClr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Oferta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95" name=""/>
          <p:cNvSpPr/>
          <p:nvPr/>
        </p:nvSpPr>
        <p:spPr>
          <a:xfrm>
            <a:off x="272880" y="4770360"/>
            <a:ext cx="4299120" cy="179244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180000" tIns="0" bIns="0" anchor="t">
            <a:noAutofit/>
          </a:bodyPr>
          <a:p>
            <a:pPr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listo MT"/>
              </a:rPr>
              <a:t>Más personas con educación terciaria, en especial de técnicos</a:t>
            </a:r>
            <a:endParaRPr b="0" lang="en-US" sz="2000" spc="-1" strike="noStrike">
              <a:solidFill>
                <a:srgbClr val="000000"/>
              </a:solidFill>
              <a:latin typeface="Calisto MT"/>
            </a:endParaRPr>
          </a:p>
          <a:p>
            <a:pPr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alisto MT"/>
              </a:rPr>
              <a:t>Más científicos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  <a:p>
            <a:pPr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listo MT"/>
              </a:rPr>
              <a:t>Más trabajadores capacitados</a:t>
            </a:r>
            <a:endParaRPr b="0" lang="en-US" sz="2000" spc="-1" strike="noStrike">
              <a:solidFill>
                <a:srgbClr val="000000"/>
              </a:solidFill>
              <a:latin typeface="Calisto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96" name=""/>
          <p:cNvSpPr/>
          <p:nvPr/>
        </p:nvSpPr>
        <p:spPr>
          <a:xfrm>
            <a:off x="5014800" y="4770360"/>
            <a:ext cx="4299120" cy="217008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180000" tIns="0" bIns="0" anchor="t">
            <a:noAutofit/>
          </a:bodyPr>
          <a:p>
            <a:pPr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listo MT"/>
              </a:rPr>
              <a:t>Demandas específicas de los  sector productivos.</a:t>
            </a:r>
            <a:endParaRPr b="0" lang="en-US" sz="2000" spc="-1" strike="noStrike">
              <a:solidFill>
                <a:srgbClr val="000000"/>
              </a:solidFill>
              <a:latin typeface="Calisto MT"/>
            </a:endParaRPr>
          </a:p>
          <a:p>
            <a:pPr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listo MT"/>
              </a:rPr>
              <a:t>Participación de los privados en la definición de perfiles de competencia laboral</a:t>
            </a:r>
            <a:endParaRPr b="0" lang="en-US" sz="20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97" name=""/>
          <p:cNvSpPr/>
          <p:nvPr/>
        </p:nvSpPr>
        <p:spPr>
          <a:xfrm>
            <a:off x="5994360" y="3203640"/>
            <a:ext cx="1879560" cy="838080"/>
          </a:xfrm>
          <a:prstGeom prst="roundRect">
            <a:avLst>
              <a:gd name="adj" fmla="val 16667"/>
            </a:avLst>
          </a:prstGeom>
          <a:solidFill>
            <a:srgbClr val="a0e2fa">
              <a:alpha val="20000"/>
            </a:srgbClr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Demanda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98" name=""/>
          <p:cNvSpPr/>
          <p:nvPr/>
        </p:nvSpPr>
        <p:spPr>
          <a:xfrm>
            <a:off x="3294000" y="3147840"/>
            <a:ext cx="2554200" cy="914400"/>
          </a:xfrm>
          <a:prstGeom prst="leftRightArrow">
            <a:avLst>
              <a:gd name="adj1" fmla="val 84722"/>
              <a:gd name="adj2" fmla="val 55905"/>
            </a:avLst>
          </a:prstGeom>
          <a:solidFill>
            <a:srgbClr val="a0e2fa">
              <a:alpha val="20000"/>
            </a:srgbClr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Capital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Humano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4" dur="indefinite" restart="never" nodeType="tmRoot">
          <p:childTnLst>
            <p:seq>
              <p:cTn id="545" dur="indefinite" nodeType="mainSeq">
                <p:childTnLst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0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5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8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1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6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9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90520" y="1227240"/>
            <a:ext cx="1293840" cy="304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ffffff"/>
                </a:solidFill>
                <a:latin typeface="Calisto MT"/>
              </a:rPr>
              <a:t>“</a:t>
            </a:r>
            <a:endParaRPr b="0" lang="en-US" sz="20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57160" y="2198520"/>
            <a:ext cx="7398000" cy="329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880"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sto MT"/>
              </a:rPr>
              <a:t>En la era de la competencia y del </a:t>
            </a: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  <a:p>
            <a:pPr marL="2880"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sto MT"/>
              </a:rPr>
              <a:t>progreso tecnológico, la clave de la prosperidad vendrá de una fuerza de trabajo creativa, calificada, que sabe producir ideas, bienes y servicios intensivos en conocimiento, empleada en empresas capaces de innovar, de adoptar las tecnologías más modernas y de vender en el mundo entero bienes y servicios perfeccionados.</a:t>
            </a: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48" name=""/>
          <p:cNvSpPr/>
          <p:nvPr/>
        </p:nvSpPr>
        <p:spPr>
          <a:xfrm rot="10800000">
            <a:off x="5862600" y="3087000"/>
            <a:ext cx="1944720" cy="304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ffffff"/>
                </a:solidFill>
                <a:latin typeface="Calisto MT"/>
              </a:rPr>
              <a:t>“</a:t>
            </a:r>
            <a:endParaRPr b="0" lang="en-US" sz="200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49" name=""/>
          <p:cNvSpPr/>
          <p:nvPr/>
        </p:nvSpPr>
        <p:spPr>
          <a:xfrm>
            <a:off x="2259000" y="5977080"/>
            <a:ext cx="6745320" cy="88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240" indent="-3240" algn="r"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200" spc="-1" strike="noStrike">
                <a:solidFill>
                  <a:srgbClr val="000000"/>
                </a:solidFill>
                <a:latin typeface="Calisto MT"/>
              </a:rPr>
              <a:t>Ángel Gurría</a:t>
            </a:r>
            <a:r>
              <a:rPr b="0" i="1" lang="es-ES" sz="2200" spc="-1" strike="noStrike">
                <a:solidFill>
                  <a:srgbClr val="000000"/>
                </a:solidFill>
                <a:latin typeface="Calisto MT"/>
              </a:rPr>
              <a:t>, secretario general de la OCDE</a:t>
            </a:r>
            <a:endParaRPr b="0" lang="en-US" sz="2200" spc="-1" strike="noStrike">
              <a:solidFill>
                <a:srgbClr val="000000"/>
              </a:solidFill>
              <a:latin typeface="Calisto MT"/>
            </a:endParaRPr>
          </a:p>
          <a:p>
            <a:pPr marL="3240" indent="-324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Calisto MT"/>
              </a:rPr>
              <a:t>mayo de 2007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50" name=""/>
          <p:cNvSpPr/>
          <p:nvPr/>
        </p:nvSpPr>
        <p:spPr>
          <a:xfrm>
            <a:off x="2935440" y="6012000"/>
            <a:ext cx="6002280" cy="0"/>
          </a:xfrm>
          <a:prstGeom prst="line">
            <a:avLst/>
          </a:prstGeom>
          <a:ln cap="sq"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51" name=""/>
          <p:cNvSpPr/>
          <p:nvPr/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sto MT"/>
              </a:rPr>
              <a:t>Consenso global</a:t>
            </a:r>
            <a:endParaRPr b="0" lang="en-US" sz="3600" spc="-1" strike="noStrike">
              <a:solidFill>
                <a:srgbClr val="00000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sto MT"/>
              </a:rPr>
              <a:t>Dos tendencias marcan el futuro</a:t>
            </a: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04280" y="1541160"/>
            <a:ext cx="8628120" cy="30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4320" indent="-184320">
              <a:spcBef>
                <a:spcPts val="601"/>
              </a:spcBef>
              <a:buClr>
                <a:srgbClr val="d18009"/>
              </a:buClr>
              <a:buSzPct val="75000"/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El avance insoslayable de la globalización</a:t>
            </a: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  <a:p>
            <a:pPr lvl="1" marL="477720" indent="-114120">
              <a:buClr>
                <a:srgbClr val="d18009"/>
              </a:buClr>
              <a:buSzPct val="75000"/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sto MT"/>
              </a:rPr>
              <a:t>Nuevos mercados para exportaciones y nuevos bienes para consumo</a:t>
            </a:r>
            <a:endParaRPr b="0" lang="en-US" sz="2000" spc="-1" strike="noStrike">
              <a:solidFill>
                <a:srgbClr val="ffffff"/>
              </a:solidFill>
              <a:latin typeface="Calisto MT"/>
            </a:endParaRPr>
          </a:p>
          <a:p>
            <a:pPr lvl="1" marL="477720" indent="-114120">
              <a:buClr>
                <a:srgbClr val="d18009"/>
              </a:buClr>
              <a:buSzPct val="75000"/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listo MT"/>
              </a:rPr>
              <a:t>Nuevos competidores en mercados ya conquistados</a:t>
            </a:r>
            <a:r>
              <a:rPr b="0" lang="en-US" sz="2200" spc="-1" strike="noStrike">
                <a:solidFill>
                  <a:srgbClr val="ffffff"/>
                </a:solidFill>
                <a:latin typeface="Calisto MT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  <a:p>
            <a:pPr lvl="1" marL="4777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  <a:p>
            <a:pPr marL="184320" indent="-184320">
              <a:spcBef>
                <a:spcPts val="1800"/>
              </a:spcBef>
              <a:buClr>
                <a:srgbClr val="d18009"/>
              </a:buClr>
              <a:buSzPct val="75000"/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La calidad del </a:t>
            </a:r>
            <a:r>
              <a:rPr b="1" lang="en-US" sz="2400" spc="-1" strike="noStrike">
                <a:solidFill>
                  <a:srgbClr val="ffffff"/>
                </a:solidFill>
                <a:latin typeface="Calisto MT"/>
              </a:rPr>
              <a:t>capital humano</a:t>
            </a: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, el </a:t>
            </a:r>
            <a:r>
              <a:rPr b="1" lang="en-US" sz="2400" spc="-1" strike="noStrike">
                <a:solidFill>
                  <a:srgbClr val="ffffff"/>
                </a:solidFill>
                <a:latin typeface="Calisto MT"/>
              </a:rPr>
              <a:t>conocimiento </a:t>
            </a: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y la </a:t>
            </a:r>
            <a:r>
              <a:rPr b="1" lang="en-US" sz="2400" spc="-1" strike="noStrike">
                <a:solidFill>
                  <a:srgbClr val="ffffff"/>
                </a:solidFill>
                <a:latin typeface="Calisto MT"/>
              </a:rPr>
              <a:t>innovación </a:t>
            </a: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son los nuevos motores de la competitividad y el desarrollo.</a:t>
            </a: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sto MT"/>
              </a:rPr>
              <a:t>Chile requiere más “inspiración”</a:t>
            </a: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55" name=""/>
          <p:cNvSpPr/>
          <p:nvPr/>
        </p:nvSpPr>
        <p:spPr>
          <a:xfrm>
            <a:off x="1077840" y="3848040"/>
            <a:ext cx="2413080" cy="2705040"/>
          </a:xfrm>
          <a:prstGeom prst="rect">
            <a:avLst/>
          </a:prstGeom>
          <a:gradFill rotWithShape="0">
            <a:gsLst>
              <a:gs pos="0">
                <a:srgbClr val="dddddd">
                  <a:alpha val="20000"/>
                </a:srgbClr>
              </a:gs>
              <a:gs pos="100000">
                <a:srgbClr val="00196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56" name=""/>
          <p:cNvSpPr/>
          <p:nvPr/>
        </p:nvSpPr>
        <p:spPr>
          <a:xfrm>
            <a:off x="1217520" y="3962520"/>
            <a:ext cx="719280" cy="2158920"/>
          </a:xfrm>
          <a:prstGeom prst="rect">
            <a:avLst/>
          </a:prstGeom>
          <a:solidFill>
            <a:srgbClr val="dddddd">
              <a:alpha val="15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57" name=""/>
          <p:cNvSpPr/>
          <p:nvPr/>
        </p:nvSpPr>
        <p:spPr>
          <a:xfrm>
            <a:off x="2678040" y="3962520"/>
            <a:ext cx="719280" cy="2158920"/>
          </a:xfrm>
          <a:prstGeom prst="rect">
            <a:avLst/>
          </a:prstGeom>
          <a:solidFill>
            <a:srgbClr val="dddddd">
              <a:alpha val="15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58" name=""/>
          <p:cNvSpPr/>
          <p:nvPr/>
        </p:nvSpPr>
        <p:spPr>
          <a:xfrm>
            <a:off x="907920" y="3338640"/>
            <a:ext cx="42944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sto MT"/>
              </a:rPr>
              <a:t>Aporte de la PTF al crecimiento</a:t>
            </a:r>
            <a:endParaRPr b="0" lang="en-US" sz="22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59" name=""/>
          <p:cNvSpPr/>
          <p:nvPr/>
        </p:nvSpPr>
        <p:spPr>
          <a:xfrm>
            <a:off x="1166760" y="6108840"/>
            <a:ext cx="78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2b2b2"/>
                </a:solidFill>
                <a:latin typeface="Arial Black"/>
              </a:rPr>
              <a:t>CHILE</a:t>
            </a:r>
            <a:endParaRPr b="0" lang="en-US" sz="1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60" name=""/>
          <p:cNvSpPr/>
          <p:nvPr/>
        </p:nvSpPr>
        <p:spPr>
          <a:xfrm>
            <a:off x="2589120" y="6108840"/>
            <a:ext cx="889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2b2b2"/>
                </a:solidFill>
                <a:latin typeface="Arial Narrow"/>
              </a:rPr>
              <a:t>Otros países*</a:t>
            </a:r>
            <a:r>
              <a:rPr b="0" lang="en-US" sz="1400" spc="-1" strike="noStrike">
                <a:solidFill>
                  <a:srgbClr val="b2b2b2"/>
                </a:solidFill>
                <a:latin typeface="Arial Black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61" name=""/>
          <p:cNvSpPr/>
          <p:nvPr/>
        </p:nvSpPr>
        <p:spPr>
          <a:xfrm>
            <a:off x="1077840" y="3822840"/>
            <a:ext cx="2413080" cy="0"/>
          </a:xfrm>
          <a:prstGeom prst="line">
            <a:avLst/>
          </a:prstGeom>
          <a:ln w="190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62" name=""/>
          <p:cNvSpPr/>
          <p:nvPr/>
        </p:nvSpPr>
        <p:spPr>
          <a:xfrm>
            <a:off x="1065240" y="6591240"/>
            <a:ext cx="2413080" cy="0"/>
          </a:xfrm>
          <a:prstGeom prst="line">
            <a:avLst/>
          </a:prstGeom>
          <a:ln w="32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63" name=""/>
          <p:cNvSpPr/>
          <p:nvPr/>
        </p:nvSpPr>
        <p:spPr>
          <a:xfrm>
            <a:off x="3648240" y="6381720"/>
            <a:ext cx="477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2b2b2"/>
                </a:solidFill>
                <a:latin typeface="Arial Narrow"/>
              </a:rPr>
              <a:t>* Bálticos, Europa del Este y países de rápido crecimiento de Asia.</a:t>
            </a:r>
            <a:endParaRPr b="0" lang="en-US" sz="1400" spc="-1" strike="noStrike">
              <a:solidFill>
                <a:srgbClr val="000000"/>
              </a:solidFill>
              <a:latin typeface="Calisto MT"/>
            </a:endParaRPr>
          </a:p>
        </p:txBody>
      </p:sp>
      <p:grpSp>
        <p:nvGrpSpPr>
          <p:cNvPr id="264" name=""/>
          <p:cNvGrpSpPr/>
          <p:nvPr/>
        </p:nvGrpSpPr>
        <p:grpSpPr>
          <a:xfrm>
            <a:off x="1217520" y="5041800"/>
            <a:ext cx="2179440" cy="1087560"/>
            <a:chOff x="1217520" y="5041800"/>
            <a:chExt cx="2179440" cy="1087560"/>
          </a:xfrm>
        </p:grpSpPr>
        <p:sp>
          <p:nvSpPr>
            <p:cNvPr id="265" name=""/>
            <p:cNvSpPr/>
            <p:nvPr/>
          </p:nvSpPr>
          <p:spPr>
            <a:xfrm>
              <a:off x="1217520" y="5626080"/>
              <a:ext cx="718920" cy="5032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678040" y="5041800"/>
              <a:ext cx="718920" cy="1079640"/>
            </a:xfrm>
            <a:prstGeom prst="rect">
              <a:avLst/>
            </a:prstGeom>
            <a:solidFill>
              <a:srgbClr val="3366cc"/>
            </a:solidFill>
            <a:ln w="936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</p:grpSp>
      <p:sp>
        <p:nvSpPr>
          <p:cNvPr id="267" name=""/>
          <p:cNvSpPr/>
          <p:nvPr/>
        </p:nvSpPr>
        <p:spPr>
          <a:xfrm>
            <a:off x="3672000" y="4626000"/>
            <a:ext cx="4925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d1800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es-MX" sz="1600" spc="-1" strike="noStrike">
                <a:solidFill>
                  <a:srgbClr val="ffffff"/>
                </a:solidFill>
                <a:latin typeface="Arial Narrow"/>
              </a:rPr>
              <a:t>Según estimaciones de la Economist Intelligence Unit, la PTF explicaría menos de un cuarto del crecimiento proyectado para Chile para el período 2007-2011.</a:t>
            </a:r>
            <a:endParaRPr b="0" lang="en-US" sz="1600" spc="-1" strike="noStrike">
              <a:solidFill>
                <a:srgbClr val="000000"/>
              </a:solidFill>
              <a:latin typeface="Calisto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sto MT"/>
            </a:endParaRPr>
          </a:p>
          <a:p>
            <a:pPr>
              <a:lnSpc>
                <a:spcPct val="100000"/>
              </a:lnSpc>
              <a:buClr>
                <a:srgbClr val="d1800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es-MX" sz="1600" spc="-1" strike="noStrike">
                <a:solidFill>
                  <a:srgbClr val="ffffff"/>
                </a:solidFill>
                <a:latin typeface="Arial Narrow"/>
              </a:rPr>
              <a:t>En países competidores, el aporte de la PTF explicaría entre el 30% y 50% del crecimiento.</a:t>
            </a:r>
            <a:endParaRPr b="0" lang="en-US" sz="16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68" name=""/>
          <p:cNvSpPr/>
          <p:nvPr/>
        </p:nvSpPr>
        <p:spPr>
          <a:xfrm>
            <a:off x="474840" y="1468440"/>
            <a:ext cx="8462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Calisto MT"/>
              </a:rPr>
              <a:t>El crecimiento de la PTF depende de muchos factores, pero, por sobre todo, de la dinámica y diseminación del conocimiento, del cambio tecnológico, de las capacidades y el esfuerzo de las personas y de la innovación.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000"/>
                            </p:stCondLst>
                            <p:childTnLst>
                              <p:par>
                                <p:cTn id="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1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4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2500"/>
                            </p:stCondLst>
                            <p:childTnLst>
                              <p:par>
                                <p:cTn id="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sto MT"/>
              </a:rPr>
              <a:t>Brechas que condicionan el crecimiento</a:t>
            </a: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70" name=""/>
          <p:cNvSpPr/>
          <p:nvPr/>
        </p:nvSpPr>
        <p:spPr>
          <a:xfrm>
            <a:off x="474840" y="1582560"/>
            <a:ext cx="84628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Calisto MT"/>
              </a:rPr>
              <a:t>Más allá del buen desempeño macroeconómico o el buen nivel de las instituciones y los mercados, Chile muestra importantes debilidades en las áreas claves para el crecimiento de la PTF: educación, innovación, infraestructura y preparación tecnológica</a:t>
            </a:r>
            <a:r>
              <a:rPr b="0" lang="es-MX" sz="2000" spc="-1" strike="noStrike">
                <a:solidFill>
                  <a:srgbClr val="ffffff"/>
                </a:solidFill>
                <a:latin typeface="Calisto MT"/>
              </a:rPr>
              <a:t>.</a:t>
            </a:r>
            <a:r>
              <a:rPr b="0" lang="es-ES" sz="1800" spc="-1" strike="noStrike">
                <a:solidFill>
                  <a:srgbClr val="ffffff"/>
                </a:solidFill>
                <a:latin typeface="Calisto M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71" name=""/>
          <p:cNvSpPr/>
          <p:nvPr/>
        </p:nvSpPr>
        <p:spPr>
          <a:xfrm>
            <a:off x="3252960" y="6562800"/>
            <a:ext cx="3441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3246480" y="3450960"/>
            <a:ext cx="0" cy="3105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73" name=""/>
          <p:cNvSpPr/>
          <p:nvPr/>
        </p:nvSpPr>
        <p:spPr>
          <a:xfrm>
            <a:off x="5081760" y="6620040"/>
            <a:ext cx="1531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rebuchet MS"/>
              </a:rPr>
              <a:t>Posición en el ranking</a:t>
            </a:r>
            <a:endParaRPr b="0" lang="en-US" sz="10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74" name=""/>
          <p:cNvSpPr/>
          <p:nvPr/>
        </p:nvSpPr>
        <p:spPr>
          <a:xfrm>
            <a:off x="3195000" y="6570720"/>
            <a:ext cx="25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rebuchet MS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75" name=""/>
          <p:cNvSpPr/>
          <p:nvPr/>
        </p:nvSpPr>
        <p:spPr>
          <a:xfrm>
            <a:off x="6416640" y="6570720"/>
            <a:ext cx="324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rebuchet MS"/>
              </a:rPr>
              <a:t>80</a:t>
            </a:r>
            <a:endParaRPr b="0" lang="en-US" sz="10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76" name=""/>
          <p:cNvSpPr/>
          <p:nvPr/>
        </p:nvSpPr>
        <p:spPr>
          <a:xfrm>
            <a:off x="994680" y="3486240"/>
            <a:ext cx="2268720" cy="31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rebuchet MS"/>
              </a:rPr>
              <a:t>Macroeconomía</a:t>
            </a:r>
            <a:endParaRPr b="0" lang="en-US" sz="1200" spc="-1" strike="noStrike">
              <a:solidFill>
                <a:srgbClr val="000000"/>
              </a:solidFill>
              <a:latin typeface="Calisto MT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rebuchet MS"/>
              </a:rPr>
              <a:t>Eficiencia Mdo. Trabajo</a:t>
            </a:r>
            <a:endParaRPr b="0" lang="en-US" sz="1200" spc="-1" strike="noStrike">
              <a:solidFill>
                <a:srgbClr val="000000"/>
              </a:solidFill>
              <a:latin typeface="Calisto MT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rebuchet MS"/>
              </a:rPr>
              <a:t>Sofisticación Mdo. Financiero</a:t>
            </a:r>
            <a:endParaRPr b="0" lang="en-US" sz="1200" spc="-1" strike="noStrike">
              <a:solidFill>
                <a:srgbClr val="000000"/>
              </a:solidFill>
              <a:latin typeface="Calisto MT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rebuchet MS"/>
              </a:rPr>
              <a:t>Eficiencia Mdo. Bienes</a:t>
            </a:r>
            <a:endParaRPr b="0" lang="en-US" sz="1200" spc="-1" strike="noStrike">
              <a:solidFill>
                <a:srgbClr val="000000"/>
              </a:solidFill>
              <a:latin typeface="Calisto MT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rebuchet MS"/>
              </a:rPr>
              <a:t>Instituciones</a:t>
            </a:r>
            <a:endParaRPr b="0" lang="en-US" sz="1200" spc="-1" strike="noStrike">
              <a:solidFill>
                <a:srgbClr val="000000"/>
              </a:solidFill>
              <a:latin typeface="Calisto MT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rebuchet MS"/>
              </a:rPr>
              <a:t>Infraestructura</a:t>
            </a:r>
            <a:endParaRPr b="0" lang="en-US" sz="1200" spc="-1" strike="noStrike">
              <a:solidFill>
                <a:srgbClr val="000000"/>
              </a:solidFill>
              <a:latin typeface="Calisto MT"/>
            </a:endParaRPr>
          </a:p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rebuchet MS"/>
              </a:rPr>
              <a:t>Sofisticación de negocios</a:t>
            </a:r>
            <a:endParaRPr b="0" lang="en-US" sz="1200" spc="-1" strike="noStrike">
              <a:solidFill>
                <a:srgbClr val="000000"/>
              </a:solidFill>
              <a:latin typeface="Calisto MT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rebuchet MS"/>
              </a:rPr>
              <a:t>Ed. Superior y Capacitación</a:t>
            </a:r>
            <a:endParaRPr b="0" lang="en-US" sz="1200" spc="-1" strike="noStrike">
              <a:solidFill>
                <a:srgbClr val="000000"/>
              </a:solidFill>
              <a:latin typeface="Calisto MT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rebuchet MS"/>
              </a:rPr>
              <a:t>Preparación tecnológica</a:t>
            </a:r>
            <a:endParaRPr b="0" lang="en-US" sz="1200" spc="-1" strike="noStrike">
              <a:solidFill>
                <a:srgbClr val="000000"/>
              </a:solidFill>
              <a:latin typeface="Calisto MT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rebuchet MS"/>
              </a:rPr>
              <a:t>Innovación</a:t>
            </a:r>
            <a:endParaRPr b="0" lang="en-US" sz="1200" spc="-1" strike="noStrike">
              <a:solidFill>
                <a:srgbClr val="000000"/>
              </a:solidFill>
              <a:latin typeface="Calisto MT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rebuchet MS"/>
              </a:rPr>
              <a:t>Tamaño del mercado</a:t>
            </a:r>
            <a:endParaRPr b="0" lang="en-US" sz="1200" spc="-1" strike="noStrike">
              <a:solidFill>
                <a:srgbClr val="000000"/>
              </a:solidFill>
              <a:latin typeface="Calisto MT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rebuchet MS"/>
              </a:rPr>
              <a:t>Salud y Ed. Primaria</a:t>
            </a:r>
            <a:endParaRPr b="0" lang="en-US" sz="1200" spc="-1" strike="noStrike">
              <a:solidFill>
                <a:srgbClr val="000000"/>
              </a:solidFill>
              <a:latin typeface="Calisto MT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3284640" y="5299200"/>
            <a:ext cx="3130560" cy="1212840"/>
            <a:chOff x="3284640" y="5299200"/>
            <a:chExt cx="3130560" cy="1212840"/>
          </a:xfrm>
        </p:grpSpPr>
        <p:sp>
          <p:nvSpPr>
            <p:cNvPr id="278" name=""/>
            <p:cNvSpPr/>
            <p:nvPr/>
          </p:nvSpPr>
          <p:spPr>
            <a:xfrm>
              <a:off x="3284640" y="5299200"/>
              <a:ext cx="1504800" cy="21600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284640" y="5551560"/>
              <a:ext cx="1504800" cy="21600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284640" y="5797800"/>
              <a:ext cx="1612800" cy="21564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284640" y="6050160"/>
              <a:ext cx="1676160" cy="21600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284640" y="6296040"/>
              <a:ext cx="3130560" cy="21600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586040" y="5330880"/>
              <a:ext cx="17460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8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rebuchet MS"/>
                </a:rPr>
                <a:t>42</a:t>
              </a:r>
              <a:endParaRPr b="0" lang="en-US" sz="12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584600" y="5577120"/>
              <a:ext cx="17460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8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rebuchet MS"/>
                </a:rPr>
                <a:t>42</a:t>
              </a:r>
              <a:endParaRPr b="0" lang="en-US" sz="12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711680" y="5830920"/>
              <a:ext cx="17460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8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rebuchet MS"/>
                </a:rPr>
                <a:t>45</a:t>
              </a:r>
              <a:endParaRPr b="0" lang="en-US" sz="12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768560" y="6085080"/>
              <a:ext cx="17460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8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rebuchet MS"/>
                </a:rPr>
                <a:t>47</a:t>
              </a:r>
              <a:endParaRPr b="0" lang="en-US" sz="12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165720" y="6338880"/>
              <a:ext cx="17460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8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rebuchet MS"/>
                </a:rPr>
                <a:t>70</a:t>
              </a:r>
              <a:endParaRPr b="0" lang="en-US" sz="1200" spc="-1" strike="noStrike">
                <a:solidFill>
                  <a:srgbClr val="000000"/>
                </a:solidFill>
                <a:latin typeface="Calisto MT"/>
              </a:endParaRPr>
            </a:p>
          </p:txBody>
        </p:sp>
      </p:grpSp>
      <p:sp>
        <p:nvSpPr>
          <p:cNvPr id="288" name=""/>
          <p:cNvSpPr/>
          <p:nvPr/>
        </p:nvSpPr>
        <p:spPr>
          <a:xfrm>
            <a:off x="3219480" y="3119400"/>
            <a:ext cx="571824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sto MT"/>
              </a:rPr>
              <a:t>Chile en el ranking de Competitividad Global (WEF)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grpSp>
        <p:nvGrpSpPr>
          <p:cNvPr id="289" name=""/>
          <p:cNvGrpSpPr/>
          <p:nvPr/>
        </p:nvGrpSpPr>
        <p:grpSpPr>
          <a:xfrm>
            <a:off x="3284640" y="3514680"/>
            <a:ext cx="1038240" cy="722160"/>
            <a:chOff x="3284640" y="3514680"/>
            <a:chExt cx="1038240" cy="722160"/>
          </a:xfrm>
        </p:grpSpPr>
        <p:sp>
          <p:nvSpPr>
            <p:cNvPr id="290" name=""/>
            <p:cNvSpPr/>
            <p:nvPr/>
          </p:nvSpPr>
          <p:spPr>
            <a:xfrm>
              <a:off x="3284640" y="3514680"/>
              <a:ext cx="350640" cy="215640"/>
            </a:xfrm>
            <a:prstGeom prst="rect">
              <a:avLst/>
            </a:prstGeom>
            <a:solidFill>
              <a:srgbClr val="33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284640" y="3767040"/>
              <a:ext cx="431640" cy="215640"/>
            </a:xfrm>
            <a:prstGeom prst="rect">
              <a:avLst/>
            </a:prstGeom>
            <a:solidFill>
              <a:srgbClr val="33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425760" y="3547800"/>
              <a:ext cx="17460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8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rebuchet MS"/>
                </a:rPr>
                <a:t>12</a:t>
              </a:r>
              <a:endParaRPr b="0" lang="en-US" sz="12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481200" y="3806640"/>
              <a:ext cx="17460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8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rebuchet MS"/>
                </a:rPr>
                <a:t>14</a:t>
              </a:r>
              <a:endParaRPr b="0" lang="en-US" sz="12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284640" y="4020840"/>
              <a:ext cx="984240" cy="216000"/>
            </a:xfrm>
            <a:prstGeom prst="rect">
              <a:avLst/>
            </a:prstGeom>
            <a:solidFill>
              <a:srgbClr val="33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951360" y="4060440"/>
              <a:ext cx="37152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8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rebuchet MS"/>
                </a:rPr>
                <a:t>26</a:t>
              </a:r>
              <a:endParaRPr b="0" lang="en-US" sz="1200" spc="-1" strike="noStrike">
                <a:solidFill>
                  <a:srgbClr val="000000"/>
                </a:solidFill>
                <a:latin typeface="Calisto MT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3284640" y="4275000"/>
            <a:ext cx="1120680" cy="981000"/>
            <a:chOff x="3284640" y="4275000"/>
            <a:chExt cx="1120680" cy="981000"/>
          </a:xfrm>
        </p:grpSpPr>
        <p:sp>
          <p:nvSpPr>
            <p:cNvPr id="297" name=""/>
            <p:cNvSpPr/>
            <p:nvPr/>
          </p:nvSpPr>
          <p:spPr>
            <a:xfrm>
              <a:off x="3284640" y="4781160"/>
              <a:ext cx="1092240" cy="2160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3284640" y="5040000"/>
              <a:ext cx="1117440" cy="2160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4192560" y="4822560"/>
              <a:ext cx="17460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8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1968"/>
                  </a:solidFill>
                  <a:latin typeface="Trebuchet MS"/>
                </a:rPr>
                <a:t>31</a:t>
              </a:r>
              <a:endParaRPr b="0" lang="en-US" sz="12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230720" y="5076720"/>
              <a:ext cx="17460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8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1968"/>
                  </a:solidFill>
                  <a:latin typeface="Trebuchet MS"/>
                </a:rPr>
                <a:t>32</a:t>
              </a:r>
              <a:endParaRPr b="0" lang="en-US" sz="12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284640" y="4275000"/>
              <a:ext cx="1022400" cy="21564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103640" y="4314600"/>
              <a:ext cx="17460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8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1968"/>
                  </a:solidFill>
                  <a:latin typeface="Trebuchet MS"/>
                </a:rPr>
                <a:t>28</a:t>
              </a:r>
              <a:endParaRPr b="0" lang="en-US" sz="12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284640" y="4528800"/>
              <a:ext cx="1060200" cy="2160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141800" y="4568760"/>
              <a:ext cx="17460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8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1968"/>
                  </a:solidFill>
                  <a:latin typeface="Trebuchet MS"/>
                </a:rPr>
                <a:t>29</a:t>
              </a:r>
              <a:endParaRPr b="0" lang="en-US" sz="1200" spc="-1" strike="noStrike">
                <a:solidFill>
                  <a:srgbClr val="000000"/>
                </a:solidFill>
                <a:latin typeface="Calisto MT"/>
              </a:endParaRPr>
            </a:p>
          </p:txBody>
        </p:sp>
      </p:grpSp>
      <p:sp>
        <p:nvSpPr>
          <p:cNvPr id="305" name=""/>
          <p:cNvSpPr/>
          <p:nvPr/>
        </p:nvSpPr>
        <p:spPr>
          <a:xfrm>
            <a:off x="5327640" y="3925800"/>
            <a:ext cx="3610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es-MX" sz="1800" spc="-1" strike="noStrike">
                <a:solidFill>
                  <a:srgbClr val="ffffff"/>
                </a:solidFill>
                <a:latin typeface="Arial Narrow"/>
              </a:rPr>
              <a:t>En 2007 Chile ocupó la posición 27 en el ranking general de competitividad del Foro Económico Mundial.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2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2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2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2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2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27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9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4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9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sto MT"/>
              </a:rPr>
              <a:t>Tres brechas en Educación</a:t>
            </a: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07" name=""/>
          <p:cNvSpPr/>
          <p:nvPr/>
        </p:nvSpPr>
        <p:spPr>
          <a:xfrm>
            <a:off x="417600" y="1454040"/>
            <a:ext cx="8256600" cy="30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Calisto MT"/>
              </a:rPr>
              <a:t>Existe pleno consenso en Chile sobre la urgencia de una reforma profunda en la educación que permita mejorar los niveles de capital humano para responder a los desafíos que nos el futuro.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Calisto MT"/>
              </a:rPr>
              <a:t>Cobertura y calidad son debilidades ampliamente reconocidas en Chile y deben ser abordadas con urgencia. </a:t>
            </a:r>
            <a:endParaRPr b="0" lang="en-US" sz="2000" spc="-1" strike="noStrike">
              <a:solidFill>
                <a:srgbClr val="000000"/>
              </a:solidFill>
              <a:latin typeface="Calisto MT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Calisto MT"/>
              </a:rPr>
              <a:t>Pero existe también una brecha de financiamiento, que se relaciona con las dos primeras. </a:t>
            </a:r>
            <a:endParaRPr b="0" lang="en-US" sz="2000" spc="-1" strike="noStrike">
              <a:solidFill>
                <a:srgbClr val="00000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sto MT"/>
              </a:rPr>
              <a:t>Tres brechas en Educación: Cobertura</a:t>
            </a: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480" y="1383840"/>
            <a:ext cx="8510400" cy="12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10800">
              <a:spcBef>
                <a:spcPts val="499"/>
              </a:spcBef>
              <a:buClr>
                <a:srgbClr val="d18009"/>
              </a:buClr>
              <a:buSzPct val="75000"/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Calisto MT"/>
              </a:rPr>
              <a:t>Nivel educacional promedio de nuestra fuerza de trabajo está por debajo de lo que corresponde a nuestro nivel de ingreso.</a:t>
            </a:r>
            <a:endParaRPr b="0" lang="en-US" sz="2000" spc="-1" strike="noStrike">
              <a:solidFill>
                <a:srgbClr val="ffffff"/>
              </a:solidFill>
              <a:latin typeface="Calisto MT"/>
            </a:endParaRPr>
          </a:p>
          <a:p>
            <a:pPr marL="343080" indent="10800">
              <a:spcBef>
                <a:spcPts val="1250"/>
              </a:spcBef>
              <a:buClr>
                <a:srgbClr val="d18009"/>
              </a:buClr>
              <a:buSzPct val="75000"/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Calisto MT"/>
              </a:rPr>
              <a:t>Existe un fuerte déficit de cobertura en educación terciaria.</a:t>
            </a:r>
            <a:endParaRPr b="0" lang="en-US" sz="2000" spc="-1" strike="noStrike">
              <a:solidFill>
                <a:srgbClr val="ffffff"/>
              </a:solidFill>
              <a:latin typeface="Calisto MT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10" name=""/>
          <p:cNvSpPr/>
          <p:nvPr/>
        </p:nvSpPr>
        <p:spPr>
          <a:xfrm>
            <a:off x="1889280" y="6095880"/>
            <a:ext cx="5181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11" name=""/>
          <p:cNvSpPr/>
          <p:nvPr/>
        </p:nvSpPr>
        <p:spPr>
          <a:xfrm flipV="1">
            <a:off x="1884240" y="3432240"/>
            <a:ext cx="0" cy="2658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12" name=""/>
          <p:cNvSpPr/>
          <p:nvPr/>
        </p:nvSpPr>
        <p:spPr>
          <a:xfrm>
            <a:off x="2043000" y="5610240"/>
            <a:ext cx="324000" cy="47952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13" name=""/>
          <p:cNvSpPr/>
          <p:nvPr/>
        </p:nvSpPr>
        <p:spPr>
          <a:xfrm>
            <a:off x="2911320" y="5175360"/>
            <a:ext cx="324000" cy="91440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14" name=""/>
          <p:cNvSpPr/>
          <p:nvPr/>
        </p:nvSpPr>
        <p:spPr>
          <a:xfrm>
            <a:off x="3751200" y="5479920"/>
            <a:ext cx="324000" cy="60984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15" name=""/>
          <p:cNvSpPr/>
          <p:nvPr/>
        </p:nvSpPr>
        <p:spPr>
          <a:xfrm>
            <a:off x="4589640" y="5407200"/>
            <a:ext cx="323640" cy="68256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16" name=""/>
          <p:cNvSpPr/>
          <p:nvPr/>
        </p:nvSpPr>
        <p:spPr>
          <a:xfrm>
            <a:off x="5415120" y="5479920"/>
            <a:ext cx="323640" cy="60984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17" name=""/>
          <p:cNvSpPr/>
          <p:nvPr/>
        </p:nvSpPr>
        <p:spPr>
          <a:xfrm>
            <a:off x="6238800" y="5348160"/>
            <a:ext cx="324000" cy="74160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18" name=""/>
          <p:cNvSpPr/>
          <p:nvPr/>
        </p:nvSpPr>
        <p:spPr>
          <a:xfrm>
            <a:off x="2390760" y="5116680"/>
            <a:ext cx="324000" cy="97308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19" name=""/>
          <p:cNvSpPr/>
          <p:nvPr/>
        </p:nvSpPr>
        <p:spPr>
          <a:xfrm>
            <a:off x="3259080" y="4071960"/>
            <a:ext cx="324000" cy="2017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20" name=""/>
          <p:cNvSpPr/>
          <p:nvPr/>
        </p:nvSpPr>
        <p:spPr>
          <a:xfrm>
            <a:off x="4097160" y="4622760"/>
            <a:ext cx="324000" cy="14670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21" name=""/>
          <p:cNvSpPr/>
          <p:nvPr/>
        </p:nvSpPr>
        <p:spPr>
          <a:xfrm>
            <a:off x="4937040" y="4754520"/>
            <a:ext cx="324000" cy="133524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22" name=""/>
          <p:cNvSpPr/>
          <p:nvPr/>
        </p:nvSpPr>
        <p:spPr>
          <a:xfrm>
            <a:off x="5761080" y="4362480"/>
            <a:ext cx="323640" cy="172728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23" name=""/>
          <p:cNvSpPr/>
          <p:nvPr/>
        </p:nvSpPr>
        <p:spPr>
          <a:xfrm>
            <a:off x="6585120" y="4433760"/>
            <a:ext cx="323640" cy="16560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24" name=""/>
          <p:cNvSpPr/>
          <p:nvPr/>
        </p:nvSpPr>
        <p:spPr>
          <a:xfrm>
            <a:off x="1778040" y="2909880"/>
            <a:ext cx="554652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rebuchet MS"/>
              </a:rPr>
              <a:t>Porcentaje de matrícula en educación terciaria</a:t>
            </a:r>
            <a:endParaRPr b="0" lang="en-US" sz="1600" spc="-1" strike="noStrike">
              <a:solidFill>
                <a:srgbClr val="000000"/>
              </a:solidFill>
              <a:latin typeface="Calisto MT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1960560" y="3479760"/>
            <a:ext cx="1131840" cy="338040"/>
            <a:chOff x="1960560" y="3479760"/>
            <a:chExt cx="1131840" cy="338040"/>
          </a:xfrm>
        </p:grpSpPr>
        <p:sp>
          <p:nvSpPr>
            <p:cNvPr id="326" name=""/>
            <p:cNvSpPr/>
            <p:nvPr/>
          </p:nvSpPr>
          <p:spPr>
            <a:xfrm>
              <a:off x="2193840" y="3483000"/>
              <a:ext cx="290520" cy="136440"/>
            </a:xfrm>
            <a:prstGeom prst="rect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562120" y="3479760"/>
              <a:ext cx="290520" cy="13644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960560" y="3602160"/>
              <a:ext cx="11318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rebuchet MS"/>
                </a:rPr>
                <a:t>1991  2004</a:t>
              </a:r>
              <a:endParaRPr b="0" lang="en-US" sz="1000" spc="-1" strike="noStrike">
                <a:solidFill>
                  <a:srgbClr val="000000"/>
                </a:solidFill>
                <a:latin typeface="Calisto MT"/>
              </a:endParaRPr>
            </a:p>
          </p:txBody>
        </p:sp>
      </p:grpSp>
      <p:sp>
        <p:nvSpPr>
          <p:cNvPr id="329" name=""/>
          <p:cNvSpPr/>
          <p:nvPr/>
        </p:nvSpPr>
        <p:spPr>
          <a:xfrm>
            <a:off x="1846440" y="6172200"/>
            <a:ext cx="52243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rebuchet MS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Trebuchet MS"/>
              </a:rPr>
              <a:t>Chile           Corea        Estonia        Irlanda       Letonia      Lituania</a:t>
            </a:r>
            <a:endParaRPr b="0" lang="en-US" sz="1200" spc="-1" strike="noStrike">
              <a:solidFill>
                <a:srgbClr val="000000"/>
              </a:solidFill>
              <a:latin typeface="Calisto MT"/>
            </a:endParaRPr>
          </a:p>
        </p:txBody>
      </p:sp>
      <p:grpSp>
        <p:nvGrpSpPr>
          <p:cNvPr id="330" name=""/>
          <p:cNvGrpSpPr/>
          <p:nvPr/>
        </p:nvGrpSpPr>
        <p:grpSpPr>
          <a:xfrm>
            <a:off x="1990800" y="5211720"/>
            <a:ext cx="4630680" cy="628920"/>
            <a:chOff x="1990800" y="5211720"/>
            <a:chExt cx="4630680" cy="628920"/>
          </a:xfrm>
        </p:grpSpPr>
        <p:sp>
          <p:nvSpPr>
            <p:cNvPr id="331" name=""/>
            <p:cNvSpPr/>
            <p:nvPr/>
          </p:nvSpPr>
          <p:spPr>
            <a:xfrm>
              <a:off x="1990800" y="5600880"/>
              <a:ext cx="428400" cy="2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rebuchet MS"/>
                </a:rPr>
                <a:t>21</a:t>
              </a:r>
              <a:endParaRPr b="0" lang="en-US" sz="12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868480" y="5211720"/>
              <a:ext cx="428760" cy="2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rebuchet MS"/>
                </a:rPr>
                <a:t>39</a:t>
              </a:r>
              <a:endParaRPr b="0" lang="en-US" sz="12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706920" y="5487840"/>
              <a:ext cx="428400" cy="2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rebuchet MS"/>
                </a:rPr>
                <a:t>26</a:t>
              </a:r>
              <a:endParaRPr b="0" lang="en-US" sz="12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4525920" y="5440320"/>
              <a:ext cx="428760" cy="2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rebuchet MS"/>
                </a:rPr>
                <a:t>29</a:t>
              </a:r>
              <a:endParaRPr b="0" lang="en-US" sz="12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364000" y="5497560"/>
              <a:ext cx="428760" cy="2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rebuchet MS"/>
                </a:rPr>
                <a:t>26</a:t>
              </a:r>
              <a:endParaRPr b="0" lang="en-US" sz="12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6192720" y="5392800"/>
              <a:ext cx="428760" cy="2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rebuchet MS"/>
                </a:rPr>
                <a:t>33</a:t>
              </a:r>
              <a:endParaRPr b="0" lang="en-US" sz="1200" spc="-1" strike="noStrike">
                <a:solidFill>
                  <a:srgbClr val="000000"/>
                </a:solidFill>
                <a:latin typeface="Calisto MT"/>
              </a:endParaRPr>
            </a:p>
          </p:txBody>
        </p:sp>
      </p:grpSp>
      <p:grpSp>
        <p:nvGrpSpPr>
          <p:cNvPr id="337" name=""/>
          <p:cNvGrpSpPr/>
          <p:nvPr/>
        </p:nvGrpSpPr>
        <p:grpSpPr>
          <a:xfrm>
            <a:off x="2344680" y="4087800"/>
            <a:ext cx="4619520" cy="1287360"/>
            <a:chOff x="2344680" y="4087800"/>
            <a:chExt cx="4619520" cy="1287360"/>
          </a:xfrm>
        </p:grpSpPr>
        <p:sp>
          <p:nvSpPr>
            <p:cNvPr id="338" name=""/>
            <p:cNvSpPr/>
            <p:nvPr/>
          </p:nvSpPr>
          <p:spPr>
            <a:xfrm>
              <a:off x="2344680" y="5135400"/>
              <a:ext cx="428760" cy="2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rebuchet MS"/>
                </a:rPr>
                <a:t>43</a:t>
              </a:r>
              <a:endParaRPr b="0" lang="en-US" sz="12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192480" y="4087800"/>
              <a:ext cx="428760" cy="2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rebuchet MS"/>
                </a:rPr>
                <a:t>89</a:t>
              </a:r>
              <a:endParaRPr b="0" lang="en-US" sz="12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049640" y="4649760"/>
              <a:ext cx="428760" cy="2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rebuchet MS"/>
                </a:rPr>
                <a:t>65</a:t>
              </a:r>
              <a:endParaRPr b="0" lang="en-US" sz="12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869000" y="4773600"/>
              <a:ext cx="428400" cy="2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rebuchet MS"/>
                </a:rPr>
                <a:t>59</a:t>
              </a:r>
              <a:endParaRPr b="0" lang="en-US" sz="12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697360" y="4392720"/>
              <a:ext cx="428760" cy="2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rebuchet MS"/>
                </a:rPr>
                <a:t>76</a:t>
              </a:r>
              <a:endParaRPr b="0" lang="en-US" sz="12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535800" y="4478400"/>
              <a:ext cx="428400" cy="2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rebuchet MS"/>
                </a:rPr>
                <a:t>73</a:t>
              </a:r>
              <a:endParaRPr b="0" lang="en-US" sz="1200" spc="-1" strike="noStrike">
                <a:solidFill>
                  <a:srgbClr val="000000"/>
                </a:solidFill>
                <a:latin typeface="Calisto MT"/>
              </a:endParaRPr>
            </a:p>
          </p:txBody>
        </p:sp>
      </p:grpSp>
      <p:sp>
        <p:nvSpPr>
          <p:cNvPr id="344" name=""/>
          <p:cNvSpPr/>
          <p:nvPr/>
        </p:nvSpPr>
        <p:spPr>
          <a:xfrm>
            <a:off x="1384200" y="3321000"/>
            <a:ext cx="73368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rebuchet MS"/>
              </a:rPr>
              <a:t>%</a:t>
            </a:r>
            <a:endParaRPr b="0" lang="en-US" sz="1000" spc="-1" strike="noStrike">
              <a:solidFill>
                <a:srgbClr val="000000"/>
              </a:solidFill>
              <a:latin typeface="Calisto MT"/>
            </a:endParaRPr>
          </a:p>
          <a:p>
            <a:pPr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rebuchet MS"/>
              </a:rPr>
              <a:t>100</a:t>
            </a:r>
            <a:endParaRPr b="0" lang="en-US" sz="1000" spc="-1" strike="noStrike">
              <a:solidFill>
                <a:srgbClr val="00000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9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2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5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8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1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4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500"/>
                            </p:stCondLst>
                            <p:childTnLst>
                              <p:par>
                                <p:cTn id="2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6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9" dur="2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2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5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8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1" dur="2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2000"/>
                            </p:stCondLst>
                            <p:childTnLst>
                              <p:par>
                                <p:cTn id="2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sto MT"/>
              </a:rPr>
              <a:t>Tres brechas en Educación: Calidad</a:t>
            </a: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98600" y="1444680"/>
            <a:ext cx="768816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499"/>
              </a:spcBef>
              <a:buClr>
                <a:srgbClr val="d18009"/>
              </a:buClr>
              <a:buSzPct val="75000"/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Calisto MT"/>
              </a:rPr>
              <a:t>Sólo es posible dar un gran salto en educación terciaria (técnica y universitaria) si se eleva la calidad de la educación.</a:t>
            </a:r>
            <a:endParaRPr b="0" lang="en-US" sz="2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47" name=""/>
          <p:cNvSpPr/>
          <p:nvPr/>
        </p:nvSpPr>
        <p:spPr>
          <a:xfrm>
            <a:off x="1335240" y="6365880"/>
            <a:ext cx="767376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 Narrow"/>
              </a:rPr>
              <a:t>Brechas similares de desempeño se observan en las pruebas de Matemáticas y Ciencias.</a:t>
            </a:r>
            <a:endParaRPr b="0" lang="en-US" sz="16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48" name=""/>
          <p:cNvSpPr/>
          <p:nvPr/>
        </p:nvSpPr>
        <p:spPr>
          <a:xfrm>
            <a:off x="1257480" y="2597040"/>
            <a:ext cx="398772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rebuchet MS"/>
              </a:rPr>
              <a:t>Resultados Prueba PISA y PIB per cápita</a:t>
            </a:r>
            <a:endParaRPr b="0" lang="en-US" sz="1600" spc="-1" strike="noStrike">
              <a:solidFill>
                <a:srgbClr val="000000"/>
              </a:solidFill>
              <a:latin typeface="Calisto MT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rebuchet MS"/>
              </a:rPr>
              <a:t>(Comprensión Lectora)</a:t>
            </a:r>
            <a:endParaRPr b="0" lang="en-US" sz="1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49" name=""/>
          <p:cNvSpPr/>
          <p:nvPr/>
        </p:nvSpPr>
        <p:spPr>
          <a:xfrm>
            <a:off x="1457280" y="5176800"/>
            <a:ext cx="5562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50" name=""/>
          <p:cNvSpPr/>
          <p:nvPr/>
        </p:nvSpPr>
        <p:spPr>
          <a:xfrm>
            <a:off x="1444680" y="3373560"/>
            <a:ext cx="0" cy="1803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984960" y="3127320"/>
            <a:ext cx="595080" cy="2095200"/>
            <a:chOff x="984960" y="3127320"/>
            <a:chExt cx="595080" cy="2095200"/>
          </a:xfrm>
        </p:grpSpPr>
        <p:sp>
          <p:nvSpPr>
            <p:cNvPr id="352" name=""/>
            <p:cNvSpPr/>
            <p:nvPr/>
          </p:nvSpPr>
          <p:spPr>
            <a:xfrm>
              <a:off x="1097280" y="5006880"/>
              <a:ext cx="395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rebuchet MS"/>
                </a:rPr>
                <a:t>400</a:t>
              </a:r>
              <a:endParaRPr b="0" lang="en-US" sz="10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097280" y="4491000"/>
              <a:ext cx="395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rebuchet MS"/>
                </a:rPr>
                <a:t>450</a:t>
              </a:r>
              <a:endParaRPr b="0" lang="en-US" sz="10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097280" y="3957480"/>
              <a:ext cx="395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rebuchet MS"/>
                </a:rPr>
                <a:t>500</a:t>
              </a:r>
              <a:endParaRPr b="0" lang="en-US" sz="10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097280" y="3411360"/>
              <a:ext cx="395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rebuchet MS"/>
                </a:rPr>
                <a:t>550</a:t>
              </a:r>
              <a:endParaRPr b="0" lang="en-US" sz="10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984960" y="3127320"/>
              <a:ext cx="5950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rebuchet MS"/>
                </a:rPr>
                <a:t>Puntos</a:t>
              </a:r>
              <a:endParaRPr b="0" lang="en-US" sz="1000" spc="-1" strike="noStrike">
                <a:solidFill>
                  <a:srgbClr val="000000"/>
                </a:solidFill>
                <a:latin typeface="Calisto MT"/>
              </a:endParaRPr>
            </a:p>
          </p:txBody>
        </p:sp>
      </p:grpSp>
      <p:grpSp>
        <p:nvGrpSpPr>
          <p:cNvPr id="357" name=""/>
          <p:cNvGrpSpPr/>
          <p:nvPr/>
        </p:nvGrpSpPr>
        <p:grpSpPr>
          <a:xfrm>
            <a:off x="1412640" y="5214960"/>
            <a:ext cx="5685120" cy="215640"/>
            <a:chOff x="1412640" y="5214960"/>
            <a:chExt cx="5685120" cy="215640"/>
          </a:xfrm>
        </p:grpSpPr>
        <p:sp>
          <p:nvSpPr>
            <p:cNvPr id="358" name=""/>
            <p:cNvSpPr/>
            <p:nvPr/>
          </p:nvSpPr>
          <p:spPr>
            <a:xfrm>
              <a:off x="1412640" y="5214960"/>
              <a:ext cx="5007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rebuchet MS"/>
                </a:rPr>
                <a:t>5.000</a:t>
              </a:r>
              <a:endParaRPr b="0" lang="en-US" sz="10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676960" y="5214960"/>
              <a:ext cx="5724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rebuchet MS"/>
                </a:rPr>
                <a:t>10.000</a:t>
              </a:r>
              <a:endParaRPr b="0" lang="en-US" sz="10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959640" y="5214960"/>
              <a:ext cx="5724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rebuchet MS"/>
                </a:rPr>
                <a:t>15.000</a:t>
              </a:r>
              <a:endParaRPr b="0" lang="en-US" sz="10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5242680" y="5214960"/>
              <a:ext cx="5724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rebuchet MS"/>
                </a:rPr>
                <a:t>20.000</a:t>
              </a:r>
              <a:endParaRPr b="0" lang="en-US" sz="10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525360" y="5214960"/>
              <a:ext cx="5724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rebuchet MS"/>
                </a:rPr>
                <a:t>25.000</a:t>
              </a:r>
              <a:endParaRPr b="0" lang="en-US" sz="1000" spc="-1" strike="noStrike">
                <a:solidFill>
                  <a:srgbClr val="000000"/>
                </a:solidFill>
                <a:latin typeface="Calisto MT"/>
              </a:endParaRPr>
            </a:p>
          </p:txBody>
        </p:sp>
      </p:grpSp>
      <p:sp>
        <p:nvSpPr>
          <p:cNvPr id="363" name=""/>
          <p:cNvSpPr/>
          <p:nvPr/>
        </p:nvSpPr>
        <p:spPr>
          <a:xfrm>
            <a:off x="2727360" y="4732200"/>
            <a:ext cx="3301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64" name=""/>
          <p:cNvSpPr/>
          <p:nvPr/>
        </p:nvSpPr>
        <p:spPr>
          <a:xfrm>
            <a:off x="7111800" y="5083200"/>
            <a:ext cx="77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rebuchet MS"/>
              </a:rPr>
              <a:t>PIB</a:t>
            </a:r>
            <a:endParaRPr b="0" lang="en-US" sz="1000" spc="-1" strike="noStrike">
              <a:solidFill>
                <a:srgbClr val="000000"/>
              </a:solidFill>
              <a:latin typeface="Calisto MT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rebuchet MS"/>
              </a:rPr>
              <a:t>per cápita</a:t>
            </a:r>
            <a:endParaRPr b="0" lang="en-US" sz="10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65" name=""/>
          <p:cNvSpPr/>
          <p:nvPr/>
        </p:nvSpPr>
        <p:spPr>
          <a:xfrm>
            <a:off x="3413160" y="4618080"/>
            <a:ext cx="622440" cy="228600"/>
          </a:xfrm>
          <a:prstGeom prst="borderCallout2">
            <a:avLst>
              <a:gd name="adj1" fmla="val 18750"/>
              <a:gd name="adj2" fmla="val -8333"/>
              <a:gd name="adj3" fmla="val 50000"/>
              <a:gd name="adj4" fmla="val -46939"/>
              <a:gd name="adj5" fmla="val 133333"/>
              <a:gd name="adj6" fmla="val -83671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rebuchet MS"/>
              </a:rPr>
              <a:t>Chile</a:t>
            </a:r>
            <a:endParaRPr b="0" lang="en-US" sz="12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66" name=""/>
          <p:cNvSpPr/>
          <p:nvPr/>
        </p:nvSpPr>
        <p:spPr>
          <a:xfrm>
            <a:off x="2803680" y="4951440"/>
            <a:ext cx="88920" cy="88920"/>
          </a:xfrm>
          <a:prstGeom prst="ellipse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grpSp>
        <p:nvGrpSpPr>
          <p:cNvPr id="367" name=""/>
          <p:cNvGrpSpPr/>
          <p:nvPr/>
        </p:nvGrpSpPr>
        <p:grpSpPr>
          <a:xfrm>
            <a:off x="2865600" y="5621400"/>
            <a:ext cx="4487760" cy="550800"/>
            <a:chOff x="2865600" y="5621400"/>
            <a:chExt cx="4487760" cy="550800"/>
          </a:xfrm>
        </p:grpSpPr>
        <p:sp>
          <p:nvSpPr>
            <p:cNvPr id="368" name=""/>
            <p:cNvSpPr/>
            <p:nvPr/>
          </p:nvSpPr>
          <p:spPr>
            <a:xfrm>
              <a:off x="2905200" y="5621400"/>
              <a:ext cx="44481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Trebuchet MS"/>
                </a:rPr>
                <a:t>Australia </a:t>
              </a:r>
              <a:r>
                <a:rPr b="0" lang="es-ES" sz="1000" spc="-1" strike="noStrike">
                  <a:solidFill>
                    <a:srgbClr val="ffffff"/>
                  </a:solidFill>
                  <a:latin typeface="Trebuchet MS"/>
                </a:rPr>
                <a:t>	</a:t>
              </a:r>
              <a:r>
                <a:rPr b="0" lang="es-ES" sz="1000" spc="-1" strike="noStrike">
                  <a:solidFill>
                    <a:srgbClr val="ffffff"/>
                  </a:solidFill>
                  <a:latin typeface="Trebuchet MS"/>
                </a:rPr>
                <a:t>Canadá</a:t>
              </a:r>
              <a:r>
                <a:rPr b="0" lang="es-ES" sz="1000" spc="-1" strike="noStrike">
                  <a:solidFill>
                    <a:srgbClr val="ffffff"/>
                  </a:solidFill>
                  <a:latin typeface="Trebuchet MS"/>
                </a:rPr>
                <a:t>	</a:t>
              </a:r>
              <a:r>
                <a:rPr b="0" lang="es-ES" sz="1000" spc="-1" strike="noStrike">
                  <a:solidFill>
                    <a:srgbClr val="ffffff"/>
                  </a:solidFill>
                  <a:latin typeface="Trebuchet MS"/>
                </a:rPr>
                <a:t>Corea</a:t>
              </a:r>
              <a:r>
                <a:rPr b="0" lang="es-ES" sz="1000" spc="-1" strike="noStrike">
                  <a:solidFill>
                    <a:srgbClr val="ffffff"/>
                  </a:solidFill>
                  <a:latin typeface="Trebuchet MS"/>
                </a:rPr>
                <a:t>	</a:t>
              </a:r>
              <a:r>
                <a:rPr b="0" lang="es-ES" sz="1000" spc="-1" strike="noStrike">
                  <a:solidFill>
                    <a:srgbClr val="ffffff"/>
                  </a:solidFill>
                  <a:latin typeface="Trebuchet MS"/>
                </a:rPr>
                <a:t>     Dinamarca</a:t>
              </a:r>
              <a:endParaRPr b="0" lang="en-US" sz="1000" spc="-1" strike="noStrike">
                <a:solidFill>
                  <a:srgbClr val="000000"/>
                </a:solidFill>
                <a:latin typeface="Calisto MT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Trebuchet MS"/>
                </a:rPr>
                <a:t>Finlandia</a:t>
              </a:r>
              <a:r>
                <a:rPr b="0" lang="es-ES" sz="1000" spc="-1" strike="noStrike">
                  <a:solidFill>
                    <a:srgbClr val="ffffff"/>
                  </a:solidFill>
                  <a:latin typeface="Trebuchet MS"/>
                </a:rPr>
                <a:t>	</a:t>
              </a:r>
              <a:r>
                <a:rPr b="0" lang="es-ES" sz="1000" spc="-1" strike="noStrike">
                  <a:solidFill>
                    <a:srgbClr val="ffffff"/>
                  </a:solidFill>
                  <a:latin typeface="Trebuchet MS"/>
                </a:rPr>
                <a:t>Letonia </a:t>
              </a:r>
              <a:r>
                <a:rPr b="0" lang="es-ES" sz="1000" spc="-1" strike="noStrike">
                  <a:solidFill>
                    <a:srgbClr val="ffffff"/>
                  </a:solidFill>
                  <a:latin typeface="Trebuchet MS"/>
                </a:rPr>
                <a:t>	</a:t>
              </a:r>
              <a:r>
                <a:rPr b="0" lang="es-ES" sz="1000" spc="-1" strike="noStrike">
                  <a:solidFill>
                    <a:srgbClr val="ffffff"/>
                  </a:solidFill>
                  <a:latin typeface="Trebuchet MS"/>
                </a:rPr>
                <a:t>Nva. Zelanda</a:t>
              </a:r>
              <a:r>
                <a:rPr b="0" lang="es-ES" sz="1000" spc="-1" strike="noStrike">
                  <a:solidFill>
                    <a:srgbClr val="ffffff"/>
                  </a:solidFill>
                  <a:latin typeface="Trebuchet MS"/>
                </a:rPr>
                <a:t>	</a:t>
              </a:r>
              <a:r>
                <a:rPr b="0" lang="es-ES" sz="1000" spc="-1" strike="noStrike">
                  <a:solidFill>
                    <a:srgbClr val="ffffff"/>
                  </a:solidFill>
                  <a:latin typeface="Trebuchet MS"/>
                </a:rPr>
                <a:t>     Suecia</a:t>
              </a:r>
              <a:endParaRPr b="0" lang="en-US" sz="1000" spc="-1" strike="noStrike">
                <a:solidFill>
                  <a:srgbClr val="000000"/>
                </a:solidFill>
                <a:latin typeface="Calisto MT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Trebuchet MS"/>
                </a:rPr>
                <a:t>Tailandia </a:t>
              </a:r>
              <a:r>
                <a:rPr b="0" lang="es-ES" sz="1000" spc="-1" strike="noStrike">
                  <a:solidFill>
                    <a:srgbClr val="ffffff"/>
                  </a:solidFill>
                  <a:latin typeface="Trebuchet MS"/>
                </a:rPr>
                <a:t>	</a:t>
              </a:r>
              <a:r>
                <a:rPr b="0" lang="es-ES" sz="1000" spc="-1" strike="noStrike">
                  <a:solidFill>
                    <a:srgbClr val="ffffff"/>
                  </a:solidFill>
                  <a:latin typeface="Trebuchet MS"/>
                </a:rPr>
                <a:t>	</a:t>
              </a:r>
              <a:r>
                <a:rPr b="0" lang="es-ES" sz="1000" spc="-1" strike="noStrike">
                  <a:solidFill>
                    <a:srgbClr val="ffffff"/>
                  </a:solidFill>
                  <a:latin typeface="Trebuchet MS"/>
                </a:rPr>
                <a:t>	</a:t>
              </a:r>
              <a:r>
                <a:rPr b="0" lang="es-ES" sz="1000" spc="-1" strike="noStrike">
                  <a:solidFill>
                    <a:srgbClr val="ffffff"/>
                  </a:solidFill>
                  <a:latin typeface="Trebuchet MS"/>
                </a:rPr>
                <a:t>     Tendencia promedio</a:t>
              </a:r>
              <a:endParaRPr b="0" lang="en-US" sz="10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08440" y="5716440"/>
              <a:ext cx="76320" cy="7632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708440" y="5867280"/>
              <a:ext cx="76320" cy="76320"/>
            </a:xfrm>
            <a:prstGeom prst="ellipse">
              <a:avLst/>
            </a:prstGeom>
            <a:solidFill>
              <a:srgbClr val="ff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805360" y="5715000"/>
              <a:ext cx="76320" cy="7632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805360" y="5861160"/>
              <a:ext cx="76320" cy="75960"/>
            </a:xfrm>
            <a:prstGeom prst="ellipse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798720" y="5715000"/>
              <a:ext cx="76320" cy="76320"/>
            </a:xfrm>
            <a:prstGeom prst="ellipse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798720" y="5867280"/>
              <a:ext cx="76320" cy="76320"/>
            </a:xfrm>
            <a:prstGeom prst="ellipse">
              <a:avLst/>
            </a:pr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865600" y="5708520"/>
              <a:ext cx="75960" cy="763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2865600" y="5861160"/>
              <a:ext cx="75960" cy="75960"/>
            </a:xfrm>
            <a:prstGeom prst="ellipse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865600" y="6013440"/>
              <a:ext cx="75960" cy="76320"/>
            </a:xfrm>
            <a:prstGeom prst="ellipse">
              <a:avLst/>
            </a:prstGeom>
            <a:solidFill>
              <a:srgbClr val="a0e2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356080" y="6059520"/>
              <a:ext cx="52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1847880" y="3508200"/>
            <a:ext cx="4670280" cy="1420920"/>
            <a:chOff x="1847880" y="3508200"/>
            <a:chExt cx="4670280" cy="1420920"/>
          </a:xfrm>
        </p:grpSpPr>
        <p:sp>
          <p:nvSpPr>
            <p:cNvPr id="380" name=""/>
            <p:cNvSpPr/>
            <p:nvPr/>
          </p:nvSpPr>
          <p:spPr>
            <a:xfrm>
              <a:off x="1971720" y="4452840"/>
              <a:ext cx="76320" cy="76320"/>
            </a:xfrm>
            <a:prstGeom prst="ellipse">
              <a:avLst/>
            </a:pr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400480" y="4087800"/>
              <a:ext cx="75960" cy="76320"/>
            </a:xfrm>
            <a:prstGeom prst="ellipse">
              <a:avLst/>
            </a:pr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025880" y="3720960"/>
              <a:ext cx="76320" cy="7632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494240" y="3625920"/>
              <a:ext cx="76320" cy="7596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470480" y="3697200"/>
              <a:ext cx="75960" cy="76320"/>
            </a:xfrm>
            <a:prstGeom prst="ellipse">
              <a:avLst/>
            </a:prstGeom>
            <a:solidFill>
              <a:srgbClr val="ff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726080" y="3768840"/>
              <a:ext cx="75960" cy="75960"/>
            </a:xfrm>
            <a:prstGeom prst="ellipse">
              <a:avLst/>
            </a:prstGeom>
            <a:solidFill>
              <a:srgbClr val="ff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5640480" y="3817800"/>
              <a:ext cx="75960" cy="76320"/>
            </a:xfrm>
            <a:prstGeom prst="ellipse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5870520" y="3833640"/>
              <a:ext cx="76320" cy="76320"/>
            </a:xfrm>
            <a:prstGeom prst="ellipse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5626080" y="3508200"/>
              <a:ext cx="76320" cy="76320"/>
            </a:xfrm>
            <a:prstGeom prst="ellipse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816520" y="3532320"/>
              <a:ext cx="76320" cy="75960"/>
            </a:xfrm>
            <a:prstGeom prst="ellipse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6153120" y="3639960"/>
              <a:ext cx="76320" cy="76320"/>
            </a:xfrm>
            <a:prstGeom prst="ellipse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6351480" y="3703680"/>
              <a:ext cx="76320" cy="76320"/>
            </a:xfrm>
            <a:prstGeom prst="ellipse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386400" y="4029120"/>
              <a:ext cx="76320" cy="7632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6442200" y="4102200"/>
              <a:ext cx="75960" cy="7596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847880" y="4749840"/>
              <a:ext cx="76320" cy="76320"/>
            </a:xfrm>
            <a:prstGeom prst="ellipse">
              <a:avLst/>
            </a:prstGeom>
            <a:solidFill>
              <a:srgbClr val="a0e2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2063880" y="4853160"/>
              <a:ext cx="75960" cy="75960"/>
            </a:xfrm>
            <a:prstGeom prst="ellipse">
              <a:avLst/>
            </a:prstGeom>
            <a:solidFill>
              <a:srgbClr val="a0e2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</p:grpSp>
      <p:sp>
        <p:nvSpPr>
          <p:cNvPr id="396" name=""/>
          <p:cNvSpPr/>
          <p:nvPr/>
        </p:nvSpPr>
        <p:spPr>
          <a:xfrm flipV="1">
            <a:off x="1909800" y="3665160"/>
            <a:ext cx="4572000" cy="803160"/>
          </a:xfrm>
          <a:prstGeom prst="line">
            <a:avLst/>
          </a:prstGeom>
          <a:ln cap="sq"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"/>
                            </p:stCondLst>
                            <p:childTnLst>
                              <p:par>
                                <p:cTn id="2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1500"/>
                            </p:stCondLst>
                            <p:childTnLst>
                              <p:par>
                                <p:cTn id="292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sto MT"/>
              </a:rPr>
              <a:t>Tres brechas en Educación: Gasto</a:t>
            </a: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90680" y="1459080"/>
            <a:ext cx="470376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d18009"/>
              </a:buClr>
              <a:buSzPct val="75000"/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¿Estamos gastando lo suficiente?</a:t>
            </a: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99" name=""/>
          <p:cNvSpPr/>
          <p:nvPr/>
        </p:nvSpPr>
        <p:spPr>
          <a:xfrm>
            <a:off x="1638360" y="5438880"/>
            <a:ext cx="5686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00" name=""/>
          <p:cNvSpPr/>
          <p:nvPr/>
        </p:nvSpPr>
        <p:spPr>
          <a:xfrm>
            <a:off x="1638360" y="3622680"/>
            <a:ext cx="0" cy="1828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01" name=""/>
          <p:cNvSpPr/>
          <p:nvPr/>
        </p:nvSpPr>
        <p:spPr>
          <a:xfrm>
            <a:off x="1426320" y="5192640"/>
            <a:ext cx="25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rebuchet MS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02" name=""/>
          <p:cNvSpPr/>
          <p:nvPr/>
        </p:nvSpPr>
        <p:spPr>
          <a:xfrm>
            <a:off x="1357200" y="4714920"/>
            <a:ext cx="324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rebuchet MS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03" name=""/>
          <p:cNvSpPr/>
          <p:nvPr/>
        </p:nvSpPr>
        <p:spPr>
          <a:xfrm>
            <a:off x="1357200" y="4232160"/>
            <a:ext cx="324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rebuchet MS"/>
              </a:rPr>
              <a:t>15</a:t>
            </a:r>
            <a:endParaRPr b="0" lang="en-US" sz="10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04" name=""/>
          <p:cNvSpPr/>
          <p:nvPr/>
        </p:nvSpPr>
        <p:spPr>
          <a:xfrm>
            <a:off x="1357200" y="3762360"/>
            <a:ext cx="324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rebuchet MS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05" name=""/>
          <p:cNvSpPr/>
          <p:nvPr/>
        </p:nvSpPr>
        <p:spPr>
          <a:xfrm>
            <a:off x="539640" y="3649680"/>
            <a:ext cx="775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rebuchet MS"/>
              </a:rPr>
              <a:t>% del</a:t>
            </a:r>
            <a:endParaRPr b="0" lang="en-US" sz="1000" spc="-1" strike="noStrike">
              <a:solidFill>
                <a:srgbClr val="000000"/>
              </a:solidFill>
              <a:latin typeface="Calisto MT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rebuchet MS"/>
              </a:rPr>
              <a:t>Ingreso </a:t>
            </a:r>
            <a:endParaRPr b="0" lang="en-US" sz="1000" spc="-1" strike="noStrike">
              <a:solidFill>
                <a:srgbClr val="000000"/>
              </a:solidFill>
              <a:latin typeface="Calisto MT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rebuchet MS"/>
              </a:rPr>
              <a:t>per cápita</a:t>
            </a:r>
            <a:endParaRPr b="0" lang="en-US" sz="10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06" name=""/>
          <p:cNvSpPr/>
          <p:nvPr/>
        </p:nvSpPr>
        <p:spPr>
          <a:xfrm>
            <a:off x="1896480" y="5519880"/>
            <a:ext cx="25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rebuchet MS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07" name=""/>
          <p:cNvSpPr/>
          <p:nvPr/>
        </p:nvSpPr>
        <p:spPr>
          <a:xfrm>
            <a:off x="3313080" y="5519880"/>
            <a:ext cx="500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rebuchet MS"/>
              </a:rPr>
              <a:t>5.000</a:t>
            </a:r>
            <a:endParaRPr b="0" lang="en-US" sz="10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08" name=""/>
          <p:cNvSpPr/>
          <p:nvPr/>
        </p:nvSpPr>
        <p:spPr>
          <a:xfrm>
            <a:off x="4983480" y="5519880"/>
            <a:ext cx="572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rebuchet MS"/>
              </a:rPr>
              <a:t>10.000</a:t>
            </a:r>
            <a:endParaRPr b="0" lang="en-US" sz="10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09" name=""/>
          <p:cNvSpPr/>
          <p:nvPr/>
        </p:nvSpPr>
        <p:spPr>
          <a:xfrm>
            <a:off x="6812280" y="5519880"/>
            <a:ext cx="572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rebuchet MS"/>
              </a:rPr>
              <a:t>15.000</a:t>
            </a:r>
            <a:endParaRPr b="0" lang="en-US" sz="10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10" name=""/>
          <p:cNvSpPr/>
          <p:nvPr/>
        </p:nvSpPr>
        <p:spPr>
          <a:xfrm>
            <a:off x="7407360" y="5372280"/>
            <a:ext cx="77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rebuchet MS"/>
              </a:rPr>
              <a:t>PIB</a:t>
            </a:r>
            <a:endParaRPr b="0" lang="en-US" sz="1000" spc="-1" strike="noStrike">
              <a:solidFill>
                <a:srgbClr val="000000"/>
              </a:solidFill>
              <a:latin typeface="Calisto MT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rebuchet MS"/>
              </a:rPr>
              <a:t>per cápita</a:t>
            </a:r>
            <a:endParaRPr b="0" lang="en-US" sz="10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11" name=""/>
          <p:cNvSpPr/>
          <p:nvPr/>
        </p:nvSpPr>
        <p:spPr>
          <a:xfrm>
            <a:off x="1474200" y="2932200"/>
            <a:ext cx="5293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rebuchet MS"/>
              </a:rPr>
              <a:t>Gasto público en educación por habitante</a:t>
            </a:r>
            <a:endParaRPr b="0" lang="en-US" sz="1600" spc="-1" strike="noStrike">
              <a:solidFill>
                <a:srgbClr val="000000"/>
              </a:solidFill>
              <a:latin typeface="Calisto MT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rebuchet MS"/>
              </a:rPr>
              <a:t>en edad escolar (% del PIB per cápita) y PIB per cápita</a:t>
            </a:r>
            <a:endParaRPr b="0" lang="en-US" sz="1600" spc="-1" strike="noStrike">
              <a:solidFill>
                <a:srgbClr val="000000"/>
              </a:solidFill>
              <a:latin typeface="Calisto MT"/>
            </a:endParaRPr>
          </a:p>
        </p:txBody>
      </p:sp>
      <p:grpSp>
        <p:nvGrpSpPr>
          <p:cNvPr id="412" name=""/>
          <p:cNvGrpSpPr/>
          <p:nvPr/>
        </p:nvGrpSpPr>
        <p:grpSpPr>
          <a:xfrm>
            <a:off x="3056040" y="5942160"/>
            <a:ext cx="4487760" cy="550800"/>
            <a:chOff x="3056040" y="5942160"/>
            <a:chExt cx="4487760" cy="550800"/>
          </a:xfrm>
        </p:grpSpPr>
        <p:sp>
          <p:nvSpPr>
            <p:cNvPr id="413" name=""/>
            <p:cNvSpPr/>
            <p:nvPr/>
          </p:nvSpPr>
          <p:spPr>
            <a:xfrm>
              <a:off x="3095640" y="5942160"/>
              <a:ext cx="44481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rebuchet MS"/>
                </a:rPr>
                <a:t>China </a:t>
              </a:r>
              <a:r>
                <a:rPr b="0" lang="en-US" sz="1000" spc="-1" strike="noStrike">
                  <a:solidFill>
                    <a:srgbClr val="ffffff"/>
                  </a:solidFill>
                  <a:latin typeface="Trebuchet MS"/>
                </a:rPr>
                <a:t>	</a:t>
              </a:r>
              <a:r>
                <a:rPr b="0" lang="en-US" sz="1000" spc="-1" strike="noStrike">
                  <a:solidFill>
                    <a:srgbClr val="ffffff"/>
                  </a:solidFill>
                  <a:latin typeface="Trebuchet MS"/>
                </a:rPr>
                <a:t>Corea</a:t>
              </a:r>
              <a:r>
                <a:rPr b="0" lang="en-US" sz="1000" spc="-1" strike="noStrike">
                  <a:solidFill>
                    <a:srgbClr val="ffffff"/>
                  </a:solidFill>
                  <a:latin typeface="Trebuchet MS"/>
                </a:rPr>
                <a:t>	</a:t>
              </a:r>
              <a:r>
                <a:rPr b="0" lang="en-US" sz="1000" spc="-1" strike="noStrike">
                  <a:solidFill>
                    <a:srgbClr val="ffffff"/>
                  </a:solidFill>
                  <a:latin typeface="Trebuchet MS"/>
                </a:rPr>
                <a:t>Estonia</a:t>
              </a:r>
              <a:r>
                <a:rPr b="0" lang="en-US" sz="1000" spc="-1" strike="noStrike">
                  <a:solidFill>
                    <a:srgbClr val="ffffff"/>
                  </a:solidFill>
                  <a:latin typeface="Trebuchet MS"/>
                </a:rPr>
                <a:t>	</a:t>
              </a:r>
              <a:r>
                <a:rPr b="0" lang="en-US" sz="1000" spc="-1" strike="noStrike">
                  <a:solidFill>
                    <a:srgbClr val="ffffff"/>
                  </a:solidFill>
                  <a:latin typeface="Trebuchet MS"/>
                </a:rPr>
                <a:t>     India</a:t>
              </a:r>
              <a:endParaRPr b="0" lang="en-US" sz="1000" spc="-1" strike="noStrike">
                <a:solidFill>
                  <a:srgbClr val="000000"/>
                </a:solidFill>
                <a:latin typeface="Calisto MT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rebuchet MS"/>
                </a:rPr>
                <a:t>Letonia</a:t>
              </a:r>
              <a:r>
                <a:rPr b="0" lang="en-US" sz="1000" spc="-1" strike="noStrike">
                  <a:solidFill>
                    <a:srgbClr val="ffffff"/>
                  </a:solidFill>
                  <a:latin typeface="Trebuchet MS"/>
                </a:rPr>
                <a:t>	</a:t>
              </a:r>
              <a:r>
                <a:rPr b="0" lang="en-US" sz="1000" spc="-1" strike="noStrike">
                  <a:solidFill>
                    <a:srgbClr val="ffffff"/>
                  </a:solidFill>
                  <a:latin typeface="Trebuchet MS"/>
                </a:rPr>
                <a:t>Lituania </a:t>
              </a:r>
              <a:r>
                <a:rPr b="0" lang="en-US" sz="1000" spc="-1" strike="noStrike">
                  <a:solidFill>
                    <a:srgbClr val="ffffff"/>
                  </a:solidFill>
                  <a:latin typeface="Trebuchet MS"/>
                </a:rPr>
                <a:t>	</a:t>
              </a:r>
              <a:r>
                <a:rPr b="0" lang="en-US" sz="1000" spc="-1" strike="noStrike">
                  <a:solidFill>
                    <a:srgbClr val="ffffff"/>
                  </a:solidFill>
                  <a:latin typeface="Trebuchet MS"/>
                </a:rPr>
                <a:t>Malasia</a:t>
              </a:r>
              <a:r>
                <a:rPr b="0" lang="en-US" sz="1000" spc="-1" strike="noStrike">
                  <a:solidFill>
                    <a:srgbClr val="ffffff"/>
                  </a:solidFill>
                  <a:latin typeface="Trebuchet MS"/>
                </a:rPr>
                <a:t>	</a:t>
              </a:r>
              <a:r>
                <a:rPr b="0" lang="en-US" sz="1000" spc="-1" strike="noStrike">
                  <a:solidFill>
                    <a:srgbClr val="ffffff"/>
                  </a:solidFill>
                  <a:latin typeface="Trebuchet MS"/>
                </a:rPr>
                <a:t>     Tailandia</a:t>
              </a:r>
              <a:endParaRPr b="0" lang="en-US" sz="1000" spc="-1" strike="noStrike">
                <a:solidFill>
                  <a:srgbClr val="000000"/>
                </a:solidFill>
                <a:latin typeface="Calisto MT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rebuchet MS"/>
                </a:rPr>
                <a:t>	</a:t>
              </a:r>
              <a:r>
                <a:rPr b="0" lang="en-US" sz="1000" spc="-1" strike="noStrike">
                  <a:solidFill>
                    <a:srgbClr val="ffffff"/>
                  </a:solidFill>
                  <a:latin typeface="Trebuchet MS"/>
                </a:rPr>
                <a:t>	</a:t>
              </a:r>
              <a:r>
                <a:rPr b="0" lang="en-US" sz="1000" spc="-1" strike="noStrike">
                  <a:solidFill>
                    <a:srgbClr val="ffffff"/>
                  </a:solidFill>
                  <a:latin typeface="Trebuchet MS"/>
                </a:rPr>
                <a:t>	</a:t>
              </a:r>
              <a:r>
                <a:rPr b="0" lang="en-US" sz="1000" spc="-1" strike="noStrike">
                  <a:solidFill>
                    <a:srgbClr val="ffffff"/>
                  </a:solidFill>
                  <a:latin typeface="Trebuchet MS"/>
                </a:rPr>
                <a:t>     </a:t>
              </a:r>
              <a:r>
                <a:rPr b="0" lang="en-US" sz="1000" spc="-1" strike="noStrike">
                  <a:solidFill>
                    <a:srgbClr val="ffffff"/>
                  </a:solidFill>
                  <a:latin typeface="Trebuchet MS"/>
                </a:rPr>
                <a:t>Tendencia promedio</a:t>
              </a:r>
              <a:endParaRPr b="0" lang="en-US" sz="10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4898880" y="6037200"/>
              <a:ext cx="76320" cy="76320"/>
            </a:xfrm>
            <a:prstGeom prst="ellipse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4898880" y="6188040"/>
              <a:ext cx="76320" cy="763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996160" y="6035760"/>
              <a:ext cx="75960" cy="75960"/>
            </a:xfrm>
            <a:prstGeom prst="ellipse">
              <a:avLst/>
            </a:prstGeom>
            <a:solidFill>
              <a:srgbClr val="ff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5996160" y="6181560"/>
              <a:ext cx="75960" cy="7632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3989520" y="6035760"/>
              <a:ext cx="75960" cy="7596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3989520" y="6188040"/>
              <a:ext cx="75960" cy="76320"/>
            </a:xfrm>
            <a:prstGeom prst="ellipse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056040" y="6029280"/>
              <a:ext cx="75960" cy="763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056040" y="6181560"/>
              <a:ext cx="75960" cy="76320"/>
            </a:xfrm>
            <a:prstGeom prst="ellipse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5546880" y="6380280"/>
              <a:ext cx="52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</p:grpSp>
      <p:grpSp>
        <p:nvGrpSpPr>
          <p:cNvPr id="423" name=""/>
          <p:cNvGrpSpPr/>
          <p:nvPr/>
        </p:nvGrpSpPr>
        <p:grpSpPr>
          <a:xfrm>
            <a:off x="4137120" y="4545000"/>
            <a:ext cx="2450880" cy="836640"/>
            <a:chOff x="4137120" y="4545000"/>
            <a:chExt cx="2450880" cy="836640"/>
          </a:xfrm>
        </p:grpSpPr>
        <p:sp>
          <p:nvSpPr>
            <p:cNvPr id="424" name=""/>
            <p:cNvSpPr/>
            <p:nvPr/>
          </p:nvSpPr>
          <p:spPr>
            <a:xfrm flipV="1">
              <a:off x="4168800" y="4854600"/>
              <a:ext cx="1155600" cy="3938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137120" y="5210280"/>
              <a:ext cx="88920" cy="889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030640" y="4897440"/>
              <a:ext cx="88920" cy="889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5291280" y="4802040"/>
              <a:ext cx="88920" cy="889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5386320" y="4840200"/>
              <a:ext cx="45108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Trebuchet MS"/>
                </a:rPr>
                <a:t>2002</a:t>
              </a:r>
              <a:endParaRPr b="0" lang="en-US" sz="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5965920" y="4545000"/>
              <a:ext cx="622080" cy="228600"/>
            </a:xfrm>
            <a:prstGeom prst="borderCallout2">
              <a:avLst>
                <a:gd name="adj1" fmla="val 18750"/>
                <a:gd name="adj2" fmla="val -8333"/>
                <a:gd name="adj3" fmla="val 50000"/>
                <a:gd name="adj4" fmla="val -51787"/>
                <a:gd name="adj5" fmla="val 111111"/>
                <a:gd name="adj6" fmla="val -93879"/>
              </a:avLst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rebuchet MS"/>
                </a:rPr>
                <a:t>Chile</a:t>
              </a:r>
              <a:endParaRPr b="0" lang="en-US" sz="12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264200" y="5235480"/>
              <a:ext cx="31716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Trebuchet MS"/>
                </a:rPr>
                <a:t>1991</a:t>
              </a:r>
              <a:endParaRPr b="0" lang="en-US" sz="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</p:grpSp>
      <p:sp>
        <p:nvSpPr>
          <p:cNvPr id="431" name="">
            <a:hlinkClick r:id="rId2" action="ppaction://hlinksldjump"/>
          </p:cNvPr>
          <p:cNvSpPr/>
          <p:nvPr/>
        </p:nvSpPr>
        <p:spPr>
          <a:xfrm>
            <a:off x="235080" y="7256520"/>
            <a:ext cx="276120" cy="276120"/>
          </a:xfrm>
          <a:custGeom>
            <a:avLst/>
            <a:gdLst>
              <a:gd name="textAreaLeft" fmla="*/ 17640 w 276120"/>
              <a:gd name="textAreaRight" fmla="*/ 258480 w 276120"/>
              <a:gd name="textAreaTop" fmla="*/ 17640 h 276120"/>
              <a:gd name="textAreaBottom" fmla="*/ 258480 h 276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a0e2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32" name=""/>
          <p:cNvSpPr/>
          <p:nvPr/>
        </p:nvSpPr>
        <p:spPr>
          <a:xfrm flipV="1">
            <a:off x="2293920" y="4118040"/>
            <a:ext cx="4889520" cy="969840"/>
          </a:xfrm>
          <a:prstGeom prst="line">
            <a:avLst/>
          </a:prstGeom>
          <a:ln cap="sq"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2276640" y="3922560"/>
            <a:ext cx="4986000" cy="1444680"/>
            <a:chOff x="2276640" y="3922560"/>
            <a:chExt cx="4986000" cy="1444680"/>
          </a:xfrm>
        </p:grpSpPr>
        <p:sp>
          <p:nvSpPr>
            <p:cNvPr id="434" name=""/>
            <p:cNvSpPr/>
            <p:nvPr/>
          </p:nvSpPr>
          <p:spPr>
            <a:xfrm>
              <a:off x="7186680" y="4668840"/>
              <a:ext cx="75960" cy="7632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grpSp>
          <p:nvGrpSpPr>
            <p:cNvPr id="435" name=""/>
            <p:cNvGrpSpPr/>
            <p:nvPr/>
          </p:nvGrpSpPr>
          <p:grpSpPr>
            <a:xfrm>
              <a:off x="2276640" y="3922560"/>
              <a:ext cx="3781440" cy="1444680"/>
              <a:chOff x="2276640" y="3922560"/>
              <a:chExt cx="3781440" cy="1444680"/>
            </a:xfrm>
          </p:grpSpPr>
          <p:sp>
            <p:nvSpPr>
              <p:cNvPr id="436" name=""/>
              <p:cNvSpPr/>
              <p:nvPr/>
            </p:nvSpPr>
            <p:spPr>
              <a:xfrm>
                <a:off x="2276640" y="5105520"/>
                <a:ext cx="75960" cy="75960"/>
              </a:xfrm>
              <a:prstGeom prst="ellipse">
                <a:avLst/>
              </a:prstGeom>
              <a:solidFill>
                <a:srgbClr val="ff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sto MT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2514600" y="4962600"/>
                <a:ext cx="76320" cy="75960"/>
              </a:xfrm>
              <a:prstGeom prst="ellipse">
                <a:avLst/>
              </a:prstGeom>
              <a:solidFill>
                <a:srgbClr val="ff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sto MT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4268880" y="4033800"/>
                <a:ext cx="75960" cy="76320"/>
              </a:xfrm>
              <a:prstGeom prst="ellipse">
                <a:avLst/>
              </a:prstGeom>
              <a:solidFill>
                <a:srgbClr val="33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sto MT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4626000" y="4305240"/>
                <a:ext cx="76320" cy="76320"/>
              </a:xfrm>
              <a:prstGeom prst="ellipse">
                <a:avLst/>
              </a:prstGeom>
              <a:solidFill>
                <a:srgbClr val="33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sto MT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4551480" y="4432320"/>
                <a:ext cx="75960" cy="76320"/>
              </a:xfrm>
              <a:prstGeom prst="ellipse">
                <a:avLst/>
              </a:prstGeom>
              <a:solidFill>
                <a:srgbClr val="cc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sto MT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3691080" y="4844880"/>
                <a:ext cx="75960" cy="76320"/>
              </a:xfrm>
              <a:prstGeom prst="ellipse">
                <a:avLst/>
              </a:prstGeom>
              <a:solidFill>
                <a:srgbClr val="cc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sto MT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2467080" y="5291280"/>
                <a:ext cx="75960" cy="759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sto MT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3133800" y="5203800"/>
                <a:ext cx="75960" cy="763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sto MT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4869000" y="4608360"/>
                <a:ext cx="75960" cy="76320"/>
              </a:xfrm>
              <a:prstGeom prst="ellipse">
                <a:avLst/>
              </a:pr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sto MT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4513320" y="4019400"/>
                <a:ext cx="76320" cy="76320"/>
              </a:xfrm>
              <a:prstGeom prst="ellipse">
                <a:avLst/>
              </a:pr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sto MT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5981760" y="3922560"/>
                <a:ext cx="76320" cy="76320"/>
              </a:xfrm>
              <a:prstGeom prst="ellipse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sto MT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3508200" y="5141880"/>
                <a:ext cx="76320" cy="76320"/>
              </a:xfrm>
              <a:prstGeom prst="ellipse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sto MT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4097160" y="4608360"/>
                <a:ext cx="76320" cy="76320"/>
              </a:xfrm>
              <a:prstGeom prst="ellipse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sto MT"/>
                </a:endParaRPr>
              </a:p>
            </p:txBody>
          </p:sp>
        </p:grpSp>
      </p:grpSp>
      <p:sp>
        <p:nvSpPr>
          <p:cNvPr id="449" name=""/>
          <p:cNvSpPr/>
          <p:nvPr/>
        </p:nvSpPr>
        <p:spPr>
          <a:xfrm>
            <a:off x="722160" y="1924200"/>
            <a:ext cx="8256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listo MT"/>
              </a:rPr>
              <a:t>Las cifras de gasto total o gasto por estudiante pueden ser engañosas...</a:t>
            </a:r>
            <a:endParaRPr b="0" lang="en-US" sz="2000" spc="-1" strike="noStrike">
              <a:solidFill>
                <a:srgbClr val="00000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500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500"/>
                            </p:stCondLst>
                            <p:childTnLst>
                              <p:par>
                                <p:cTn id="3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5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3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2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7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9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500"/>
                            </p:stCondLst>
                            <p:childTnLst>
                              <p:par>
                                <p:cTn id="361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8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500"/>
                            </p:stCondLst>
                            <p:childTnLst>
                              <p:par>
                                <p:cTn id="3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1000"/>
                            </p:stCondLst>
                            <p:childTnLst>
                              <p:par>
                                <p:cTn id="3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6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3T19:33:31Z</dcterms:created>
  <dc:creator>Informática</dc:creator>
  <dc:description/>
  <dc:language>en-US</dc:language>
  <cp:lastModifiedBy>alumno</cp:lastModifiedBy>
  <dcterms:modified xsi:type="dcterms:W3CDTF">2008-05-16T19:56:00Z</dcterms:modified>
  <cp:revision>40</cp:revision>
  <dc:subject/>
  <dc:title>El Capital Humano en la  Estrategia de Innovación de Chile</dc:title>
</cp:coreProperties>
</file>