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D4DA-F8C8-4FC0-8EC7-11537DDAF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983A-FECC-4B4E-B97E-B89E983B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E6FD-CC35-4CC8-8548-DC80A5212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855E-57D1-429E-8617-A8B7B872E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91D0-A3A0-4926-920E-302358A9D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4E0E-7950-4A7F-B630-D3F0E608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7555-DE75-4D64-BA4D-F6BADA77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BE36-932F-4AEE-A263-8ECFD764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EB9AB-6298-4496-97FF-96737939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B6E2-D705-4D82-AC2E-8217F6DA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C3BD-4A92-4302-9EC2-549D75F4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3AA0-3BDC-465D-AD80-224A423F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A6F1-5B0B-4776-A9D3-F723ACA0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0969-F6C1-4C7E-AED4-20916B1C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51EFF-B0EF-45F7-97E7-B86F2514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60F2-99EA-4193-A08B-C1E4269F0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57648-2AE4-4BE8-92DB-88E1E7712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C4641-FC0B-4F3C-88BA-85C236DF9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BF5AE-4AD8-45F2-903F-B85739C7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6DFD8-9996-4EC9-97DC-8B885E32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37744-3DDC-4142-A653-CE90D05C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CAEEF-7226-490B-8EE9-EA464EB4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28E5-6F9D-471C-984A-405725B3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A32A3-2B2F-4138-A40E-217CE0C8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7E231-B8F0-4F23-B1CF-87B8EE99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F5876-968B-436D-AF84-900D5EA4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AAABE-9EFF-49AB-BFC0-32AF9A6D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68AC0-591D-4A51-9E31-5ACE4699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14EBE-9912-4922-A9DB-BEE63D1B8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74664-873C-4354-9870-A7068FFD1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8C772-1CDD-4721-B9D7-1C0D8C991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5F27D-A8EB-499E-AA82-497666E4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BC9E1-B59A-4E42-9171-024D1759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296A-DBD4-45D8-93E4-CC3A73AF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BF8FF-D5E6-4858-B5D9-BBB49D2A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E3E62-22D6-426E-99F1-824C3417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11D29-F139-49B6-AFB4-61C51C75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BFB56-492B-453B-AD80-9DC8B6A6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48985-9E4B-4CAF-A510-8501FE75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81C70-A27D-472E-B006-7804BEC4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E9AA9-8438-4236-94A1-6136D7CB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C010D-0E25-4353-B85F-FDFC204F8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DD01F-D147-4B41-936D-232772C27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6A42B-C5AD-4616-A804-2E671108E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C025-F490-42ED-840E-F16895D9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CDDE9-599B-40A8-989E-B975336B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D2C00-51D1-43E7-A2DE-C7451A3A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70F09-71DD-4EE7-BA81-83B58BBD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C819A-2B59-42A6-AC3B-C968783A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FCC8B-3CF7-4CAD-91FB-72EA8AC9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86510-58D4-4D8B-B131-A030A3B5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5FA48-CE1A-4848-AD1B-06B41602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DAA74-CDA8-4B57-B3A7-D3910A0D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E74F5-F6A9-482E-BAAE-8AE766DB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76CBC-F21D-4520-A529-D7378D93A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EF82-053F-4ED7-A24E-FC636F2D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A2F7E-350D-4497-8F74-6C78A0919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69AFA-19B8-43CD-82B4-1D2EFF7D5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9AE22-8C4B-4754-9225-BA7D8739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9C11D-7733-44DA-93CA-481D89D6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2E4D8-80F1-4B10-827F-C3118BF0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02E5C-822F-4FD9-9BFA-FFE97292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6FF30-DC1B-46AE-B7FA-3F531FD6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089F5-E232-4E6B-8746-F4CF40A3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DB8F1-6E04-40EF-87EF-DA7D57F7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A7936-9834-447B-969D-93569B45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3558-3EFC-463E-A005-21081FBE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34A3A-2A2A-454A-A08B-DEA33733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5464C-1806-4D56-AF0A-591E34E8A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27837-6339-4B5F-A079-B50409CAC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348B-F909-4DCE-AD18-9F40A9A3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EB76-E389-4E9C-BAF8-9C2E4B0F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002D-ED71-44A4-9B37-6BD27C759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CB04-3A20-48E3-B414-A57488624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7A04-3274-4292-BC45-4684FCE2D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880" y="2971800"/>
            <a:ext cx="7313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958F-A740-4CD1-A36A-A5E29B510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1" marL="743040" indent="-28584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2" marL="1143000" indent="-22860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3" marL="1600200" indent="-22860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4" marL="2057400" indent="-22860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DA13-2A1B-4A3F-8733-869519C50E03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6040" y="4149720"/>
            <a:ext cx="8856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FAA7-5364-4D08-8560-ECD6A61E723D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sto MT"/>
            </a:endParaRPr>
          </a:p>
          <a:p>
            <a:pPr lvl="2" marL="914400" algn="ctr">
              <a:spcBef>
                <a:spcPts val="601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3" marL="1371600" algn="ctr">
              <a:spcBef>
                <a:spcPts val="4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lvl="4" marL="1828800" algn="ctr">
              <a:spcBef>
                <a:spcPts val="4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6040" y="4464000"/>
            <a:ext cx="8856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sto MT"/>
              </a:rPr>
              <a:t>El Capital Humano en la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Calisto MT"/>
              </a:rPr>
              <a:t>Estrategia de Innovación de Chile</a:t>
            </a:r>
            <a:endParaRPr b="0" lang="en-US" sz="3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78920" y="5587920"/>
            <a:ext cx="88362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Nicolás Eyzaguirre G.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La Estrategia de Innovación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1" name=""/>
          <p:cNvSpPr/>
          <p:nvPr/>
        </p:nvSpPr>
        <p:spPr>
          <a:xfrm>
            <a:off x="420840" y="2568600"/>
            <a:ext cx="8507160" cy="39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8009"/>
                </a:solidFill>
                <a:latin typeface="Calisto MT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La conformación de u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alisto MT"/>
              </a:rPr>
              <a:t>sistema de aprendizaje para toda la vida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, accesible y de calidad, que le permita al país contar con el capital humano que la Economía del Conocimiento demanda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8009"/>
                </a:solidFill>
                <a:latin typeface="Calisto MT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El fortalecimiento de una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alisto MT"/>
              </a:rPr>
              <a:t>plataforma de generación, difusión y aplicación del conocimiento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que se funde en un esfuerzo permanente y robusto de investigación científica y tecnológica coherente con los problemas productivos y sociales del paí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8009"/>
                </a:solidFill>
                <a:latin typeface="Calisto MT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La consolidación de u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alisto MT"/>
              </a:rPr>
              <a:t>sistema empresarial innovador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orientado a la creación de valor como estrategia de competencia en los mercados globale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2" name=""/>
          <p:cNvSpPr/>
          <p:nvPr/>
        </p:nvSpPr>
        <p:spPr>
          <a:xfrm>
            <a:off x="325440" y="1459080"/>
            <a:ext cx="733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Estrategia elaborada por el Consejo de Innovación se funda en tres pilares: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4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s grandes orientaciones del Volumen 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5" name=""/>
          <p:cNvSpPr/>
          <p:nvPr/>
        </p:nvSpPr>
        <p:spPr>
          <a:xfrm>
            <a:off x="482760" y="2049480"/>
            <a:ext cx="8240400" cy="53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Invertir en nuestro capital humano es invertir tanto en competitividad como en equidad: fallas de mercado justifican el apoyo públic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La innovación requiere de cambios culturales a nivel de individuos e instituciones (cultura organizacional y sector público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Se requiere un gran salto en educación terciari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Sesgo a favor de la educación técnic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poyo del Estado con foco en la demanda (estudiantes): créditos y beca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Exigencia de calidad de la oferta es requisito para cualquier aporte públic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Formación técnica y capacitación van de la mano: competencias laborale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Necesidad de formar masas críticas de capital humano especializado: conocimiento tácit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El tiempo importa: esfuerzo especial de selectividad para responder a requerimientos de sectores con potenci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7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8" name=""/>
          <p:cNvSpPr/>
          <p:nvPr/>
        </p:nvSpPr>
        <p:spPr>
          <a:xfrm>
            <a:off x="436680" y="2068560"/>
            <a:ext cx="8548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Conformar un sistema de aprendizaje para toda la vida accesible y de calidad, que le permita al país contar con el capital humano que la Economía del Conocimiento demanda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9" name=""/>
          <p:cNvSpPr/>
          <p:nvPr/>
        </p:nvSpPr>
        <p:spPr>
          <a:xfrm>
            <a:off x="1486080" y="39178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rticulación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0" name=""/>
          <p:cNvSpPr/>
          <p:nvPr/>
        </p:nvSpPr>
        <p:spPr>
          <a:xfrm>
            <a:off x="3613320" y="39178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alidad y pertinenci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1" name=""/>
          <p:cNvSpPr/>
          <p:nvPr/>
        </p:nvSpPr>
        <p:spPr>
          <a:xfrm>
            <a:off x="5740560" y="39178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bertur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2" name=""/>
          <p:cNvSpPr/>
          <p:nvPr/>
        </p:nvSpPr>
        <p:spPr>
          <a:xfrm>
            <a:off x="1298520" y="3478320"/>
            <a:ext cx="655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Tres grandes líneas de acción en el capítulo de Capital Humano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3" name=""/>
          <p:cNvSpPr/>
          <p:nvPr/>
        </p:nvSpPr>
        <p:spPr>
          <a:xfrm>
            <a:off x="2263680" y="4989600"/>
            <a:ext cx="58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Ciencia                                             Innovación Empresarial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4" name=""/>
          <p:cNvSpPr/>
          <p:nvPr/>
        </p:nvSpPr>
        <p:spPr>
          <a:xfrm>
            <a:off x="1793880" y="5403960"/>
            <a:ext cx="1879560" cy="83808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otación de científico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5" name=""/>
          <p:cNvSpPr/>
          <p:nvPr/>
        </p:nvSpPr>
        <p:spPr>
          <a:xfrm>
            <a:off x="4441680" y="5416560"/>
            <a:ext cx="1879920" cy="83808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Gestión de la Innovación e I+D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6" name=""/>
          <p:cNvSpPr/>
          <p:nvPr/>
        </p:nvSpPr>
        <p:spPr>
          <a:xfrm>
            <a:off x="1293840" y="4761000"/>
            <a:ext cx="655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sto MT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7" name=""/>
          <p:cNvSpPr/>
          <p:nvPr/>
        </p:nvSpPr>
        <p:spPr>
          <a:xfrm>
            <a:off x="6477120" y="54100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uster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9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0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rticulación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1" name=""/>
          <p:cNvSpPr/>
          <p:nvPr/>
        </p:nvSpPr>
        <p:spPr>
          <a:xfrm>
            <a:off x="322200" y="2897280"/>
            <a:ext cx="8526600" cy="34257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Consolidar mecanismos de articulación: entre niveles de formación y capacitación, y entre éstas y el mercado laboral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Sistema de certificación de competencias laborales (con participación del mundo productivo en la definición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rmonizar procesos formativos para dar más flexibilidad al sistema y asegurar competencia entre oferentes de formación. (Ej. Créditos transferibles) 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Reconocimiento del aprendizaje obtenido en instancias no formales (mejora la empleabilidad de los trabajadores y ayuda al proceso de formación continua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3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4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alidad y pertinenci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5" name=""/>
          <p:cNvSpPr/>
          <p:nvPr/>
        </p:nvSpPr>
        <p:spPr>
          <a:xfrm>
            <a:off x="328680" y="2903400"/>
            <a:ext cx="8513640" cy="29656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Asegurar la calidad y pertinencia de la formación y la capacitación a través de modelos de evaluación que apunten a la medición de resultado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Fortalecer la acreditación de la oferta de pre y post grad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Implementar la acreditación de la formación y capacitación técnicas sobre la base del sistema de certificación de competencias laborale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Fortalecer sistemas de información para orientar y retroalimentar a los actores del sistem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7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8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bertur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9" name=""/>
          <p:cNvSpPr/>
          <p:nvPr/>
        </p:nvSpPr>
        <p:spPr>
          <a:xfrm>
            <a:off x="272880" y="2898720"/>
            <a:ext cx="8871120" cy="34765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Aumentar cobertura con foco en el apoyo a la formación terciaria de jóvenes de menores ingresos (en especial técnicos) y en la capacitación de trabajadores de las empresas de menor tamaño relativo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Consolidar el actual sistema de Crédito con Aval del Estado como el principal sistema de financiamiento para la formación técnica y profesion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Perfeccionar cobranza y focalización del Crédito Universitario Solidario y perfeccionar el crédito Corfo (foco en educación continua y postgrados profesionales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Potenciar becas (aranceles y mantención) para quintiles más pobres, ajustando monto de los beneficios (costo de oportunidad y costos de las carreras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Reorientar el apoyo público a la capacitación de acuerdo a las necesidades de los trabajadores, y focalizar la franquicia Sence en pequeñas empresa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1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 en Ciencia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2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otación de científico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3" name=""/>
          <p:cNvSpPr/>
          <p:nvPr/>
        </p:nvSpPr>
        <p:spPr>
          <a:xfrm>
            <a:off x="272880" y="2898720"/>
            <a:ext cx="8871120" cy="34765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Asegurar una dotación de científicos capaz de abordar los desafíos del paí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umentar aporte público para becas de postgrado (con foco en formación de investigadores), elevando el valor de las becas nacionales e internacionales, exigiendo calidad a la oferta de formación y estimulando la graduación en menos tiemp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Estimular y fortalecer la oferta de programas de doctorado nacionales con orientación estratégic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poyar la incorporación de investigadores nuevos al sistema y la reinserción tanto en la academia como en las empresas de los nuevos doctore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traer investigadores formados en el extranjero para cubrir brechas coyunturales en áreas prioritaria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5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 en Innovación Empresaria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6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Gestión de la Innovación e I+D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7" name=""/>
          <p:cNvSpPr/>
          <p:nvPr/>
        </p:nvSpPr>
        <p:spPr>
          <a:xfrm>
            <a:off x="272880" y="2898720"/>
            <a:ext cx="8871120" cy="34765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Incorporar capital humano para la gestión de la innovación y para el desarrollo de I+D en las empresa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Poner en marcha un programa de formación en habilidades de gestión de la innovación a través de créditos con garantía estatal u otras formas de apoyo pertinentes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Apoyar con recursos públicos la inserción en las empresas de personal especializado en la gestión de la innovación y en el desarrollo de la I+D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poyar la formación de capital humano especializado en Propiedad Intelectu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Desarrollar un sistema de garantías estatales para créditos para financiar la adquisición de activos intangibles, especialmente en empresas de menor tamañ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9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 en Innovación Empresaria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0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uster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1" name=""/>
          <p:cNvSpPr/>
          <p:nvPr/>
        </p:nvSpPr>
        <p:spPr>
          <a:xfrm>
            <a:off x="272880" y="2898720"/>
            <a:ext cx="8871120" cy="34765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El capital humano como plataforma transversal en los sectores prioritario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La gran demanda que emerge es disponer de competencias específicas en la fuerza laboral para cada sector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Las hojas de ruta de los ocho clusters estudiados por el Consejo consideran necesidades de los sectores tanto en formación profesional como técnica. Ej. habilidades en inglés para offshoring; técnicos para fruticultura y turismo; técnicos y profesionales (investigadores) para acuicultur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Los sectores productivos demandan sistemas de certificación que señalicen en quiénes existen las competencias requeridas y faciliten así la relación entre oferentes y demandantes en el mercado labor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n síntesis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93" name=""/>
          <p:cNvSpPr/>
          <p:nvPr/>
        </p:nvSpPr>
        <p:spPr>
          <a:xfrm>
            <a:off x="297000" y="1433520"/>
            <a:ext cx="854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El problema de la innovación es sistémico y es necesario integrar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4" name=""/>
          <p:cNvSpPr/>
          <p:nvPr/>
        </p:nvSpPr>
        <p:spPr>
          <a:xfrm>
            <a:off x="1268280" y="32050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5" name=""/>
          <p:cNvSpPr/>
          <p:nvPr/>
        </p:nvSpPr>
        <p:spPr>
          <a:xfrm>
            <a:off x="272880" y="4770360"/>
            <a:ext cx="4299120" cy="179244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Más personas con educación terciaria, en especial de técnicos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sto MT"/>
              </a:rPr>
              <a:t>Más científico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Más trabajadores capacitados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6" name=""/>
          <p:cNvSpPr/>
          <p:nvPr/>
        </p:nvSpPr>
        <p:spPr>
          <a:xfrm>
            <a:off x="5014800" y="4770360"/>
            <a:ext cx="4299120" cy="21700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Demandas específicas de los  sector productivo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Participación de los privados en la definición de perfiles de competencia laboral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7" name=""/>
          <p:cNvSpPr/>
          <p:nvPr/>
        </p:nvSpPr>
        <p:spPr>
          <a:xfrm>
            <a:off x="5994360" y="3203640"/>
            <a:ext cx="1879560" cy="83808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8" name=""/>
          <p:cNvSpPr/>
          <p:nvPr/>
        </p:nvSpPr>
        <p:spPr>
          <a:xfrm>
            <a:off x="3294000" y="3147840"/>
            <a:ext cx="2554200" cy="914400"/>
          </a:xfrm>
          <a:prstGeom prst="leftRightArrow">
            <a:avLst>
              <a:gd name="adj1" fmla="val 84722"/>
              <a:gd name="adj2" fmla="val 55905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Humano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90520" y="1227240"/>
            <a:ext cx="129384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ffff"/>
                </a:solidFill>
                <a:latin typeface="Calisto MT"/>
              </a:rPr>
              <a:t>“</a:t>
            </a:r>
            <a:endParaRPr b="0" lang="en-US" sz="20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57160" y="2198520"/>
            <a:ext cx="7398000" cy="32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En la era de la competencia y del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28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progreso tecnológico, la clave de la prosperidad vendrá de una fuerza de trabajo creativa, calificada, que sabe producir ideas, bienes y servicios intensivos en conocimiento, empleada en empresas capaces de innovar, de adoptar las tecnologías más modernas y de vender en el mundo entero bienes y servicios perfeccionados.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8" name=""/>
          <p:cNvSpPr/>
          <p:nvPr/>
        </p:nvSpPr>
        <p:spPr>
          <a:xfrm rot="10800000">
            <a:off x="5862600" y="3087000"/>
            <a:ext cx="1944720" cy="30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ffff"/>
                </a:solidFill>
                <a:latin typeface="Calisto MT"/>
              </a:rPr>
              <a:t>“</a:t>
            </a:r>
            <a:endParaRPr b="0" lang="en-US" sz="20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9" name=""/>
          <p:cNvSpPr/>
          <p:nvPr/>
        </p:nvSpPr>
        <p:spPr>
          <a:xfrm>
            <a:off x="2259000" y="5977080"/>
            <a:ext cx="674532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 algn="r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Calisto MT"/>
              </a:rPr>
              <a:t>Ángel Gurría</a:t>
            </a:r>
            <a:r>
              <a:rPr b="0" i="1" lang="es-ES" sz="2200" spc="-1" strike="noStrike">
                <a:solidFill>
                  <a:srgbClr val="000000"/>
                </a:solidFill>
                <a:latin typeface="Calisto MT"/>
              </a:rPr>
              <a:t>, secretario general de la OCDE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marL="3240" indent="-32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alisto MT"/>
              </a:rPr>
              <a:t>mayo de 2007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0" name=""/>
          <p:cNvSpPr/>
          <p:nvPr/>
        </p:nvSpPr>
        <p:spPr>
          <a:xfrm>
            <a:off x="2935440" y="6012000"/>
            <a:ext cx="6002280" cy="0"/>
          </a:xfrm>
          <a:prstGeom prst="line">
            <a:avLst/>
          </a:prstGeom>
          <a:ln cap="sq"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1" name=""/>
          <p:cNvSpPr/>
          <p:nvPr/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sto MT"/>
              </a:rPr>
              <a:t>Consenso global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Dos tendencias marcan el futuro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04280" y="1541160"/>
            <a:ext cx="8628120" cy="30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-184320">
              <a:spcBef>
                <a:spcPts val="601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El avance insoslayable de la globalización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1" marL="477720" indent="-114120"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Nuevos mercados para exportaciones y nuevos bienes para consumo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lvl="1" marL="477720" indent="-114120"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Nuevos competidores en mercados ya conquistados</a:t>
            </a: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1" marL="4777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184320" indent="-184320">
              <a:spcBef>
                <a:spcPts val="1800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calidad del </a:t>
            </a:r>
            <a:r>
              <a:rPr b="1" lang="en-US" sz="2400" spc="-1" strike="noStrike">
                <a:solidFill>
                  <a:srgbClr val="ffffff"/>
                </a:solidFill>
                <a:latin typeface="Calisto MT"/>
              </a:rPr>
              <a:t>capital humano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, el </a:t>
            </a:r>
            <a:r>
              <a:rPr b="1" lang="en-US" sz="2400" spc="-1" strike="noStrike">
                <a:solidFill>
                  <a:srgbClr val="ffffff"/>
                </a:solidFill>
                <a:latin typeface="Calisto MT"/>
              </a:rPr>
              <a:t>conocimiento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y la </a:t>
            </a:r>
            <a:r>
              <a:rPr b="1" lang="en-US" sz="2400" spc="-1" strike="noStrike">
                <a:solidFill>
                  <a:srgbClr val="ffffff"/>
                </a:solidFill>
                <a:latin typeface="Calisto MT"/>
              </a:rPr>
              <a:t>innovación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on los nuevos motores de la competitividad y el desarrollo.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Chile requiere más “inspiración”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5" name=""/>
          <p:cNvSpPr/>
          <p:nvPr/>
        </p:nvSpPr>
        <p:spPr>
          <a:xfrm>
            <a:off x="1077840" y="3848040"/>
            <a:ext cx="2413080" cy="2705040"/>
          </a:xfrm>
          <a:prstGeom prst="rect">
            <a:avLst/>
          </a:prstGeom>
          <a:gradFill rotWithShape="0">
            <a:gsLst>
              <a:gs pos="0">
                <a:srgbClr val="dddddd">
                  <a:alpha val="20000"/>
                </a:srgbClr>
              </a:gs>
              <a:gs pos="100000">
                <a:srgbClr val="0019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6" name=""/>
          <p:cNvSpPr/>
          <p:nvPr/>
        </p:nvSpPr>
        <p:spPr>
          <a:xfrm>
            <a:off x="1217520" y="3962520"/>
            <a:ext cx="719280" cy="2158920"/>
          </a:xfrm>
          <a:prstGeom prst="rect">
            <a:avLst/>
          </a:prstGeom>
          <a:solidFill>
            <a:srgbClr val="dddddd">
              <a:alpha val="15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7" name=""/>
          <p:cNvSpPr/>
          <p:nvPr/>
        </p:nvSpPr>
        <p:spPr>
          <a:xfrm>
            <a:off x="2678040" y="3962520"/>
            <a:ext cx="719280" cy="2158920"/>
          </a:xfrm>
          <a:prstGeom prst="rect">
            <a:avLst/>
          </a:prstGeom>
          <a:solidFill>
            <a:srgbClr val="dddddd">
              <a:alpha val="15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8" name=""/>
          <p:cNvSpPr/>
          <p:nvPr/>
        </p:nvSpPr>
        <p:spPr>
          <a:xfrm>
            <a:off x="907920" y="3338640"/>
            <a:ext cx="4294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Aporte de la PTF al crecimiento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9" name=""/>
          <p:cNvSpPr/>
          <p:nvPr/>
        </p:nvSpPr>
        <p:spPr>
          <a:xfrm>
            <a:off x="1166760" y="610884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CHILE</a:t>
            </a:r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0" name=""/>
          <p:cNvSpPr/>
          <p:nvPr/>
        </p:nvSpPr>
        <p:spPr>
          <a:xfrm>
            <a:off x="2589120" y="6108840"/>
            <a:ext cx="88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 Narrow"/>
              </a:rPr>
              <a:t>Otros países*</a:t>
            </a: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1" name=""/>
          <p:cNvSpPr/>
          <p:nvPr/>
        </p:nvSpPr>
        <p:spPr>
          <a:xfrm>
            <a:off x="1077840" y="3822840"/>
            <a:ext cx="2413080" cy="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2" name=""/>
          <p:cNvSpPr/>
          <p:nvPr/>
        </p:nvSpPr>
        <p:spPr>
          <a:xfrm>
            <a:off x="1065240" y="6591240"/>
            <a:ext cx="2413080" cy="0"/>
          </a:xfrm>
          <a:prstGeom prst="line">
            <a:avLst/>
          </a:prstGeom>
          <a:ln w="3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3" name=""/>
          <p:cNvSpPr/>
          <p:nvPr/>
        </p:nvSpPr>
        <p:spPr>
          <a:xfrm>
            <a:off x="3648240" y="6381720"/>
            <a:ext cx="47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 Narrow"/>
              </a:rPr>
              <a:t>* Bálticos, Europa del Este y países de rápido crecimiento de Asia.</a:t>
            </a:r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217520" y="5041800"/>
            <a:ext cx="2179440" cy="1087560"/>
            <a:chOff x="1217520" y="5041800"/>
            <a:chExt cx="2179440" cy="1087560"/>
          </a:xfrm>
        </p:grpSpPr>
        <p:sp>
          <p:nvSpPr>
            <p:cNvPr id="265" name=""/>
            <p:cNvSpPr/>
            <p:nvPr/>
          </p:nvSpPr>
          <p:spPr>
            <a:xfrm>
              <a:off x="1217520" y="5626080"/>
              <a:ext cx="718920" cy="503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678040" y="5041800"/>
              <a:ext cx="718920" cy="107964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3672000" y="4626000"/>
            <a:ext cx="4925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1800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Según estimaciones de la Economist Intelligence Unit, la PTF explicaría menos de un cuarto del crecimiento proyectado para Chile para el período 2007-2011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100000"/>
              </a:lnSpc>
              <a:buClr>
                <a:srgbClr val="d1800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En países competidores, el aporte de la PTF explicaría entre el 30% y 50% del crecimiento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8" name=""/>
          <p:cNvSpPr/>
          <p:nvPr/>
        </p:nvSpPr>
        <p:spPr>
          <a:xfrm>
            <a:off x="474840" y="1468440"/>
            <a:ext cx="846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Calisto MT"/>
              </a:rPr>
              <a:t>El crecimiento de la PTF depende de muchos factores, pero, por sobre todo, de la dinámica y diseminación del conocimiento, del cambio tecnológico, de las capacidades y el esfuerzo de las personas y de la innovación.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Brechas que condicionan el crecimiento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0" name=""/>
          <p:cNvSpPr/>
          <p:nvPr/>
        </p:nvSpPr>
        <p:spPr>
          <a:xfrm>
            <a:off x="474840" y="1582560"/>
            <a:ext cx="8462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Más allá del buen desempeño macroeconómico o el buen nivel de las instituciones y los mercados, Chile muestra importantes debilidades en las áreas claves para el crecimiento de la PTF: educación, innovación, infraestructura y preparación tecnológica</a:t>
            </a:r>
            <a:r>
              <a:rPr b="0" lang="es-MX" sz="2000" spc="-1" strike="noStrike">
                <a:solidFill>
                  <a:srgbClr val="ffffff"/>
                </a:solidFill>
                <a:latin typeface="Calisto MT"/>
              </a:rPr>
              <a:t>.</a:t>
            </a:r>
            <a:r>
              <a:rPr b="0" lang="es-ES" sz="18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1" name=""/>
          <p:cNvSpPr/>
          <p:nvPr/>
        </p:nvSpPr>
        <p:spPr>
          <a:xfrm>
            <a:off x="3252960" y="6562800"/>
            <a:ext cx="344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246480" y="3450960"/>
            <a:ext cx="0" cy="3105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3" name=""/>
          <p:cNvSpPr/>
          <p:nvPr/>
        </p:nvSpPr>
        <p:spPr>
          <a:xfrm>
            <a:off x="5081760" y="6620040"/>
            <a:ext cx="153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osición en el ranking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4" name=""/>
          <p:cNvSpPr/>
          <p:nvPr/>
        </p:nvSpPr>
        <p:spPr>
          <a:xfrm>
            <a:off x="3195000" y="6570720"/>
            <a:ext cx="2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5" name=""/>
          <p:cNvSpPr/>
          <p:nvPr/>
        </p:nvSpPr>
        <p:spPr>
          <a:xfrm>
            <a:off x="6416640" y="6570720"/>
            <a:ext cx="3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6" name=""/>
          <p:cNvSpPr/>
          <p:nvPr/>
        </p:nvSpPr>
        <p:spPr>
          <a:xfrm>
            <a:off x="994680" y="3486240"/>
            <a:ext cx="2268720" cy="31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Macroeconomí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Eficiencia Mdo. Trabajo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Sofisticación Mdo. Financiero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Eficiencia Mdo. Bienes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Instituciones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Infraestructur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Sofisticación de negocios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Ed. Superior y Capacitación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Preparación tecnológic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Innovación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Tamaño del mercado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Salud y Ed. Primari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3284640" y="5299200"/>
            <a:ext cx="3130560" cy="1212840"/>
            <a:chOff x="3284640" y="5299200"/>
            <a:chExt cx="3130560" cy="1212840"/>
          </a:xfrm>
        </p:grpSpPr>
        <p:sp>
          <p:nvSpPr>
            <p:cNvPr id="278" name=""/>
            <p:cNvSpPr/>
            <p:nvPr/>
          </p:nvSpPr>
          <p:spPr>
            <a:xfrm>
              <a:off x="3284640" y="5299200"/>
              <a:ext cx="1504800" cy="216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284640" y="5551560"/>
              <a:ext cx="1504800" cy="216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84640" y="5797800"/>
              <a:ext cx="1612800" cy="2156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284640" y="6050160"/>
              <a:ext cx="1676160" cy="216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284640" y="6296040"/>
              <a:ext cx="3130560" cy="216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86040" y="533088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2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84600" y="557712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2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11680" y="583092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5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68560" y="608508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7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65720" y="633888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70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3219480" y="3119400"/>
            <a:ext cx="5718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sto MT"/>
              </a:rPr>
              <a:t>Chile en el ranking de Competitividad Global (WEF)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3284640" y="3514680"/>
            <a:ext cx="1038240" cy="722160"/>
            <a:chOff x="3284640" y="3514680"/>
            <a:chExt cx="1038240" cy="722160"/>
          </a:xfrm>
        </p:grpSpPr>
        <p:sp>
          <p:nvSpPr>
            <p:cNvPr id="290" name=""/>
            <p:cNvSpPr/>
            <p:nvPr/>
          </p:nvSpPr>
          <p:spPr>
            <a:xfrm>
              <a:off x="3284640" y="3514680"/>
              <a:ext cx="350640" cy="21564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84640" y="3767040"/>
              <a:ext cx="431640" cy="21564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25760" y="354780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481200" y="380664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284640" y="4020840"/>
              <a:ext cx="984240" cy="21600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951360" y="4060440"/>
              <a:ext cx="3715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6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284640" y="4275000"/>
            <a:ext cx="1120680" cy="981000"/>
            <a:chOff x="3284640" y="4275000"/>
            <a:chExt cx="1120680" cy="981000"/>
          </a:xfrm>
        </p:grpSpPr>
        <p:sp>
          <p:nvSpPr>
            <p:cNvPr id="297" name=""/>
            <p:cNvSpPr/>
            <p:nvPr/>
          </p:nvSpPr>
          <p:spPr>
            <a:xfrm>
              <a:off x="3284640" y="4781160"/>
              <a:ext cx="1092240" cy="216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284640" y="5040000"/>
              <a:ext cx="1117440" cy="216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192560" y="482256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968"/>
                  </a:solidFill>
                  <a:latin typeface="Trebuchet MS"/>
                </a:rPr>
                <a:t>31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30720" y="507672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968"/>
                  </a:solidFill>
                  <a:latin typeface="Trebuchet MS"/>
                </a:rPr>
                <a:t>32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284640" y="4275000"/>
              <a:ext cx="1022400" cy="2156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103640" y="431460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968"/>
                  </a:solidFill>
                  <a:latin typeface="Trebuchet MS"/>
                </a:rPr>
                <a:t>28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84640" y="4528800"/>
              <a:ext cx="1060200" cy="216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141800" y="456876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968"/>
                  </a:solidFill>
                  <a:latin typeface="Trebuchet MS"/>
                </a:rPr>
                <a:t>2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5327640" y="3925800"/>
            <a:ext cx="36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En 2007 Chile ocupó la posición 27 en el ranking general de competitividad del Foro Económico Mundi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Tres brechas en Educación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7" name=""/>
          <p:cNvSpPr/>
          <p:nvPr/>
        </p:nvSpPr>
        <p:spPr>
          <a:xfrm>
            <a:off x="417600" y="1454040"/>
            <a:ext cx="8256600" cy="30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Calisto MT"/>
              </a:rPr>
              <a:t>Existe pleno consenso en Chile sobre la urgencia de una reforma profunda en la educación que permita mejorar los niveles de capital humano para responder a los desafíos que nos el futuro.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Cobertura y calidad son debilidades ampliamente reconocidas en Chile y deben ser abordadas con urgencia. 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Pero existe también una brecha de financiamiento, que se relaciona con las dos primeras. 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Tres brechas en Educación: Cobertura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480" y="1383840"/>
            <a:ext cx="85104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0800">
              <a:spcBef>
                <a:spcPts val="499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Nivel educacional promedio de nuestra fuerza de trabajo está por debajo de lo que corresponde a nuestro nivel de ingreso.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10800">
              <a:spcBef>
                <a:spcPts val="1250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Existe un fuerte déficit de cobertura en educación terciaria.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0" name=""/>
          <p:cNvSpPr/>
          <p:nvPr/>
        </p:nvSpPr>
        <p:spPr>
          <a:xfrm>
            <a:off x="1889280" y="6095880"/>
            <a:ext cx="5181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884240" y="3432240"/>
            <a:ext cx="0" cy="265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2" name=""/>
          <p:cNvSpPr/>
          <p:nvPr/>
        </p:nvSpPr>
        <p:spPr>
          <a:xfrm>
            <a:off x="2043000" y="5610240"/>
            <a:ext cx="324000" cy="4795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3" name=""/>
          <p:cNvSpPr/>
          <p:nvPr/>
        </p:nvSpPr>
        <p:spPr>
          <a:xfrm>
            <a:off x="2911320" y="5175360"/>
            <a:ext cx="324000" cy="9144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4" name=""/>
          <p:cNvSpPr/>
          <p:nvPr/>
        </p:nvSpPr>
        <p:spPr>
          <a:xfrm>
            <a:off x="3751200" y="5479920"/>
            <a:ext cx="324000" cy="6098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5" name=""/>
          <p:cNvSpPr/>
          <p:nvPr/>
        </p:nvSpPr>
        <p:spPr>
          <a:xfrm>
            <a:off x="4589640" y="5407200"/>
            <a:ext cx="323640" cy="6825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6" name=""/>
          <p:cNvSpPr/>
          <p:nvPr/>
        </p:nvSpPr>
        <p:spPr>
          <a:xfrm>
            <a:off x="5415120" y="5479920"/>
            <a:ext cx="323640" cy="6098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7" name=""/>
          <p:cNvSpPr/>
          <p:nvPr/>
        </p:nvSpPr>
        <p:spPr>
          <a:xfrm>
            <a:off x="6238800" y="5348160"/>
            <a:ext cx="324000" cy="7416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8" name=""/>
          <p:cNvSpPr/>
          <p:nvPr/>
        </p:nvSpPr>
        <p:spPr>
          <a:xfrm>
            <a:off x="2390760" y="5116680"/>
            <a:ext cx="324000" cy="9730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9" name=""/>
          <p:cNvSpPr/>
          <p:nvPr/>
        </p:nvSpPr>
        <p:spPr>
          <a:xfrm>
            <a:off x="3259080" y="4071960"/>
            <a:ext cx="324000" cy="2017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0" name=""/>
          <p:cNvSpPr/>
          <p:nvPr/>
        </p:nvSpPr>
        <p:spPr>
          <a:xfrm>
            <a:off x="4097160" y="4622760"/>
            <a:ext cx="324000" cy="1467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1" name=""/>
          <p:cNvSpPr/>
          <p:nvPr/>
        </p:nvSpPr>
        <p:spPr>
          <a:xfrm>
            <a:off x="4937040" y="4754520"/>
            <a:ext cx="324000" cy="13352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2" name=""/>
          <p:cNvSpPr/>
          <p:nvPr/>
        </p:nvSpPr>
        <p:spPr>
          <a:xfrm>
            <a:off x="5761080" y="4362480"/>
            <a:ext cx="323640" cy="1727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3" name=""/>
          <p:cNvSpPr/>
          <p:nvPr/>
        </p:nvSpPr>
        <p:spPr>
          <a:xfrm>
            <a:off x="6585120" y="4433760"/>
            <a:ext cx="323640" cy="165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4" name=""/>
          <p:cNvSpPr/>
          <p:nvPr/>
        </p:nvSpPr>
        <p:spPr>
          <a:xfrm>
            <a:off x="1778040" y="2909880"/>
            <a:ext cx="5546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Porcentaje de matrícula en educación terciaria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960560" y="3479760"/>
            <a:ext cx="1131840" cy="338040"/>
            <a:chOff x="1960560" y="3479760"/>
            <a:chExt cx="1131840" cy="338040"/>
          </a:xfrm>
        </p:grpSpPr>
        <p:sp>
          <p:nvSpPr>
            <p:cNvPr id="326" name=""/>
            <p:cNvSpPr/>
            <p:nvPr/>
          </p:nvSpPr>
          <p:spPr>
            <a:xfrm>
              <a:off x="2193840" y="3483000"/>
              <a:ext cx="290520" cy="13644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562120" y="3479760"/>
              <a:ext cx="290520" cy="1364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60560" y="3602160"/>
              <a:ext cx="1131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1991  2004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1846440" y="6172200"/>
            <a:ext cx="52243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Chile           Corea        Estonia        Irlanda       Letonia      Lituani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990800" y="5211720"/>
            <a:ext cx="4630680" cy="628920"/>
            <a:chOff x="1990800" y="5211720"/>
            <a:chExt cx="4630680" cy="628920"/>
          </a:xfrm>
        </p:grpSpPr>
        <p:sp>
          <p:nvSpPr>
            <p:cNvPr id="331" name=""/>
            <p:cNvSpPr/>
            <p:nvPr/>
          </p:nvSpPr>
          <p:spPr>
            <a:xfrm>
              <a:off x="1990800" y="560088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868480" y="521172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3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706920" y="548784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6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525920" y="544032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364000" y="549756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6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192720" y="539280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33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2344680" y="4087800"/>
            <a:ext cx="4619520" cy="1287360"/>
            <a:chOff x="2344680" y="4087800"/>
            <a:chExt cx="4619520" cy="1287360"/>
          </a:xfrm>
        </p:grpSpPr>
        <p:sp>
          <p:nvSpPr>
            <p:cNvPr id="338" name=""/>
            <p:cNvSpPr/>
            <p:nvPr/>
          </p:nvSpPr>
          <p:spPr>
            <a:xfrm>
              <a:off x="2344680" y="513540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3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192480" y="408780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8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49640" y="464976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65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869000" y="477360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5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697360" y="439272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76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35800" y="447840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73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384200" y="3321000"/>
            <a:ext cx="7336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</a:rPr>
              <a:t>%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Tres brechas en Educación: Calidad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98600" y="1444680"/>
            <a:ext cx="76881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Sólo es posible dar un gran salto en educación terciaria (técnica y universitaria) si se eleva la calidad de la educación.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7" name=""/>
          <p:cNvSpPr/>
          <p:nvPr/>
        </p:nvSpPr>
        <p:spPr>
          <a:xfrm>
            <a:off x="1335240" y="6365880"/>
            <a:ext cx="76737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Brechas similares de desempeño se observan en las pruebas de Matemáticas y Ciencias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8" name=""/>
          <p:cNvSpPr/>
          <p:nvPr/>
        </p:nvSpPr>
        <p:spPr>
          <a:xfrm>
            <a:off x="1257480" y="2597040"/>
            <a:ext cx="3987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Resultados Prueba PISA y PIB per cápita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(Comprensión Lectora)</a:t>
            </a:r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9" name=""/>
          <p:cNvSpPr/>
          <p:nvPr/>
        </p:nvSpPr>
        <p:spPr>
          <a:xfrm>
            <a:off x="1457280" y="5176800"/>
            <a:ext cx="556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0" name=""/>
          <p:cNvSpPr/>
          <p:nvPr/>
        </p:nvSpPr>
        <p:spPr>
          <a:xfrm>
            <a:off x="1444680" y="3373560"/>
            <a:ext cx="0" cy="180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984960" y="3127320"/>
            <a:ext cx="595080" cy="2095200"/>
            <a:chOff x="984960" y="3127320"/>
            <a:chExt cx="595080" cy="2095200"/>
          </a:xfrm>
        </p:grpSpPr>
        <p:sp>
          <p:nvSpPr>
            <p:cNvPr id="352" name=""/>
            <p:cNvSpPr/>
            <p:nvPr/>
          </p:nvSpPr>
          <p:spPr>
            <a:xfrm>
              <a:off x="1097280" y="500688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4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097280" y="449100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45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97280" y="395748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5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97280" y="341136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55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984960" y="3127320"/>
              <a:ext cx="595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Puntos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1412640" y="5214960"/>
            <a:ext cx="5685120" cy="215640"/>
            <a:chOff x="1412640" y="5214960"/>
            <a:chExt cx="5685120" cy="215640"/>
          </a:xfrm>
        </p:grpSpPr>
        <p:sp>
          <p:nvSpPr>
            <p:cNvPr id="358" name=""/>
            <p:cNvSpPr/>
            <p:nvPr/>
          </p:nvSpPr>
          <p:spPr>
            <a:xfrm>
              <a:off x="1412640" y="5214960"/>
              <a:ext cx="500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5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76960" y="521496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10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59640" y="521496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15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42680" y="521496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20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25360" y="521496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25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2727360" y="4732200"/>
            <a:ext cx="3301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4" name=""/>
          <p:cNvSpPr/>
          <p:nvPr/>
        </p:nvSpPr>
        <p:spPr>
          <a:xfrm>
            <a:off x="7111800" y="5083200"/>
            <a:ext cx="7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IB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er cápita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5" name=""/>
          <p:cNvSpPr/>
          <p:nvPr/>
        </p:nvSpPr>
        <p:spPr>
          <a:xfrm>
            <a:off x="3413160" y="4618080"/>
            <a:ext cx="622440" cy="228600"/>
          </a:xfrm>
          <a:prstGeom prst="borderCallout2">
            <a:avLst>
              <a:gd name="adj1" fmla="val 18750"/>
              <a:gd name="adj2" fmla="val -8333"/>
              <a:gd name="adj3" fmla="val 50000"/>
              <a:gd name="adj4" fmla="val -46939"/>
              <a:gd name="adj5" fmla="val 133333"/>
              <a:gd name="adj6" fmla="val -83671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6" name=""/>
          <p:cNvSpPr/>
          <p:nvPr/>
        </p:nvSpPr>
        <p:spPr>
          <a:xfrm>
            <a:off x="2803680" y="4951440"/>
            <a:ext cx="88920" cy="8892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2865600" y="5621400"/>
            <a:ext cx="4487760" cy="550800"/>
            <a:chOff x="2865600" y="5621400"/>
            <a:chExt cx="4487760" cy="550800"/>
          </a:xfrm>
        </p:grpSpPr>
        <p:sp>
          <p:nvSpPr>
            <p:cNvPr id="368" name=""/>
            <p:cNvSpPr/>
            <p:nvPr/>
          </p:nvSpPr>
          <p:spPr>
            <a:xfrm>
              <a:off x="2905200" y="5621400"/>
              <a:ext cx="4448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Australia 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Canadá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Corea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     Dinamarca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Finlandia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Letonia 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Nva. Zelanda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     Suecia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Tailandia 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     Tendencia promedio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08440" y="5716440"/>
              <a:ext cx="76320" cy="76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08440" y="5867280"/>
              <a:ext cx="76320" cy="7632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805360" y="5715000"/>
              <a:ext cx="76320" cy="763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05360" y="5861160"/>
              <a:ext cx="76320" cy="7596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98720" y="5715000"/>
              <a:ext cx="76320" cy="763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798720" y="5867280"/>
              <a:ext cx="76320" cy="7632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865600" y="5708520"/>
              <a:ext cx="75960" cy="7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865600" y="5861160"/>
              <a:ext cx="75960" cy="7596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865600" y="6013440"/>
              <a:ext cx="75960" cy="76320"/>
            </a:xfrm>
            <a:prstGeom prst="ellipse">
              <a:avLst/>
            </a:prstGeom>
            <a:solidFill>
              <a:srgbClr val="a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356080" y="6059520"/>
              <a:ext cx="52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1847880" y="3508200"/>
            <a:ext cx="4670280" cy="1420920"/>
            <a:chOff x="1847880" y="3508200"/>
            <a:chExt cx="4670280" cy="1420920"/>
          </a:xfrm>
        </p:grpSpPr>
        <p:sp>
          <p:nvSpPr>
            <p:cNvPr id="380" name=""/>
            <p:cNvSpPr/>
            <p:nvPr/>
          </p:nvSpPr>
          <p:spPr>
            <a:xfrm>
              <a:off x="1971720" y="4452840"/>
              <a:ext cx="76320" cy="7632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400480" y="4087800"/>
              <a:ext cx="75960" cy="7632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25880" y="3720960"/>
              <a:ext cx="76320" cy="76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494240" y="3625920"/>
              <a:ext cx="76320" cy="75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70480" y="3697200"/>
              <a:ext cx="75960" cy="7632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726080" y="3768840"/>
              <a:ext cx="75960" cy="7596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640480" y="3817800"/>
              <a:ext cx="7596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870520" y="3833640"/>
              <a:ext cx="7632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26080" y="350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816520" y="3532320"/>
              <a:ext cx="76320" cy="7596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153120" y="3639960"/>
              <a:ext cx="76320" cy="763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351480" y="3703680"/>
              <a:ext cx="76320" cy="763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386400" y="4029120"/>
              <a:ext cx="76320" cy="763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442200" y="4102200"/>
              <a:ext cx="75960" cy="759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847880" y="4749840"/>
              <a:ext cx="76320" cy="76320"/>
            </a:xfrm>
            <a:prstGeom prst="ellipse">
              <a:avLst/>
            </a:prstGeom>
            <a:solidFill>
              <a:srgbClr val="a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063880" y="4853160"/>
              <a:ext cx="75960" cy="75960"/>
            </a:xfrm>
            <a:prstGeom prst="ellipse">
              <a:avLst/>
            </a:prstGeom>
            <a:solidFill>
              <a:srgbClr val="a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96" name=""/>
          <p:cNvSpPr/>
          <p:nvPr/>
        </p:nvSpPr>
        <p:spPr>
          <a:xfrm flipV="1">
            <a:off x="1909800" y="3665160"/>
            <a:ext cx="4572000" cy="80316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Tres brechas en Educación: Gasto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90680" y="1459080"/>
            <a:ext cx="4703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¿Estamos gastando lo suficiente?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9" name=""/>
          <p:cNvSpPr/>
          <p:nvPr/>
        </p:nvSpPr>
        <p:spPr>
          <a:xfrm>
            <a:off x="1638360" y="5438880"/>
            <a:ext cx="5686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0" name=""/>
          <p:cNvSpPr/>
          <p:nvPr/>
        </p:nvSpPr>
        <p:spPr>
          <a:xfrm>
            <a:off x="1638360" y="3622680"/>
            <a:ext cx="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1" name=""/>
          <p:cNvSpPr/>
          <p:nvPr/>
        </p:nvSpPr>
        <p:spPr>
          <a:xfrm>
            <a:off x="1426320" y="5192640"/>
            <a:ext cx="2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2" name=""/>
          <p:cNvSpPr/>
          <p:nvPr/>
        </p:nvSpPr>
        <p:spPr>
          <a:xfrm>
            <a:off x="1357200" y="4714920"/>
            <a:ext cx="3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3" name=""/>
          <p:cNvSpPr/>
          <p:nvPr/>
        </p:nvSpPr>
        <p:spPr>
          <a:xfrm>
            <a:off x="1357200" y="4232160"/>
            <a:ext cx="3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4" name=""/>
          <p:cNvSpPr/>
          <p:nvPr/>
        </p:nvSpPr>
        <p:spPr>
          <a:xfrm>
            <a:off x="1357200" y="3762360"/>
            <a:ext cx="3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5" name=""/>
          <p:cNvSpPr/>
          <p:nvPr/>
        </p:nvSpPr>
        <p:spPr>
          <a:xfrm>
            <a:off x="539640" y="3649680"/>
            <a:ext cx="77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% del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Ingreso 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er cápita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6" name=""/>
          <p:cNvSpPr/>
          <p:nvPr/>
        </p:nvSpPr>
        <p:spPr>
          <a:xfrm>
            <a:off x="1896480" y="5519880"/>
            <a:ext cx="2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7" name=""/>
          <p:cNvSpPr/>
          <p:nvPr/>
        </p:nvSpPr>
        <p:spPr>
          <a:xfrm>
            <a:off x="3313080" y="5519880"/>
            <a:ext cx="50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5.00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8" name=""/>
          <p:cNvSpPr/>
          <p:nvPr/>
        </p:nvSpPr>
        <p:spPr>
          <a:xfrm>
            <a:off x="4983480" y="5519880"/>
            <a:ext cx="57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0.00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9" name=""/>
          <p:cNvSpPr/>
          <p:nvPr/>
        </p:nvSpPr>
        <p:spPr>
          <a:xfrm>
            <a:off x="6812280" y="5519880"/>
            <a:ext cx="57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5.00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0" name=""/>
          <p:cNvSpPr/>
          <p:nvPr/>
        </p:nvSpPr>
        <p:spPr>
          <a:xfrm>
            <a:off x="7407360" y="5372280"/>
            <a:ext cx="7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IB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er cápita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1" name=""/>
          <p:cNvSpPr/>
          <p:nvPr/>
        </p:nvSpPr>
        <p:spPr>
          <a:xfrm>
            <a:off x="1474200" y="2932200"/>
            <a:ext cx="5293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Gasto público en educación por habitante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en edad escolar (% del PIB per cápita) y PIB per cápita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3056040" y="5942160"/>
            <a:ext cx="4487760" cy="550800"/>
            <a:chOff x="3056040" y="5942160"/>
            <a:chExt cx="4487760" cy="550800"/>
          </a:xfrm>
        </p:grpSpPr>
        <p:sp>
          <p:nvSpPr>
            <p:cNvPr id="413" name=""/>
            <p:cNvSpPr/>
            <p:nvPr/>
          </p:nvSpPr>
          <p:spPr>
            <a:xfrm>
              <a:off x="3095640" y="5942160"/>
              <a:ext cx="4448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China 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Corea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Estonia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     India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Letonia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Lituania 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Malasia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     Tailandia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Tendencia promedio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898880" y="6037200"/>
              <a:ext cx="76320" cy="7632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898880" y="6188040"/>
              <a:ext cx="76320" cy="76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996160" y="6035760"/>
              <a:ext cx="75960" cy="7596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96160" y="6181560"/>
              <a:ext cx="75960" cy="7632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989520" y="6035760"/>
              <a:ext cx="75960" cy="759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989520" y="6188040"/>
              <a:ext cx="75960" cy="763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056040" y="6029280"/>
              <a:ext cx="75960" cy="7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056040" y="6181560"/>
              <a:ext cx="7596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546880" y="6380280"/>
              <a:ext cx="52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4137120" y="4545000"/>
            <a:ext cx="2450880" cy="836640"/>
            <a:chOff x="4137120" y="4545000"/>
            <a:chExt cx="2450880" cy="836640"/>
          </a:xfrm>
        </p:grpSpPr>
        <p:sp>
          <p:nvSpPr>
            <p:cNvPr id="424" name=""/>
            <p:cNvSpPr/>
            <p:nvPr/>
          </p:nvSpPr>
          <p:spPr>
            <a:xfrm flipV="1">
              <a:off x="4168800" y="4854600"/>
              <a:ext cx="1155600" cy="3938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137120" y="521028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030640" y="489744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291280" y="480204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386320" y="4840200"/>
              <a:ext cx="4510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rebuchet MS"/>
                </a:rPr>
                <a:t>2002</a:t>
              </a:r>
              <a:endParaRPr b="0" lang="en-US" sz="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965920" y="4545000"/>
              <a:ext cx="622080" cy="228600"/>
            </a:xfrm>
            <a:prstGeom prst="borderCallout2">
              <a:avLst>
                <a:gd name="adj1" fmla="val 18750"/>
                <a:gd name="adj2" fmla="val -8333"/>
                <a:gd name="adj3" fmla="val 50000"/>
                <a:gd name="adj4" fmla="val -51787"/>
                <a:gd name="adj5" fmla="val 111111"/>
                <a:gd name="adj6" fmla="val -93879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Chile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264200" y="5235480"/>
              <a:ext cx="3171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rebuchet MS"/>
                </a:rPr>
                <a:t>1991</a:t>
              </a:r>
              <a:endParaRPr b="0" lang="en-US" sz="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431" name="">
            <a:hlinkClick r:id="rId2" action="ppaction://hlinksldjump"/>
          </p:cNvPr>
          <p:cNvSpPr/>
          <p:nvPr/>
        </p:nvSpPr>
        <p:spPr>
          <a:xfrm>
            <a:off x="235080" y="7256520"/>
            <a:ext cx="276120" cy="276120"/>
          </a:xfrm>
          <a:custGeom>
            <a:avLst/>
            <a:gdLst>
              <a:gd name="textAreaLeft" fmla="*/ 17640 w 276120"/>
              <a:gd name="textAreaRight" fmla="*/ 258480 w 276120"/>
              <a:gd name="textAreaTop" fmla="*/ 17640 h 276120"/>
              <a:gd name="textAreaBottom" fmla="*/ 258480 h 2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a0e2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2293920" y="4118040"/>
            <a:ext cx="4889520" cy="96984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2276640" y="3922560"/>
            <a:ext cx="4986000" cy="1444680"/>
            <a:chOff x="2276640" y="3922560"/>
            <a:chExt cx="4986000" cy="1444680"/>
          </a:xfrm>
        </p:grpSpPr>
        <p:sp>
          <p:nvSpPr>
            <p:cNvPr id="434" name=""/>
            <p:cNvSpPr/>
            <p:nvPr/>
          </p:nvSpPr>
          <p:spPr>
            <a:xfrm>
              <a:off x="7186680" y="4668840"/>
              <a:ext cx="75960" cy="763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2276640" y="3922560"/>
              <a:ext cx="3781440" cy="1444680"/>
              <a:chOff x="2276640" y="3922560"/>
              <a:chExt cx="3781440" cy="1444680"/>
            </a:xfrm>
          </p:grpSpPr>
          <p:sp>
            <p:nvSpPr>
              <p:cNvPr id="436" name=""/>
              <p:cNvSpPr/>
              <p:nvPr/>
            </p:nvSpPr>
            <p:spPr>
              <a:xfrm>
                <a:off x="2276640" y="5105520"/>
                <a:ext cx="75960" cy="75960"/>
              </a:xfrm>
              <a:prstGeom prst="ellipse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514600" y="4962600"/>
                <a:ext cx="76320" cy="75960"/>
              </a:xfrm>
              <a:prstGeom prst="ellipse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268880" y="4033800"/>
                <a:ext cx="75960" cy="76320"/>
              </a:xfrm>
              <a:prstGeom prst="ellipse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626000" y="4305240"/>
                <a:ext cx="76320" cy="76320"/>
              </a:xfrm>
              <a:prstGeom prst="ellipse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551480" y="4432320"/>
                <a:ext cx="75960" cy="76320"/>
              </a:xfrm>
              <a:prstGeom prst="ellipse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691080" y="4844880"/>
                <a:ext cx="75960" cy="76320"/>
              </a:xfrm>
              <a:prstGeom prst="ellipse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467080" y="5291280"/>
                <a:ext cx="75960" cy="7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133800" y="5203800"/>
                <a:ext cx="75960" cy="76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869000" y="4608360"/>
                <a:ext cx="75960" cy="76320"/>
              </a:xfrm>
              <a:prstGeom prst="ellips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513320" y="4019400"/>
                <a:ext cx="76320" cy="76320"/>
              </a:xfrm>
              <a:prstGeom prst="ellips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981760" y="3922560"/>
                <a:ext cx="76320" cy="7632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08200" y="5141880"/>
                <a:ext cx="76320" cy="76320"/>
              </a:xfrm>
              <a:prstGeom prst="ellips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097160" y="4608360"/>
                <a:ext cx="76320" cy="76320"/>
              </a:xfrm>
              <a:prstGeom prst="ellips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449" name=""/>
          <p:cNvSpPr/>
          <p:nvPr/>
        </p:nvSpPr>
        <p:spPr>
          <a:xfrm>
            <a:off x="722160" y="1924200"/>
            <a:ext cx="825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Las cifras de gasto total o gasto por estudiante pueden ser engañosas..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9:33:31Z</dcterms:created>
  <dc:creator>Informática</dc:creator>
  <dc:description/>
  <dc:language>en-US</dc:language>
  <cp:lastModifiedBy>alumno</cp:lastModifiedBy>
  <dcterms:modified xsi:type="dcterms:W3CDTF">2008-05-16T19:56:00Z</dcterms:modified>
  <cp:revision>40</cp:revision>
  <dc:subject/>
  <dc:title>El Capital Humano en la  Estrategia de Innovación de Chile</dc:title>
</cp:coreProperties>
</file>