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0DA8-B3BA-437F-A5CB-5AA5908A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B11-6915-45C5-98BA-0CC2FA2B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872-302A-4BF4-A26C-0F1B12CD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6918-8151-4661-8CF9-48753E14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DFDB-376F-4321-B107-13712C7A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DA9B-89A8-4244-92DB-37C3C4FB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F8C6-ACFE-40D1-AF4C-1DF07992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EBF9-1975-4577-AA06-4A1A8D4C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2F2C-E3A6-46D5-A029-6D847417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8B45-94FE-4767-B5FD-D2A98854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C276-4F30-4FBE-944C-6E1854DD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4C37-0911-40EB-9EA1-1B84D3B2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A155-53A7-4581-B850-1688BCE6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7F63-B14B-48DF-8DF5-02BE6C02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3709-D191-4972-ADBD-95F1E160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65D5-DC64-44C4-979F-7D7DAC8F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57C0-D831-4F95-B0A4-3EF084E2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56830-B825-4CA2-A25C-5B91DCB6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419AA-DF70-4079-805A-14BBFEFE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86A62-60CC-4262-B2AC-D4A10B46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A74AB-9404-4E53-9737-B6DE8080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122B5-ADE0-4A8A-BB76-EF37457E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BB8C-89C8-4F53-A99C-9432094B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0A4D3-2097-40C7-BD97-1E1850DD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D7B5F-631E-4240-972A-907D7CFE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E1D13-B1F7-48AD-9301-3669D6F0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240EC-8E71-429E-834D-0B1F06D7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53113-0785-4861-8C8A-066F8960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B857D-69F7-436D-A3BB-4A2A452F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8664A-A79A-4E9F-888B-77B1655D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EB181-0DB6-4D01-BD5E-2FAF1E7A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DB1FB-24A3-4318-AE44-0539B27F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25881-4A12-41F2-863B-84950E27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F7DC-5E8F-43B9-97FD-CA3B2E2D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DF43A-4544-4771-980D-5ECAF39A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A3CD4-EDB3-49A9-891C-ABEB1C04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84ACF-0BA5-41FF-A442-7802DA91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05334-3753-42EB-B707-2EBE76F4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01A96-226B-4058-B98D-4016671D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A96C3-D97B-475A-8423-2F48C284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9BA06-34B8-446B-82CC-383C8E30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849D5-E19C-4532-8FAD-71C0030C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668B2-FF5F-4C2B-A23D-382B5822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1D5C4-7581-428D-9FAE-99B51822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0D7A-EB10-4891-AA11-73E57D92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0588D-E7F8-4D2C-81FC-1473B3B8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2C7E6-1266-4D0E-97E0-5ED7A2BE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59812-5A56-4039-A0A2-AC8278B8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9A6E0-061A-425B-866E-EACB7841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06DCE-C6A0-416C-BF3E-1049EC67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F548B-6AD0-445B-BD65-8E8CDF61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85C0C-6257-4B28-A5C1-FC05776F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C18CC-D57F-4E0B-8971-B05D3945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830EE-A854-4F97-9802-10B0E8D7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F24FA-B2DA-4299-AE1F-B897FBF7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F973-EA50-4946-85EA-39E888A6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D2102-0D38-4810-ADC6-9CC5F780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32E94-F946-413F-89ED-65017C9C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80528-B5B8-44DF-BD86-BB145938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5BBEF-1B62-402A-9D00-1FEF2255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5434F-6A81-44F8-BF5B-400C3CD5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1F1DA-667D-4896-83D8-089636C5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58A76-4C1D-4DD5-8AD1-54327F2D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2A7EC-D764-4614-BF7A-3C8B75FC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6E28C-90A8-4A34-A7FE-DB2E2CDF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E76FB-9C10-4971-8CBA-01F73867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257-37BA-4AAE-9BD2-1C292E12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086C1-65CC-41E6-B0E8-E5A2741D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BFA7B-9EBE-426D-AE5D-22B7B3A1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F0368-A9FD-4B07-BD69-DD3E2D78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7BFF-0DCF-492F-B9B2-1CFB2266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5EE5-D16E-4767-8AF5-C697CA2C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D168-90F6-40AA-9A67-C1921C4F3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DB98-712A-4B9E-8075-8DC18029A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A8A9-20AE-47D1-8BE9-C76FC6B38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BF89-9F7E-4779-A654-EBFB0D502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743040" indent="-28584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2" marL="11430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3" marL="16002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4" marL="20574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FB8F-EF46-49C8-9421-51C275ED6C29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040" y="414972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D0F5-0C2F-4EB5-938A-745E8DF6E5BF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sto MT"/>
            </a:endParaRPr>
          </a:p>
          <a:p>
            <a:pPr lvl="2" marL="914400" algn="ctr">
              <a:spcBef>
                <a:spcPts val="601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4" marL="18288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6040" y="446400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l Capital Humano en la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strategia de Innovación de Chile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78920" y="5587920"/>
            <a:ext cx="88362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Nicolás Eyzaguirre G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La Estrategia de Innov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1" name=""/>
          <p:cNvSpPr/>
          <p:nvPr/>
        </p:nvSpPr>
        <p:spPr>
          <a:xfrm>
            <a:off x="420840" y="2568600"/>
            <a:ext cx="850716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form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de aprendizaje para toda la vida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,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El fortalecimiento de un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plataforma de generación, difusión y aplicación del conocimiento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que se funde en un esfuerzo permanente y robusto de investigación científica y tecnológica coherente con los problemas productivos y sociale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solid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empresarial innovador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orientado a la creación de valor como estrategia de competencia en los mercados globale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2" name=""/>
          <p:cNvSpPr/>
          <p:nvPr/>
        </p:nvSpPr>
        <p:spPr>
          <a:xfrm>
            <a:off x="325440" y="1459080"/>
            <a:ext cx="73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Estrategia elaborada por el Consejo de Innovación se funda en tres pilares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4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s grandes orientaciones del Volumen 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5" name=""/>
          <p:cNvSpPr/>
          <p:nvPr/>
        </p:nvSpPr>
        <p:spPr>
          <a:xfrm>
            <a:off x="482760" y="2049480"/>
            <a:ext cx="824040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vertir en nuestro capital humano es invertir tanto en competitividad como en equidad: fallas de mercado justifican el apoyo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innovación requiere de cambios culturales a nivel de individuos e instituciones (cultura organizacional y sector público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 requiere un gran salto en educación terciari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sgo a favor de la educación técn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o del Estado con foco en la demanda (estudiantes): créditos y bec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xigencia de calidad de la oferta es requisito para cualquier aporte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mación técnica y capacitación van de la mano: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Necesidad de formar masas críticas de capital humano especializado: conocimiento tácit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l tiempo importa: esfuerzo especial de selectividad para responder a requerimientos de sectores con potenc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8" name=""/>
          <p:cNvSpPr/>
          <p:nvPr/>
        </p:nvSpPr>
        <p:spPr>
          <a:xfrm>
            <a:off x="436680" y="2068560"/>
            <a:ext cx="854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formar un sistema de aprendizaje para toda la vida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9" name=""/>
          <p:cNvSpPr/>
          <p:nvPr/>
        </p:nvSpPr>
        <p:spPr>
          <a:xfrm>
            <a:off x="148608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0" name=""/>
          <p:cNvSpPr/>
          <p:nvPr/>
        </p:nvSpPr>
        <p:spPr>
          <a:xfrm>
            <a:off x="361332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1" name=""/>
          <p:cNvSpPr/>
          <p:nvPr/>
        </p:nvSpPr>
        <p:spPr>
          <a:xfrm>
            <a:off x="574056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2" name=""/>
          <p:cNvSpPr/>
          <p:nvPr/>
        </p:nvSpPr>
        <p:spPr>
          <a:xfrm>
            <a:off x="1298520" y="3478320"/>
            <a:ext cx="65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Tres grandes líneas de acción en el capítulo de Capital Humano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3" name=""/>
          <p:cNvSpPr/>
          <p:nvPr/>
        </p:nvSpPr>
        <p:spPr>
          <a:xfrm>
            <a:off x="2263680" y="4989600"/>
            <a:ext cx="58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Ciencia                                             Innovación Empresarial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4" name=""/>
          <p:cNvSpPr/>
          <p:nvPr/>
        </p:nvSpPr>
        <p:spPr>
          <a:xfrm>
            <a:off x="1793880" y="540396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5" name=""/>
          <p:cNvSpPr/>
          <p:nvPr/>
        </p:nvSpPr>
        <p:spPr>
          <a:xfrm>
            <a:off x="4441680" y="5416560"/>
            <a:ext cx="187992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6" name=""/>
          <p:cNvSpPr/>
          <p:nvPr/>
        </p:nvSpPr>
        <p:spPr>
          <a:xfrm>
            <a:off x="1293840" y="4761000"/>
            <a:ext cx="65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7" name=""/>
          <p:cNvSpPr/>
          <p:nvPr/>
        </p:nvSpPr>
        <p:spPr>
          <a:xfrm>
            <a:off x="6477120" y="5410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1" name=""/>
          <p:cNvSpPr/>
          <p:nvPr/>
        </p:nvSpPr>
        <p:spPr>
          <a:xfrm>
            <a:off x="322200" y="2897280"/>
            <a:ext cx="8526600" cy="34257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solidar mecanismos de articulación: entre niveles de formación y capacitación, y entre éstas y el mercado laboral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istema de certificación de competencias laborales (con participación del mundo productivo en la definición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rmonizar procesos formativos para dar más flexibilidad al sistema y asegurar competencia entre oferentes de formación. (Ej. Créditos transferibles)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conocimiento del aprendizaje obtenido en instancias no formales (mejora la empleabilidad de los trabajadores y ayuda al proceso de formación continua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3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4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"/>
          <p:cNvSpPr/>
          <p:nvPr/>
        </p:nvSpPr>
        <p:spPr>
          <a:xfrm>
            <a:off x="328680" y="2903400"/>
            <a:ext cx="8513640" cy="2965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la calidad y pertinencia de la formación y la capacitación a través de modelos de evaluación que apunten a la medición de resultad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la acreditación de la oferta de pre y post grad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mplementar la acreditación de la formación y capacitación técnicas sobre la base del sistema de certificación de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sistemas de información para orientar y retroalimentar a los actores del sistem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8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9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umentar cobertura con foco en el apoyo a la formación terciaria de jóvenes de menores ingresos (en especial técnicos) y en la capacitación de trabajadores de las empresas de menor tamaño relativo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onsolidar el actual sistema de Crédito con Aval del Estado como el principal sistema de financiamiento para la formación técnica y profesion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erfeccionar cobranza y focalización del Crédito Universitario Solidario y perfeccionar el crédito Corfo (foco en educación continua y postgrados profesionale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otenciar becas (aranceles y mantención) para quintiles más pobres, ajustando monto de los beneficios (costo de oportunidad y costos de las carrera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orientar el apoyo público a la capacitación de acuerdo a las necesidades de los trabajadores, y focalizar la franquicia Sence en pequeñ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1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Cienci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2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3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una dotación de científicos capaz de abordar los desafío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umentar aporte público para becas de postgrado (con foco en formación de investigadores), elevando el valor de las becas nacionales e internacionales, exigiendo calidad a la oferta de formación y estimulando la graduación en menos tiemp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stimular y fortalecer la oferta de programas de doctorado nacionales con orientación estratég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incorporación de investigadores nuevos al sistema y la reinserción tanto en la academia como en las empresas de los nuevos doctor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traer investigadores formados en el extranjero para cubrir brechas coyunturales en áreas prioritari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5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6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7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corporar capital humano para la gestión de la innovación y para el desarrollo de I+D en l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Poner en marcha un programa de formación en habilidades de gestión de la innovación a través de créditos con garantía estatal u otras formas de apoyo pertinente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Apoyar con recursos públicos la inserción en las empresas de personal especializado en la gestión de la innovación y en el desarrollo de la I+D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formación de capital humano especializado en Propiedad Intelectu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Desarrollar un sistema de garantías estatales para créditos para financiar la adquisición de activos intangibles, especialmente en empresas de menor tamañ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1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El capital humano como plataforma transversal en los sectores prioritari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gran demanda que emerge es disponer de competencias específicas en la fuerza laboral para cada sector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s hojas de ruta de los ocho clusters estudiados por el Consejo consideran necesidades de los sectores tanto en formación profesional como técnica. Ej. habilidades en inglés para offshoring; técnicos para fruticultura y turismo; técnicos y profesionales (investigadores) para acuicultur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os sectores productivos demandan sistemas de certificación que señalicen en quiénes existen las competencias requeridas y faciliten así la relación entre oferentes y demandantes en el mercado labor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n síntesis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3" name=""/>
          <p:cNvSpPr/>
          <p:nvPr/>
        </p:nvSpPr>
        <p:spPr>
          <a:xfrm>
            <a:off x="297000" y="1433520"/>
            <a:ext cx="854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problema de la innovación es sistémico y es necesario integrar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4" name=""/>
          <p:cNvSpPr/>
          <p:nvPr/>
        </p:nvSpPr>
        <p:spPr>
          <a:xfrm>
            <a:off x="1268280" y="3205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5" name=""/>
          <p:cNvSpPr/>
          <p:nvPr/>
        </p:nvSpPr>
        <p:spPr>
          <a:xfrm>
            <a:off x="272880" y="4770360"/>
            <a:ext cx="4299120" cy="17924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personas con educación terciaria, en especial de técnic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Más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trabajadores capacitad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6" name=""/>
          <p:cNvSpPr/>
          <p:nvPr/>
        </p:nvSpPr>
        <p:spPr>
          <a:xfrm>
            <a:off x="5014800" y="4770360"/>
            <a:ext cx="4299120" cy="21700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Demandas específicas de los  sector productiv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Participación de los privados en la definición de perfiles de competencia labora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7" name=""/>
          <p:cNvSpPr/>
          <p:nvPr/>
        </p:nvSpPr>
        <p:spPr>
          <a:xfrm>
            <a:off x="5994360" y="320364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8" name=""/>
          <p:cNvSpPr/>
          <p:nvPr/>
        </p:nvSpPr>
        <p:spPr>
          <a:xfrm>
            <a:off x="3294000" y="3147840"/>
            <a:ext cx="2554200" cy="914400"/>
          </a:xfrm>
          <a:prstGeom prst="leftRightArrow">
            <a:avLst>
              <a:gd name="adj1" fmla="val 84722"/>
              <a:gd name="adj2" fmla="val 55905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Humano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90520" y="1227240"/>
            <a:ext cx="129384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57160" y="2198520"/>
            <a:ext cx="7398000" cy="32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En la era de la competencia y del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progreso tecnológico, la clave de la prosperidad vendrá de una fuerza de trabajo creativa, calificada, que sabe producir ideas, bienes y servicios intensivos en conocimiento, empleada en empresas capaces de innovar, de adoptar las tecnologías más modernas y de vender en el mundo entero bienes y servicios perfeccionados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8" name=""/>
          <p:cNvSpPr/>
          <p:nvPr/>
        </p:nvSpPr>
        <p:spPr>
          <a:xfrm rot="10800000">
            <a:off x="5862600" y="3087000"/>
            <a:ext cx="194472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9" name=""/>
          <p:cNvSpPr/>
          <p:nvPr/>
        </p:nvSpPr>
        <p:spPr>
          <a:xfrm>
            <a:off x="2259000" y="5977080"/>
            <a:ext cx="67453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 algn="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alisto MT"/>
              </a:rPr>
              <a:t>Ángel Gurría</a:t>
            </a:r>
            <a:r>
              <a:rPr b="0" i="1" lang="es-ES" sz="2200" spc="-1" strike="noStrike">
                <a:solidFill>
                  <a:srgbClr val="000000"/>
                </a:solidFill>
                <a:latin typeface="Calisto MT"/>
              </a:rPr>
              <a:t>, secretario general de la OCDE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3240" indent="-32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listo MT"/>
              </a:rPr>
              <a:t>mayo de 2007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0" name=""/>
          <p:cNvSpPr/>
          <p:nvPr/>
        </p:nvSpPr>
        <p:spPr>
          <a:xfrm>
            <a:off x="2935440" y="6012000"/>
            <a:ext cx="6002280" cy="0"/>
          </a:xfrm>
          <a:prstGeom prst="line">
            <a:avLst/>
          </a:prstGeom>
          <a:ln cap="sq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sto MT"/>
              </a:rPr>
              <a:t>Consenso global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Dos tendencias marcan el futur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4280" y="1541160"/>
            <a:ext cx="8628120" cy="30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avance insoslayable de la globalización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mercados para exportaciones y nuevos bienes para consumo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competidores en mercados ya conquistados</a:t>
            </a: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184320" indent="-184320">
              <a:spcBef>
                <a:spcPts val="180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calidad d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apital humano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, 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onocimiento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y la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innovación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on los nuevos motores de la competitividad y el desarrollo.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hile requiere más “inspiración”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5" name=""/>
          <p:cNvSpPr/>
          <p:nvPr/>
        </p:nvSpPr>
        <p:spPr>
          <a:xfrm>
            <a:off x="1077840" y="3848040"/>
            <a:ext cx="2413080" cy="2705040"/>
          </a:xfrm>
          <a:prstGeom prst="rect">
            <a:avLst/>
          </a:prstGeom>
          <a:gradFill rotWithShape="0">
            <a:gsLst>
              <a:gs pos="0">
                <a:srgbClr val="dddddd">
                  <a:alpha val="20000"/>
                </a:srgbClr>
              </a:gs>
              <a:gs pos="100000">
                <a:srgbClr val="0019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6" name=""/>
          <p:cNvSpPr/>
          <p:nvPr/>
        </p:nvSpPr>
        <p:spPr>
          <a:xfrm>
            <a:off x="121752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"/>
          <p:cNvSpPr/>
          <p:nvPr/>
        </p:nvSpPr>
        <p:spPr>
          <a:xfrm>
            <a:off x="267804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8" name=""/>
          <p:cNvSpPr/>
          <p:nvPr/>
        </p:nvSpPr>
        <p:spPr>
          <a:xfrm>
            <a:off x="907920" y="3338640"/>
            <a:ext cx="4294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Aporte de la PTF al crecimiento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9" name=""/>
          <p:cNvSpPr/>
          <p:nvPr/>
        </p:nvSpPr>
        <p:spPr>
          <a:xfrm>
            <a:off x="1166760" y="610884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HILE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0" name=""/>
          <p:cNvSpPr/>
          <p:nvPr/>
        </p:nvSpPr>
        <p:spPr>
          <a:xfrm>
            <a:off x="2589120" y="6108840"/>
            <a:ext cx="88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Otros países*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1" name=""/>
          <p:cNvSpPr/>
          <p:nvPr/>
        </p:nvSpPr>
        <p:spPr>
          <a:xfrm>
            <a:off x="1077840" y="3822840"/>
            <a:ext cx="241308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2" name=""/>
          <p:cNvSpPr/>
          <p:nvPr/>
        </p:nvSpPr>
        <p:spPr>
          <a:xfrm>
            <a:off x="1065240" y="6591240"/>
            <a:ext cx="241308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3" name=""/>
          <p:cNvSpPr/>
          <p:nvPr/>
        </p:nvSpPr>
        <p:spPr>
          <a:xfrm>
            <a:off x="3648240" y="6381720"/>
            <a:ext cx="47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* Bálticos, Europa del Este y países de rápido crecimiento de Asia.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17520" y="5041800"/>
            <a:ext cx="2179440" cy="1087560"/>
            <a:chOff x="1217520" y="5041800"/>
            <a:chExt cx="2179440" cy="1087560"/>
          </a:xfrm>
        </p:grpSpPr>
        <p:sp>
          <p:nvSpPr>
            <p:cNvPr id="265" name=""/>
            <p:cNvSpPr/>
            <p:nvPr/>
          </p:nvSpPr>
          <p:spPr>
            <a:xfrm>
              <a:off x="1217520" y="5626080"/>
              <a:ext cx="718920" cy="503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78040" y="5041800"/>
              <a:ext cx="718920" cy="107964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672000" y="4626000"/>
            <a:ext cx="4925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Según estimaciones de la Economist Intelligence Unit, la PTF explicaría menos de un cuarto del crecimiento proyectado para Chile para el período 2007-2011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En países competidores, el aporte de la PTF explicaría entre el 30% y 50% del crecimiento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8" name=""/>
          <p:cNvSpPr/>
          <p:nvPr/>
        </p:nvSpPr>
        <p:spPr>
          <a:xfrm>
            <a:off x="474840" y="1468440"/>
            <a:ext cx="84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l crecimiento de la PTF depende de muchos factores, pero, por sobre todo, de la dinámica y diseminación del conocimiento, del cambio tecnológico, de las capacidades y el esfuerzo de las personas y de la innovación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Brechas que condicionan el crecimien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0" name=""/>
          <p:cNvSpPr/>
          <p:nvPr/>
        </p:nvSpPr>
        <p:spPr>
          <a:xfrm>
            <a:off x="474840" y="1582560"/>
            <a:ext cx="846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Más allá del buen desempeño macroeconómico o el buen nivel de las instituciones y los mercados, Chile muestra importantes debilidades en las áreas claves para el crecimiento de la PTF: educación, innovación, infraestructura y preparación tecnológica</a:t>
            </a: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1" name=""/>
          <p:cNvSpPr/>
          <p:nvPr/>
        </p:nvSpPr>
        <p:spPr>
          <a:xfrm>
            <a:off x="3252960" y="6562800"/>
            <a:ext cx="344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246480" y="3450960"/>
            <a:ext cx="0" cy="310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3" name=""/>
          <p:cNvSpPr/>
          <p:nvPr/>
        </p:nvSpPr>
        <p:spPr>
          <a:xfrm>
            <a:off x="5081760" y="6620040"/>
            <a:ext cx="153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osición en el ranking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4" name=""/>
          <p:cNvSpPr/>
          <p:nvPr/>
        </p:nvSpPr>
        <p:spPr>
          <a:xfrm>
            <a:off x="3195000" y="657072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5" name=""/>
          <p:cNvSpPr/>
          <p:nvPr/>
        </p:nvSpPr>
        <p:spPr>
          <a:xfrm>
            <a:off x="6416640" y="65707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6" name=""/>
          <p:cNvSpPr/>
          <p:nvPr/>
        </p:nvSpPr>
        <p:spPr>
          <a:xfrm>
            <a:off x="994680" y="3486240"/>
            <a:ext cx="2268720" cy="31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Macroeconomí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Trabaj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Mdo. Financier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Bie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stitucio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fraestructur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de negocio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d. Superior y Capacit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Preparación tecnológic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nov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Tamaño del mercad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alud y Ed. Primar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284640" y="5299200"/>
            <a:ext cx="3130560" cy="1212840"/>
            <a:chOff x="3284640" y="5299200"/>
            <a:chExt cx="3130560" cy="1212840"/>
          </a:xfrm>
        </p:grpSpPr>
        <p:sp>
          <p:nvSpPr>
            <p:cNvPr id="278" name=""/>
            <p:cNvSpPr/>
            <p:nvPr/>
          </p:nvSpPr>
          <p:spPr>
            <a:xfrm>
              <a:off x="3284640" y="529920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84640" y="555156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84640" y="5797800"/>
              <a:ext cx="1612800" cy="2156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84640" y="6050160"/>
              <a:ext cx="16761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84640" y="6296040"/>
              <a:ext cx="31305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6040" y="5330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84600" y="55771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11680" y="58309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68560" y="60850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7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65720" y="6338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219480" y="3119400"/>
            <a:ext cx="5718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Chile en el ranking de Competitividad Global (WEF)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284640" y="3514680"/>
            <a:ext cx="1038240" cy="722160"/>
            <a:chOff x="3284640" y="3514680"/>
            <a:chExt cx="1038240" cy="722160"/>
          </a:xfrm>
        </p:grpSpPr>
        <p:sp>
          <p:nvSpPr>
            <p:cNvPr id="290" name=""/>
            <p:cNvSpPr/>
            <p:nvPr/>
          </p:nvSpPr>
          <p:spPr>
            <a:xfrm>
              <a:off x="3284640" y="3514680"/>
              <a:ext cx="350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84640" y="3767040"/>
              <a:ext cx="431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25760" y="35478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81200" y="380664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84640" y="4020840"/>
              <a:ext cx="984240" cy="21600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51360" y="4060440"/>
              <a:ext cx="371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284640" y="4275000"/>
            <a:ext cx="1120680" cy="981000"/>
            <a:chOff x="3284640" y="4275000"/>
            <a:chExt cx="1120680" cy="981000"/>
          </a:xfrm>
        </p:grpSpPr>
        <p:sp>
          <p:nvSpPr>
            <p:cNvPr id="297" name=""/>
            <p:cNvSpPr/>
            <p:nvPr/>
          </p:nvSpPr>
          <p:spPr>
            <a:xfrm>
              <a:off x="3284640" y="4781160"/>
              <a:ext cx="10922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84640" y="5040000"/>
              <a:ext cx="11174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2560" y="48225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30720" y="50767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84640" y="4275000"/>
              <a:ext cx="1022400" cy="215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03640" y="43146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84640" y="4528800"/>
              <a:ext cx="106020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41800" y="45687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327640" y="3925800"/>
            <a:ext cx="36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n 2007 Chile ocupó la posición 27 en el ranking general de competitividad del Foro Económico Mund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7" name=""/>
          <p:cNvSpPr/>
          <p:nvPr/>
        </p:nvSpPr>
        <p:spPr>
          <a:xfrm>
            <a:off x="417600" y="1454040"/>
            <a:ext cx="8256600" cy="30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xiste pleno consenso en Chile sobre la urgencia de una reforma profunda en la educación que permita mejorar los niveles de capital humano para responder a los desafíos que nos el futuro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Cobertura y calidad son debilidades ampliamente reconocidas en Chile y deben ser abordadas con urgencia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Pero existe también una brecha de financiamiento, que se relaciona con las dos primeras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obertura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480" y="1383840"/>
            <a:ext cx="8510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Nivel educacional promedio de nuestra fuerza de trabajo está por debajo de lo que corresponde a nuestro nivel de ingreso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10800">
              <a:spcBef>
                <a:spcPts val="125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Existe un fuerte déficit de cobertura en educación terciaria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0" name=""/>
          <p:cNvSpPr/>
          <p:nvPr/>
        </p:nvSpPr>
        <p:spPr>
          <a:xfrm>
            <a:off x="1889280" y="6095880"/>
            <a:ext cx="5181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884240" y="3432240"/>
            <a:ext cx="0" cy="265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2" name=""/>
          <p:cNvSpPr/>
          <p:nvPr/>
        </p:nvSpPr>
        <p:spPr>
          <a:xfrm>
            <a:off x="2043000" y="5610240"/>
            <a:ext cx="324000" cy="479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3" name=""/>
          <p:cNvSpPr/>
          <p:nvPr/>
        </p:nvSpPr>
        <p:spPr>
          <a:xfrm>
            <a:off x="2911320" y="5175360"/>
            <a:ext cx="32400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4" name=""/>
          <p:cNvSpPr/>
          <p:nvPr/>
        </p:nvSpPr>
        <p:spPr>
          <a:xfrm>
            <a:off x="3751200" y="5479920"/>
            <a:ext cx="32400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"/>
          <p:cNvSpPr/>
          <p:nvPr/>
        </p:nvSpPr>
        <p:spPr>
          <a:xfrm>
            <a:off x="4589640" y="5407200"/>
            <a:ext cx="323640" cy="682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"/>
          <p:cNvSpPr/>
          <p:nvPr/>
        </p:nvSpPr>
        <p:spPr>
          <a:xfrm>
            <a:off x="5415120" y="5479920"/>
            <a:ext cx="32364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7" name=""/>
          <p:cNvSpPr/>
          <p:nvPr/>
        </p:nvSpPr>
        <p:spPr>
          <a:xfrm>
            <a:off x="6238800" y="5348160"/>
            <a:ext cx="324000" cy="741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8" name=""/>
          <p:cNvSpPr/>
          <p:nvPr/>
        </p:nvSpPr>
        <p:spPr>
          <a:xfrm>
            <a:off x="2390760" y="5116680"/>
            <a:ext cx="324000" cy="973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9" name=""/>
          <p:cNvSpPr/>
          <p:nvPr/>
        </p:nvSpPr>
        <p:spPr>
          <a:xfrm>
            <a:off x="3259080" y="4071960"/>
            <a:ext cx="324000" cy="2017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"/>
          <p:cNvSpPr/>
          <p:nvPr/>
        </p:nvSpPr>
        <p:spPr>
          <a:xfrm>
            <a:off x="4097160" y="4622760"/>
            <a:ext cx="324000" cy="1467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1" name=""/>
          <p:cNvSpPr/>
          <p:nvPr/>
        </p:nvSpPr>
        <p:spPr>
          <a:xfrm>
            <a:off x="4937040" y="4754520"/>
            <a:ext cx="324000" cy="1335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2" name=""/>
          <p:cNvSpPr/>
          <p:nvPr/>
        </p:nvSpPr>
        <p:spPr>
          <a:xfrm>
            <a:off x="5761080" y="4362480"/>
            <a:ext cx="323640" cy="1727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3" name=""/>
          <p:cNvSpPr/>
          <p:nvPr/>
        </p:nvSpPr>
        <p:spPr>
          <a:xfrm>
            <a:off x="6585120" y="4433760"/>
            <a:ext cx="323640" cy="165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4" name=""/>
          <p:cNvSpPr/>
          <p:nvPr/>
        </p:nvSpPr>
        <p:spPr>
          <a:xfrm>
            <a:off x="1778040" y="2909880"/>
            <a:ext cx="554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Porcentaje de matrícula en educación terciari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960560" y="3479760"/>
            <a:ext cx="1131840" cy="338040"/>
            <a:chOff x="1960560" y="3479760"/>
            <a:chExt cx="1131840" cy="338040"/>
          </a:xfrm>
        </p:grpSpPr>
        <p:sp>
          <p:nvSpPr>
            <p:cNvPr id="326" name=""/>
            <p:cNvSpPr/>
            <p:nvPr/>
          </p:nvSpPr>
          <p:spPr>
            <a:xfrm>
              <a:off x="2193840" y="3483000"/>
              <a:ext cx="290520" cy="1364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62120" y="3479760"/>
              <a:ext cx="290520" cy="1364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60560" y="3602160"/>
              <a:ext cx="1131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991  2004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846440" y="6172200"/>
            <a:ext cx="5224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           Corea        Estonia        Irlanda       Letonia      Lituan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990800" y="5211720"/>
            <a:ext cx="4630680" cy="628920"/>
            <a:chOff x="1990800" y="5211720"/>
            <a:chExt cx="4630680" cy="628920"/>
          </a:xfrm>
        </p:grpSpPr>
        <p:sp>
          <p:nvSpPr>
            <p:cNvPr id="331" name=""/>
            <p:cNvSpPr/>
            <p:nvPr/>
          </p:nvSpPr>
          <p:spPr>
            <a:xfrm>
              <a:off x="1990800" y="560088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68480" y="5211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06920" y="548784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25920" y="54403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64000" y="54975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92720" y="5392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344680" y="4087800"/>
            <a:ext cx="4619520" cy="1287360"/>
            <a:chOff x="2344680" y="4087800"/>
            <a:chExt cx="4619520" cy="1287360"/>
          </a:xfrm>
        </p:grpSpPr>
        <p:sp>
          <p:nvSpPr>
            <p:cNvPr id="338" name=""/>
            <p:cNvSpPr/>
            <p:nvPr/>
          </p:nvSpPr>
          <p:spPr>
            <a:xfrm>
              <a:off x="2344680" y="51354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92480" y="4087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8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49640" y="46497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6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69000" y="47736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97360" y="4392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35800" y="44784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84200" y="3321000"/>
            <a:ext cx="7336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alidad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98600" y="1444680"/>
            <a:ext cx="76881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Sólo es posible dar un gran salto en educación terciaria (técnica y universitaria) si se eleva la calidad de la educación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7" name=""/>
          <p:cNvSpPr/>
          <p:nvPr/>
        </p:nvSpPr>
        <p:spPr>
          <a:xfrm>
            <a:off x="1335240" y="6365880"/>
            <a:ext cx="7673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Brechas similares de desempeño se observan en las pruebas de Matemáticas y Ciencia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8" name=""/>
          <p:cNvSpPr/>
          <p:nvPr/>
        </p:nvSpPr>
        <p:spPr>
          <a:xfrm>
            <a:off x="1257480" y="2597040"/>
            <a:ext cx="3987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Resultados Prueba PISA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(Comprensión Lectora)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9" name=""/>
          <p:cNvSpPr/>
          <p:nvPr/>
        </p:nvSpPr>
        <p:spPr>
          <a:xfrm>
            <a:off x="1457280" y="51768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0" name=""/>
          <p:cNvSpPr/>
          <p:nvPr/>
        </p:nvSpPr>
        <p:spPr>
          <a:xfrm>
            <a:off x="1444680" y="3373560"/>
            <a:ext cx="0" cy="180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984960" y="3127320"/>
            <a:ext cx="595080" cy="2095200"/>
            <a:chOff x="984960" y="3127320"/>
            <a:chExt cx="595080" cy="2095200"/>
          </a:xfrm>
        </p:grpSpPr>
        <p:sp>
          <p:nvSpPr>
            <p:cNvPr id="352" name=""/>
            <p:cNvSpPr/>
            <p:nvPr/>
          </p:nvSpPr>
          <p:spPr>
            <a:xfrm>
              <a:off x="1097280" y="50068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97280" y="449100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97280" y="39574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97280" y="341136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84960" y="3127320"/>
              <a:ext cx="59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Puntos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412640" y="5214960"/>
            <a:ext cx="5685120" cy="215640"/>
            <a:chOff x="1412640" y="5214960"/>
            <a:chExt cx="5685120" cy="215640"/>
          </a:xfrm>
        </p:grpSpPr>
        <p:sp>
          <p:nvSpPr>
            <p:cNvPr id="358" name=""/>
            <p:cNvSpPr/>
            <p:nvPr/>
          </p:nvSpPr>
          <p:spPr>
            <a:xfrm>
              <a:off x="1412640" y="5214960"/>
              <a:ext cx="50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769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5964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4268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253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727360" y="4732200"/>
            <a:ext cx="330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4" name=""/>
          <p:cNvSpPr/>
          <p:nvPr/>
        </p:nvSpPr>
        <p:spPr>
          <a:xfrm>
            <a:off x="7111800" y="508320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5" name=""/>
          <p:cNvSpPr/>
          <p:nvPr/>
        </p:nvSpPr>
        <p:spPr>
          <a:xfrm>
            <a:off x="3413160" y="4618080"/>
            <a:ext cx="622440" cy="228600"/>
          </a:xfrm>
          <a:prstGeom prst="borderCallout2">
            <a:avLst>
              <a:gd name="adj1" fmla="val 18750"/>
              <a:gd name="adj2" fmla="val -8333"/>
              <a:gd name="adj3" fmla="val 50000"/>
              <a:gd name="adj4" fmla="val -46939"/>
              <a:gd name="adj5" fmla="val 133333"/>
              <a:gd name="adj6" fmla="val -8367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"/>
          <p:cNvSpPr/>
          <p:nvPr/>
        </p:nvSpPr>
        <p:spPr>
          <a:xfrm>
            <a:off x="2803680" y="4951440"/>
            <a:ext cx="88920" cy="88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865600" y="5621400"/>
            <a:ext cx="4487760" cy="550800"/>
            <a:chOff x="2865600" y="5621400"/>
            <a:chExt cx="4487760" cy="550800"/>
          </a:xfrm>
        </p:grpSpPr>
        <p:sp>
          <p:nvSpPr>
            <p:cNvPr id="368" name=""/>
            <p:cNvSpPr/>
            <p:nvPr/>
          </p:nvSpPr>
          <p:spPr>
            <a:xfrm>
              <a:off x="2905200" y="562140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Austral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anadá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Dinamarc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Finlandi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Leton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Nva. Zeland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Suec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Tailand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08440" y="571644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08440" y="5867280"/>
              <a:ext cx="7632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05360" y="571500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05360" y="586116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98720" y="571500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98720" y="586728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65600" y="570852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65600" y="5861160"/>
              <a:ext cx="7596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65600" y="6013440"/>
              <a:ext cx="7596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56080" y="605952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847880" y="3508200"/>
            <a:ext cx="4670280" cy="1420920"/>
            <a:chOff x="1847880" y="3508200"/>
            <a:chExt cx="4670280" cy="1420920"/>
          </a:xfrm>
        </p:grpSpPr>
        <p:sp>
          <p:nvSpPr>
            <p:cNvPr id="380" name=""/>
            <p:cNvSpPr/>
            <p:nvPr/>
          </p:nvSpPr>
          <p:spPr>
            <a:xfrm>
              <a:off x="1971720" y="445284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00480" y="4087800"/>
              <a:ext cx="7596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25880" y="372096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94240" y="3625920"/>
              <a:ext cx="76320" cy="75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70480" y="3697200"/>
              <a:ext cx="7596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726080" y="376884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40480" y="381780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70520" y="38336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26080" y="350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16520" y="3532320"/>
              <a:ext cx="7632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53120" y="363996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51480" y="370368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86400" y="402912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42200" y="410220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47880" y="4749840"/>
              <a:ext cx="7632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63880" y="4853160"/>
              <a:ext cx="75960" cy="7596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96" name=""/>
          <p:cNvSpPr/>
          <p:nvPr/>
        </p:nvSpPr>
        <p:spPr>
          <a:xfrm flipV="1">
            <a:off x="1909800" y="3665160"/>
            <a:ext cx="4572000" cy="8031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Gas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0680" y="1459080"/>
            <a:ext cx="4703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¿Estamos gastando lo suficiente?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/>
          <p:nvPr/>
        </p:nvSpPr>
        <p:spPr>
          <a:xfrm>
            <a:off x="1638360" y="5438880"/>
            <a:ext cx="56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0" name=""/>
          <p:cNvSpPr/>
          <p:nvPr/>
        </p:nvSpPr>
        <p:spPr>
          <a:xfrm>
            <a:off x="1638360" y="36226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1" name=""/>
          <p:cNvSpPr/>
          <p:nvPr/>
        </p:nvSpPr>
        <p:spPr>
          <a:xfrm>
            <a:off x="1426320" y="519264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"/>
          <p:cNvSpPr/>
          <p:nvPr/>
        </p:nvSpPr>
        <p:spPr>
          <a:xfrm>
            <a:off x="1357200" y="47149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"/>
          <p:cNvSpPr/>
          <p:nvPr/>
        </p:nvSpPr>
        <p:spPr>
          <a:xfrm>
            <a:off x="1357200" y="42321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4" name=""/>
          <p:cNvSpPr/>
          <p:nvPr/>
        </p:nvSpPr>
        <p:spPr>
          <a:xfrm>
            <a:off x="1357200" y="37623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5" name=""/>
          <p:cNvSpPr/>
          <p:nvPr/>
        </p:nvSpPr>
        <p:spPr>
          <a:xfrm>
            <a:off x="539640" y="3649680"/>
            <a:ext cx="77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% del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Ingreso 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6" name=""/>
          <p:cNvSpPr/>
          <p:nvPr/>
        </p:nvSpPr>
        <p:spPr>
          <a:xfrm>
            <a:off x="1896480" y="551988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"/>
          <p:cNvSpPr/>
          <p:nvPr/>
        </p:nvSpPr>
        <p:spPr>
          <a:xfrm>
            <a:off x="3313080" y="55198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"/>
          <p:cNvSpPr/>
          <p:nvPr/>
        </p:nvSpPr>
        <p:spPr>
          <a:xfrm>
            <a:off x="49834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9" name=""/>
          <p:cNvSpPr/>
          <p:nvPr/>
        </p:nvSpPr>
        <p:spPr>
          <a:xfrm>
            <a:off x="68122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0" name=""/>
          <p:cNvSpPr/>
          <p:nvPr/>
        </p:nvSpPr>
        <p:spPr>
          <a:xfrm>
            <a:off x="7407360" y="537228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"/>
          <p:cNvSpPr/>
          <p:nvPr/>
        </p:nvSpPr>
        <p:spPr>
          <a:xfrm>
            <a:off x="1474200" y="2932200"/>
            <a:ext cx="529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Gasto público en educación por habitante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en edad escolar (% del PIB per cápita)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056040" y="5942160"/>
            <a:ext cx="4487760" cy="550800"/>
            <a:chOff x="3056040" y="5942160"/>
            <a:chExt cx="4487760" cy="550800"/>
          </a:xfrm>
        </p:grpSpPr>
        <p:sp>
          <p:nvSpPr>
            <p:cNvPr id="413" name=""/>
            <p:cNvSpPr/>
            <p:nvPr/>
          </p:nvSpPr>
          <p:spPr>
            <a:xfrm>
              <a:off x="3095640" y="594216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hin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Es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I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e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ituani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Malas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Taila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98880" y="6037200"/>
              <a:ext cx="76320" cy="763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98880" y="6188040"/>
              <a:ext cx="76320" cy="76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96160" y="603576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96160" y="6181560"/>
              <a:ext cx="75960" cy="763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89520" y="603576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89520" y="6188040"/>
              <a:ext cx="7596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56040" y="602928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56040" y="618156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46880" y="638028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137120" y="4545000"/>
            <a:ext cx="2450880" cy="836640"/>
            <a:chOff x="4137120" y="4545000"/>
            <a:chExt cx="2450880" cy="836640"/>
          </a:xfrm>
        </p:grpSpPr>
        <p:sp>
          <p:nvSpPr>
            <p:cNvPr id="424" name=""/>
            <p:cNvSpPr/>
            <p:nvPr/>
          </p:nvSpPr>
          <p:spPr>
            <a:xfrm flipV="1">
              <a:off x="4168800" y="4854600"/>
              <a:ext cx="1155600" cy="393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37120" y="521028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30640" y="48974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91280" y="48020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386320" y="4840200"/>
              <a:ext cx="4510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65920" y="4545000"/>
              <a:ext cx="622080" cy="228600"/>
            </a:xfrm>
            <a:prstGeom prst="borderCallout2">
              <a:avLst>
                <a:gd name="adj1" fmla="val 18750"/>
                <a:gd name="adj2" fmla="val -8333"/>
                <a:gd name="adj3" fmla="val 50000"/>
                <a:gd name="adj4" fmla="val -51787"/>
                <a:gd name="adj5" fmla="val 111111"/>
                <a:gd name="adj6" fmla="val -93879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64200" y="5235480"/>
              <a:ext cx="317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31" name="">
            <a:hlinkClick r:id="rId2" action="ppaction://hlinksldjump"/>
          </p:cNvPr>
          <p:cNvSpPr/>
          <p:nvPr/>
        </p:nvSpPr>
        <p:spPr>
          <a:xfrm>
            <a:off x="235080" y="7256520"/>
            <a:ext cx="276120" cy="276120"/>
          </a:xfrm>
          <a:custGeom>
            <a:avLst/>
            <a:gdLst>
              <a:gd name="textAreaLeft" fmla="*/ 17640 w 276120"/>
              <a:gd name="textAreaRight" fmla="*/ 258480 w 276120"/>
              <a:gd name="textAreaTop" fmla="*/ 17640 h 276120"/>
              <a:gd name="textAreaBottom" fmla="*/ 25848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0e2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293920" y="4118040"/>
            <a:ext cx="4889520" cy="9698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276640" y="3922560"/>
            <a:ext cx="4986000" cy="1444680"/>
            <a:chOff x="2276640" y="3922560"/>
            <a:chExt cx="4986000" cy="1444680"/>
          </a:xfrm>
        </p:grpSpPr>
        <p:sp>
          <p:nvSpPr>
            <p:cNvPr id="434" name=""/>
            <p:cNvSpPr/>
            <p:nvPr/>
          </p:nvSpPr>
          <p:spPr>
            <a:xfrm>
              <a:off x="7186680" y="4668840"/>
              <a:ext cx="7596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2276640" y="3922560"/>
              <a:ext cx="3781440" cy="1444680"/>
              <a:chOff x="2276640" y="3922560"/>
              <a:chExt cx="3781440" cy="1444680"/>
            </a:xfrm>
          </p:grpSpPr>
          <p:sp>
            <p:nvSpPr>
              <p:cNvPr id="436" name=""/>
              <p:cNvSpPr/>
              <p:nvPr/>
            </p:nvSpPr>
            <p:spPr>
              <a:xfrm>
                <a:off x="2276640" y="5105520"/>
                <a:ext cx="7596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514600" y="4962600"/>
                <a:ext cx="7632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268880" y="4033800"/>
                <a:ext cx="7596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26000" y="4305240"/>
                <a:ext cx="7632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51480" y="443232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91080" y="484488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67080" y="529128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33800" y="520380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69000" y="4608360"/>
                <a:ext cx="7596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513320" y="4019400"/>
                <a:ext cx="7632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981760" y="3922560"/>
                <a:ext cx="76320" cy="763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08200" y="514188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097160" y="460836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722160" y="1924200"/>
            <a:ext cx="825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Las cifras de gasto total o gasto por estudiante pueden ser engañosas..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9:33:31Z</dcterms:created>
  <dc:creator>Informática</dc:creator>
  <dc:description/>
  <dc:language>en-US</dc:language>
  <cp:lastModifiedBy>alumno</cp:lastModifiedBy>
  <dcterms:modified xsi:type="dcterms:W3CDTF">2008-05-16T19:56:00Z</dcterms:modified>
  <cp:revision>40</cp:revision>
  <dc:subject/>
  <dc:title>El Capital Humano en la  Estrategia de Innovación de Chile</dc:title>
</cp:coreProperties>
</file>