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1C34-0C52-4C27-8D8C-3FED651C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1408-05C0-45A9-9303-CEC786CB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CCA0-4F2E-4A09-A16A-E59490A7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2F72-E744-45A1-9BB1-6972D233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93B2-D326-49B5-8DE5-AA575D09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E376-A1C3-4A53-89CF-890B515A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A19A-C897-4E38-849A-E667618C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2502-3D75-4805-90AA-AB52E7E5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C661-EDC3-4D0E-BE00-4E10405C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ECD2-35A1-4106-847E-A5159AA7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96FF-4C25-49D1-9BCC-4D4D2F5D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7AD9-C4CE-4348-9A01-7AF61D80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02EA-7F83-442F-A7F4-B52C385B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987B-60DA-4783-BF19-16387DBC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EFB2-C630-4BF1-956D-8DB66079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A84C-232A-488B-9394-2CD5205F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F11D-BEC4-4186-BE9B-FFB955DE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C551-0101-41ED-A256-1835BE4A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D273-BE3B-46A5-B94C-B261C16B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39B3-1E5A-464F-97C3-34D32E72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058D-311B-4FE9-B2EA-8EF72FF3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7568-F85C-42A2-9D03-EEC618A4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82FA-6C29-4E79-9D30-DEBF29CC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A03B-3EC9-4CA8-9B5D-86A42158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0469-BC84-4A78-A8D9-53A635E464F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D742-CAC4-4353-8D99-E67EB52C70C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 2C1</a:t>
            </a:r>
            <a:br>
              <a:rPr sz="4200"/>
            </a:b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troducción a la Econom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ilar Romaguera 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55640" y="1557360"/>
            <a:ext cx="74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aíses seleccionad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93080" cy="3890880"/>
          </a:xfrm>
          <a:prstGeom prst="rect">
            <a:avLst/>
          </a:prstGeom>
          <a:ln w="0">
            <a:noFill/>
          </a:ln>
        </p:spPr>
      </p:pic>
      <p:sp>
        <p:nvSpPr>
          <p:cNvPr id="156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7774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1258920" y="1386000"/>
            <a:ext cx="5400720" cy="32734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6"/>
          <p:cNvGrpSpPr/>
          <p:nvPr/>
        </p:nvGrpSpPr>
        <p:grpSpPr>
          <a:xfrm>
            <a:off x="1835280" y="4797360"/>
            <a:ext cx="4968720" cy="1368360"/>
            <a:chOff x="1835280" y="4797360"/>
            <a:chExt cx="4968720" cy="1368360"/>
          </a:xfrm>
        </p:grpSpPr>
        <p:pic>
          <p:nvPicPr>
            <p:cNvPr id="162" name="Picture 7" descr=""/>
            <p:cNvPicPr/>
            <p:nvPr/>
          </p:nvPicPr>
          <p:blipFill>
            <a:blip r:embed="rId2"/>
            <a:stretch/>
          </p:blipFill>
          <p:spPr>
            <a:xfrm>
              <a:off x="1835280" y="4797360"/>
              <a:ext cx="49687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8"/>
            <p:cNvSpPr/>
            <p:nvPr/>
          </p:nvSpPr>
          <p:spPr>
            <a:xfrm>
              <a:off x="4690800" y="5154480"/>
              <a:ext cx="840960" cy="77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3966840" cy="4503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900000" y="170028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empleo, participación y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os Salarios en Chi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muneraciones Medias, por Ocup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696000" cy="43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Remuneraciones de algunas Profes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87280" y="1628640"/>
          <a:ext cx="6697800" cy="3168720"/>
        </p:xfrm>
        <a:graphic>
          <a:graphicData uri="http://schemas.openxmlformats.org/drawingml/2006/table">
            <a:tbl>
              <a:tblPr/>
              <a:tblGrid>
                <a:gridCol w="2311560"/>
                <a:gridCol w="1359000"/>
                <a:gridCol w="1357200"/>
                <a:gridCol w="1670040"/>
              </a:tblGrid>
              <a:tr h="4795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muneraciones Ocupaciones Seleccionadas: EE.UU y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 (US$) an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genieros Civi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38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858.3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8.6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ofesores educacion me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1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061.2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9.4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nfermer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73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522.9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6.5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riodis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85.8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745.8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.9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cretaria (recepcionist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92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.8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arpinte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63.7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brero Construcc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4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47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332000" y="5013360"/>
          <a:ext cx="4680000" cy="82224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ta: Chile: corresponde a 4 a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ñ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s de experiencia. Futuro Labor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UU: Remuneraci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 promedio, datos Encue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xceso de Ofer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asa cuando existe un Exceso de Oferta de Profesion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espera una caída de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, caída de salarios de period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AutoShape 91"/>
          <p:cNvCxnSpPr/>
          <p:nvPr/>
        </p:nvCxnSpPr>
        <p:spPr>
          <a:xfrm>
            <a:off x="3755520" y="561960"/>
            <a:ext cx="213480" cy="162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76" name="AutoShape 90"/>
          <p:cNvCxnSpPr/>
          <p:nvPr/>
        </p:nvCxnSpPr>
        <p:spPr>
          <a:xfrm flipH="1">
            <a:off x="1063080" y="1420560"/>
            <a:ext cx="1943640" cy="1080"/>
          </a:xfrm>
          <a:prstGeom prst="straightConnector1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177" name="Group 68"/>
          <p:cNvGrpSpPr/>
          <p:nvPr/>
        </p:nvGrpSpPr>
        <p:grpSpPr>
          <a:xfrm>
            <a:off x="1928880" y="2357280"/>
            <a:ext cx="3786120" cy="2956680"/>
            <a:chOff x="1928880" y="2357280"/>
            <a:chExt cx="3786120" cy="2956680"/>
          </a:xfrm>
        </p:grpSpPr>
        <p:grpSp>
          <p:nvGrpSpPr>
            <p:cNvPr id="178" name="Group 74"/>
            <p:cNvGrpSpPr/>
            <p:nvPr/>
          </p:nvGrpSpPr>
          <p:grpSpPr>
            <a:xfrm>
              <a:off x="1928880" y="2357280"/>
              <a:ext cx="3707280" cy="2956680"/>
              <a:chOff x="1928880" y="2357280"/>
              <a:chExt cx="3707280" cy="2956680"/>
            </a:xfrm>
          </p:grpSpPr>
          <p:sp>
            <p:nvSpPr>
              <p:cNvPr id="179" name="Rectangle 89"/>
              <p:cNvSpPr/>
              <p:nvPr/>
            </p:nvSpPr>
            <p:spPr>
              <a:xfrm>
                <a:off x="2031120" y="4649760"/>
                <a:ext cx="33840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8"/>
              <p:cNvSpPr/>
              <p:nvPr/>
            </p:nvSpPr>
            <p:spPr>
              <a:xfrm>
                <a:off x="1928880" y="2911320"/>
                <a:ext cx="51912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87"/>
              <p:cNvSpPr/>
              <p:nvPr/>
            </p:nvSpPr>
            <p:spPr>
              <a:xfrm>
                <a:off x="3794400" y="4421520"/>
                <a:ext cx="39348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86"/>
              <p:cNvSpPr/>
              <p:nvPr/>
            </p:nvSpPr>
            <p:spPr>
              <a:xfrm>
                <a:off x="5333040" y="49986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85"/>
              <p:cNvSpPr/>
              <p:nvPr/>
            </p:nvSpPr>
            <p:spPr>
              <a:xfrm>
                <a:off x="2424600" y="2448360"/>
                <a:ext cx="360" cy="252000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84"/>
              <p:cNvSpPr/>
              <p:nvPr/>
            </p:nvSpPr>
            <p:spPr>
              <a:xfrm>
                <a:off x="2424600" y="4972320"/>
                <a:ext cx="321156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83"/>
              <p:cNvSpPr/>
              <p:nvPr/>
            </p:nvSpPr>
            <p:spPr>
              <a:xfrm>
                <a:off x="2865240" y="2958840"/>
                <a:ext cx="2247840" cy="159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82"/>
              <p:cNvSpPr/>
              <p:nvPr/>
            </p:nvSpPr>
            <p:spPr>
              <a:xfrm flipV="1">
                <a:off x="2865240" y="3088080"/>
                <a:ext cx="2339280" cy="142740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81"/>
              <p:cNvSpPr/>
              <p:nvPr/>
            </p:nvSpPr>
            <p:spPr>
              <a:xfrm>
                <a:off x="4698000" y="3017520"/>
                <a:ext cx="21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80"/>
              <p:cNvSpPr/>
              <p:nvPr/>
            </p:nvSpPr>
            <p:spPr>
              <a:xfrm>
                <a:off x="5028120" y="4206240"/>
                <a:ext cx="225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79"/>
              <p:cNvSpPr/>
              <p:nvPr/>
            </p:nvSpPr>
            <p:spPr>
              <a:xfrm>
                <a:off x="2098440" y="2357280"/>
                <a:ext cx="241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78"/>
              <p:cNvSpPr/>
              <p:nvPr/>
            </p:nvSpPr>
            <p:spPr>
              <a:xfrm>
                <a:off x="4052160" y="3816360"/>
                <a:ext cx="0" cy="114300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77"/>
              <p:cNvSpPr/>
              <p:nvPr/>
            </p:nvSpPr>
            <p:spPr>
              <a:xfrm flipH="1">
                <a:off x="2424600" y="3800520"/>
                <a:ext cx="160560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76"/>
              <p:cNvSpPr/>
              <p:nvPr/>
            </p:nvSpPr>
            <p:spPr>
              <a:xfrm>
                <a:off x="2161440" y="3666600"/>
                <a:ext cx="217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r>
                  <a:rPr b="0" lang="en-US" sz="17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75"/>
              <p:cNvSpPr/>
              <p:nvPr/>
            </p:nvSpPr>
            <p:spPr>
              <a:xfrm>
                <a:off x="3938760" y="5008680"/>
                <a:ext cx="171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Line 73"/>
            <p:cNvSpPr/>
            <p:nvPr/>
          </p:nvSpPr>
          <p:spPr>
            <a:xfrm flipV="1">
              <a:off x="3094560" y="3279960"/>
              <a:ext cx="2339280" cy="1427400"/>
            </a:xfrm>
            <a:prstGeom prst="line">
              <a:avLst/>
            </a:prstGeom>
            <a:ln w="284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2"/>
            <p:cNvSpPr/>
            <p:nvPr/>
          </p:nvSpPr>
          <p:spPr>
            <a:xfrm>
              <a:off x="5438520" y="3197880"/>
              <a:ext cx="27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AutoShape 71"/>
            <p:cNvCxnSpPr/>
            <p:nvPr/>
          </p:nvCxnSpPr>
          <p:spPr>
            <a:xfrm>
              <a:off x="4314600" y="3946680"/>
              <a:ext cx="1080" cy="92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7" name="Rectangle 70"/>
            <p:cNvSpPr/>
            <p:nvPr/>
          </p:nvSpPr>
          <p:spPr>
            <a:xfrm>
              <a:off x="2098080" y="3852360"/>
              <a:ext cx="24768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</a:t>
              </a:r>
              <a:r>
                <a:rPr b="0" lang="en-US" sz="17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69"/>
            <p:cNvSpPr/>
            <p:nvPr/>
          </p:nvSpPr>
          <p:spPr>
            <a:xfrm>
              <a:off x="4235040" y="4935600"/>
              <a:ext cx="260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9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93 Conector recto de flecha"/>
          <p:cNvCxnSpPr/>
          <p:nvPr/>
        </p:nvCxnSpPr>
        <p:spPr>
          <a:xfrm>
            <a:off x="5000400" y="3285720"/>
            <a:ext cx="143640" cy="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ferenciales de Remuneraciones y </a:t>
            </a:r>
            <a:br>
              <a:rPr sz="2600"/>
            </a:b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altos diferenciales de remuneraciones entre profesionales y no profesionales, están en la raíz de la desigualdad de la distribución de ingresos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6247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Imagen 1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77436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Imagen 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3454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roducción a la Economía: Mercado Laboral, Salarios y Distribución del I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6920" y="2190600"/>
            <a:ext cx="6788160" cy="25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esta presentación, utilizaremos la economía para comprender fenómenos del mercado laboral, por ejemplo,  la determinación de los sal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Imagen 3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06436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Futur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odemos esperar a futuro en la evolución del mercado labo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jor información: “plaza públ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en la participación laboral feme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de trabajadores inmig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minución relativa de las remuneraciones de los profesionales vs. otros trabaj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1 CuadroTexto"/>
          <p:cNvSpPr/>
          <p:nvPr/>
        </p:nvSpPr>
        <p:spPr>
          <a:xfrm>
            <a:off x="1428840" y="2786040"/>
            <a:ext cx="57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ff"/>
                </a:solidFill>
                <a:latin typeface="Arial"/>
              </a:rPr>
              <a:t>ANEX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CuadroTexto"/>
          <p:cNvSpPr/>
          <p:nvPr/>
        </p:nvSpPr>
        <p:spPr>
          <a:xfrm>
            <a:off x="500040" y="500040"/>
            <a:ext cx="75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valores mínimos y máximos de  dec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143840" cy="4786200"/>
          </a:xfrm>
          <a:prstGeom prst="rect">
            <a:avLst/>
          </a:prstGeom>
          <a:ln w="0">
            <a:noFill/>
          </a:ln>
        </p:spPr>
      </p:pic>
      <p:sp>
        <p:nvSpPr>
          <p:cNvPr id="216" name="5 CuadroTexto"/>
          <p:cNvSpPr/>
          <p:nvPr/>
        </p:nvSpPr>
        <p:spPr>
          <a:xfrm>
            <a:off x="868320" y="635796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CASEN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28760" y="2286000"/>
            <a:ext cx="8215200" cy="4071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1071720" y="1285920"/>
            <a:ext cx="7076880" cy="1143000"/>
          </a:xfrm>
          <a:prstGeom prst="rect">
            <a:avLst/>
          </a:prstGeom>
          <a:ln w="0">
            <a:noFill/>
          </a:ln>
        </p:spPr>
      </p:pic>
      <p:sp>
        <p:nvSpPr>
          <p:cNvPr id="219" name="3 CuadroTexto"/>
          <p:cNvSpPr/>
          <p:nvPr/>
        </p:nvSpPr>
        <p:spPr>
          <a:xfrm>
            <a:off x="500040" y="5000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Decil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466560" y="2643120"/>
            <a:ext cx="8128080" cy="3176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785880" y="1428840"/>
            <a:ext cx="7358040" cy="1071360"/>
          </a:xfrm>
          <a:prstGeom prst="rect">
            <a:avLst/>
          </a:prstGeom>
          <a:ln w="0">
            <a:noFill/>
          </a:ln>
        </p:spPr>
      </p:pic>
      <p:sp>
        <p:nvSpPr>
          <p:cNvPr id="222" name="4 CuadroTexto"/>
          <p:cNvSpPr/>
          <p:nvPr/>
        </p:nvSpPr>
        <p:spPr>
          <a:xfrm>
            <a:off x="516960" y="714240"/>
            <a:ext cx="48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efecto subsid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2857680"/>
            <a:ext cx="9144000" cy="2409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8591400" cy="1357560"/>
          </a:xfrm>
          <a:prstGeom prst="rect">
            <a:avLst/>
          </a:prstGeom>
          <a:ln w="0">
            <a:noFill/>
          </a:ln>
        </p:spPr>
      </p:pic>
      <p:sp>
        <p:nvSpPr>
          <p:cNvPr id="225" name="3 CuadroTexto"/>
          <p:cNvSpPr/>
          <p:nvPr/>
        </p:nvSpPr>
        <p:spPr>
          <a:xfrm>
            <a:off x="428760" y="42876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subsidios monetarios + educación +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8143920" cy="2786040"/>
          </a:xfrm>
          <a:prstGeom prst="rect">
            <a:avLst/>
          </a:prstGeom>
          <a:ln w="0">
            <a:noFill/>
          </a:ln>
        </p:spPr>
      </p:pic>
      <p:sp>
        <p:nvSpPr>
          <p:cNvPr id="227" name="8 CuadroTexto"/>
          <p:cNvSpPr/>
          <p:nvPr/>
        </p:nvSpPr>
        <p:spPr>
          <a:xfrm>
            <a:off x="522360" y="642960"/>
            <a:ext cx="62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Indices y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ANEXOS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fin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Participación: corresponde al porcentaje de la fuerza de trabajo o población económicamente activa (ocupados y desocupados) de 15 años y más con respecto a la población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Ocupación: corresponde al porcentaje de la población ocupada de 15 años y más con respecto a la población en edad de trabajar (activa e inactiva)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pendencia: número de personas que deben ser solventadas económicamente por cada persona ocupada en una población determi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socupación: corresponde al porcentaje de la población desocupada (cesantes y personas que buscan trabajo por primera vez) de 15 años y más con respecto a la fuerza de trabajo o población económicamente activa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2 CuadroTexto"/>
          <p:cNvSpPr/>
          <p:nvPr/>
        </p:nvSpPr>
        <p:spPr>
          <a:xfrm>
            <a:off x="660600" y="714240"/>
            <a:ext cx="51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642960" y="1719360"/>
            <a:ext cx="7000920" cy="4113000"/>
          </a:xfrm>
          <a:prstGeom prst="rect">
            <a:avLst/>
          </a:prstGeom>
          <a:ln w="0">
            <a:noFill/>
          </a:ln>
        </p:spPr>
      </p:pic>
      <p:sp>
        <p:nvSpPr>
          <p:cNvPr id="232" name="4 CuadroTexto"/>
          <p:cNvSpPr/>
          <p:nvPr/>
        </p:nvSpPr>
        <p:spPr>
          <a:xfrm>
            <a:off x="785880" y="6357960"/>
            <a:ext cx="22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Modelos de Oferta y Demand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se utilizan para comprender los comportamientos de precios y cantidades en distintos merc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de Trabajo permiten analizar: salarios, tasas de participación, horas trabajad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hora bien, la “racionalidad económica” da cuenta de una parte de los fenómenos. Ej: participacion laboral femen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785880" y="1476360"/>
            <a:ext cx="7000920" cy="4705200"/>
          </a:xfrm>
          <a:prstGeom prst="rect">
            <a:avLst/>
          </a:prstGeom>
          <a:ln w="0">
            <a:noFill/>
          </a:ln>
        </p:spPr>
      </p:pic>
      <p:sp>
        <p:nvSpPr>
          <p:cNvPr id="234" name="2 CuadroTexto"/>
          <p:cNvSpPr/>
          <p:nvPr/>
        </p:nvSpPr>
        <p:spPr>
          <a:xfrm>
            <a:off x="666000" y="714240"/>
            <a:ext cx="65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3 Rectángulo"/>
          <p:cNvSpPr/>
          <p:nvPr/>
        </p:nvSpPr>
        <p:spPr>
          <a:xfrm>
            <a:off x="720720" y="62866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ás personas desean trabajar, y por más horas, en función del salario y de otras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1"/>
          <p:cNvGrpSpPr/>
          <p:nvPr/>
        </p:nvGrpSpPr>
        <p:grpSpPr>
          <a:xfrm>
            <a:off x="2071800" y="2637000"/>
            <a:ext cx="6394680" cy="2946960"/>
            <a:chOff x="2071800" y="2637000"/>
            <a:chExt cx="6394680" cy="2946960"/>
          </a:xfrm>
        </p:grpSpPr>
        <p:sp>
          <p:nvSpPr>
            <p:cNvPr id="100" name="Rectangle 22"/>
            <p:cNvSpPr/>
            <p:nvPr/>
          </p:nvSpPr>
          <p:spPr>
            <a:xfrm>
              <a:off x="2586600" y="49298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3"/>
            <p:cNvSpPr/>
            <p:nvPr/>
          </p:nvSpPr>
          <p:spPr>
            <a:xfrm>
              <a:off x="2484360" y="31914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4"/>
            <p:cNvSpPr/>
            <p:nvPr/>
          </p:nvSpPr>
          <p:spPr>
            <a:xfrm>
              <a:off x="4350600" y="47012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5"/>
            <p:cNvSpPr/>
            <p:nvPr/>
          </p:nvSpPr>
          <p:spPr>
            <a:xfrm>
              <a:off x="5881320" y="5278680"/>
              <a:ext cx="258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6"/>
            <p:cNvSpPr/>
            <p:nvPr/>
          </p:nvSpPr>
          <p:spPr>
            <a:xfrm>
              <a:off x="2980440" y="2728440"/>
              <a:ext cx="720" cy="2520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7"/>
            <p:cNvSpPr/>
            <p:nvPr/>
          </p:nvSpPr>
          <p:spPr>
            <a:xfrm>
              <a:off x="2980440" y="52524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8"/>
            <p:cNvSpPr/>
            <p:nvPr/>
          </p:nvSpPr>
          <p:spPr>
            <a:xfrm flipV="1">
              <a:off x="3421440" y="3368160"/>
              <a:ext cx="2339640" cy="14274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9"/>
            <p:cNvSpPr/>
            <p:nvPr/>
          </p:nvSpPr>
          <p:spPr>
            <a:xfrm>
              <a:off x="5256000" y="329724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0"/>
            <p:cNvSpPr/>
            <p:nvPr/>
          </p:nvSpPr>
          <p:spPr>
            <a:xfrm>
              <a:off x="2071800" y="2637000"/>
              <a:ext cx="10713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salari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13 CuadroTexto"/>
          <p:cNvSpPr/>
          <p:nvPr/>
        </p:nvSpPr>
        <p:spPr>
          <a:xfrm>
            <a:off x="5857560" y="3071880"/>
            <a:ext cx="138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ferta 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599840"/>
            <a:ext cx="7707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s de Participación de Chile vs. otros países del mundo (ver …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Tasa de Participación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corresponde al porcentaje de la fuerza de trabajo o población económicamente activa (ocupados y desocupados) de 15 años y más con respecto a la población total de 15 años o má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6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773360" y="2438280"/>
            <a:ext cx="5391000" cy="3295800"/>
          </a:xfrm>
          <a:prstGeom prst="rect">
            <a:avLst/>
          </a:prstGeom>
          <a:ln w="0">
            <a:noFill/>
          </a:ln>
        </p:spPr>
      </p:pic>
      <p:sp>
        <p:nvSpPr>
          <p:cNvPr id="114" name="5 CuadroTexto"/>
          <p:cNvSpPr/>
          <p:nvPr/>
        </p:nvSpPr>
        <p:spPr>
          <a:xfrm rot="16200000">
            <a:off x="1381320" y="3306240"/>
            <a:ext cx="10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porcentaj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Demand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s empresas están dispuestas a contratar más trabajadores a salarios más bajos; o bien, están dispuestas a contratar menos trabajadores si los salarios son más altos (todo lo demás const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2"/>
          <p:cNvGrpSpPr/>
          <p:nvPr/>
        </p:nvGrpSpPr>
        <p:grpSpPr>
          <a:xfrm>
            <a:off x="2448000" y="3238560"/>
            <a:ext cx="5947920" cy="2854800"/>
            <a:chOff x="2448000" y="3238560"/>
            <a:chExt cx="5947920" cy="2854800"/>
          </a:xfrm>
        </p:grpSpPr>
        <p:sp>
          <p:nvSpPr>
            <p:cNvPr id="118" name="Rectangle 23"/>
            <p:cNvSpPr/>
            <p:nvPr/>
          </p:nvSpPr>
          <p:spPr>
            <a:xfrm>
              <a:off x="2550240" y="5439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4"/>
            <p:cNvSpPr/>
            <p:nvPr/>
          </p:nvSpPr>
          <p:spPr>
            <a:xfrm>
              <a:off x="2448000" y="370116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5"/>
            <p:cNvSpPr/>
            <p:nvPr/>
          </p:nvSpPr>
          <p:spPr>
            <a:xfrm>
              <a:off x="4313880" y="5211000"/>
              <a:ext cx="39348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6"/>
            <p:cNvSpPr/>
            <p:nvPr/>
          </p:nvSpPr>
          <p:spPr>
            <a:xfrm>
              <a:off x="5845680" y="5788080"/>
              <a:ext cx="255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2943720" y="323856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8"/>
            <p:cNvSpPr/>
            <p:nvPr/>
          </p:nvSpPr>
          <p:spPr>
            <a:xfrm>
              <a:off x="2943720" y="5761800"/>
              <a:ext cx="321264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9"/>
            <p:cNvSpPr/>
            <p:nvPr/>
          </p:nvSpPr>
          <p:spPr>
            <a:xfrm>
              <a:off x="3384720" y="374868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0"/>
            <p:cNvSpPr/>
            <p:nvPr/>
          </p:nvSpPr>
          <p:spPr>
            <a:xfrm>
              <a:off x="5546160" y="499644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30"/>
          <p:cNvSpPr/>
          <p:nvPr/>
        </p:nvSpPr>
        <p:spPr>
          <a:xfrm>
            <a:off x="1857240" y="3286080"/>
            <a:ext cx="1000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salar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4 CuadroTexto"/>
          <p:cNvSpPr/>
          <p:nvPr/>
        </p:nvSpPr>
        <p:spPr>
          <a:xfrm>
            <a:off x="6072120" y="5143680"/>
            <a:ext cx="185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manda de Tra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quilibrio en el Mercado Labor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ta: ¿Cómo se encuentran la Oferta y Dema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ejemplo: plaza pública o merc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"/>
          <p:cNvGrpSpPr/>
          <p:nvPr/>
        </p:nvGrpSpPr>
        <p:grpSpPr>
          <a:xfrm>
            <a:off x="2016000" y="2417760"/>
            <a:ext cx="3708000" cy="2956320"/>
            <a:chOff x="2016000" y="2417760"/>
            <a:chExt cx="3708000" cy="2956320"/>
          </a:xfrm>
        </p:grpSpPr>
        <p:sp>
          <p:nvSpPr>
            <p:cNvPr id="131" name="Rectangle 6"/>
            <p:cNvSpPr/>
            <p:nvPr/>
          </p:nvSpPr>
          <p:spPr>
            <a:xfrm>
              <a:off x="2118240" y="4710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2016000" y="29718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>
              <a:off x="3881880" y="44816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5414400" y="5059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2511720" y="250884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>
              <a:off x="2511720" y="50328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2952720" y="301932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 flipV="1">
              <a:off x="2952720" y="3148920"/>
              <a:ext cx="2339640" cy="14270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4787640" y="307800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5"/>
            <p:cNvSpPr/>
            <p:nvPr/>
          </p:nvSpPr>
          <p:spPr>
            <a:xfrm>
              <a:off x="5114160" y="426708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6"/>
            <p:cNvSpPr/>
            <p:nvPr/>
          </p:nvSpPr>
          <p:spPr>
            <a:xfrm>
              <a:off x="2181600" y="2417760"/>
              <a:ext cx="24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>
              <a:off x="4139640" y="3876840"/>
              <a:ext cx="0" cy="114264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8"/>
            <p:cNvSpPr/>
            <p:nvPr/>
          </p:nvSpPr>
          <p:spPr>
            <a:xfrm flipH="1">
              <a:off x="2511360" y="3860640"/>
              <a:ext cx="1605960" cy="36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9"/>
            <p:cNvSpPr/>
            <p:nvPr/>
          </p:nvSpPr>
          <p:spPr>
            <a:xfrm>
              <a:off x="2234880" y="3727440"/>
              <a:ext cx="25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ES" sz="17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>
              <a:off x="4013280" y="5068800"/>
              <a:ext cx="200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CuadroTexto"/>
          <p:cNvSpPr/>
          <p:nvPr/>
        </p:nvSpPr>
        <p:spPr>
          <a:xfrm>
            <a:off x="428760" y="142920"/>
            <a:ext cx="89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ferta y Demanda de Profesion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rcado de “Spider” o “Cobweb” (tela de arañ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5 Rectángulo"/>
          <p:cNvSpPr/>
          <p:nvPr/>
        </p:nvSpPr>
        <p:spPr>
          <a:xfrm>
            <a:off x="7143840" y="5000760"/>
            <a:ext cx="200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Labor Economics. G. Borjas, pp.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928800" y="1138320"/>
            <a:ext cx="61052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11280" y="1700280"/>
            <a:ext cx="74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or Grupos de Paí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136000" cy="3887640"/>
          </a:xfrm>
          <a:prstGeom prst="rect">
            <a:avLst/>
          </a:prstGeom>
          <a:ln w="0">
            <a:noFill/>
          </a:ln>
        </p:spPr>
      </p:pic>
      <p:sp>
        <p:nvSpPr>
          <p:cNvPr id="152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5:54:20Z</dcterms:created>
  <dc:creator>Pilar Romaguera</dc:creator>
  <dc:description/>
  <dc:language>en-US</dc:language>
  <cp:lastModifiedBy>alumnodii</cp:lastModifiedBy>
  <dcterms:modified xsi:type="dcterms:W3CDTF">2008-05-09T14:38:51Z</dcterms:modified>
  <cp:revision>29</cp:revision>
  <dc:subject/>
  <dc:title>Economia:…..</dc:title>
</cp:coreProperties>
</file>