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947-BEEB-49CE-A9E3-3B6AE3F1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336-6050-4CCF-BE37-68ED3645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145-2F80-4C9B-A14B-BD4E8C16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C91-CA45-4C03-922A-0B6E3C3C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2BDF-26F0-4127-AF3A-1D96C873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2A50-C33D-4E6D-90DD-7967E15F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332B-F928-4028-B20F-4568365A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E00C-A3F1-40CF-9E9B-B2270F08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FC9F-59C1-460B-BA96-13C6D91D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5046-DBBC-4DDF-AA3A-57B53064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D7B3-FE40-443F-9B67-5C11168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1D3-4026-430E-B985-A3E871CD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DB0F-07D5-4455-970C-19F3356D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0CC-5ACD-4EB1-9460-7C79D8C6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1B6E-1FCC-4EB7-A057-FED084B3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D339-3D1C-4738-8E6B-FDF5201F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2599-E208-4780-8F2A-D6AF1712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F46D2-1240-457D-8BBA-943B4519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82FCF-0974-441B-9968-475C4DB7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084D-14F1-4CCC-892C-D864A228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D7FE-3772-439C-84EE-B7B10A46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99DF-B57E-4272-ADF2-9C481677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1CAB-37D9-461E-9A88-F4B69CDC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169F-6EA6-4632-BF7D-B90E06D0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9247D-AC92-42BA-BDBA-41B52027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EC76-E361-454F-8C33-D1DA06A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D069-DA25-4436-BC38-CF3A806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805AE-DF7F-41B0-9701-B53C14D7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8C05A-A071-4F4E-9633-A3413415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7AB4-E86E-47B3-8A16-3CF058AD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530E5-7CF2-4A5A-BD58-FC001593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33EE-553F-401C-8CC0-E707F6DE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A1A0-A309-425C-B6CD-306CFD89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406-CB7F-4D09-90F6-3D536F23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211D-D935-461C-AB80-54433600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F22A-D5B3-4BDB-BA5E-AA32FAA3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F1C64-9850-4857-AA6B-E0ABA3C0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F1A6-69D5-4E05-AC85-209108C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F7332-8196-46E2-9133-F88B3106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ED8CE-836C-441C-ACB8-3F0BF620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7C9B4-62AE-4C99-B54B-9DB84E2C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3DE28-26ED-4FE5-8DE8-2874596F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35798-8D86-4396-A743-8647CC13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FD7CC-4E14-4329-B97D-6C116B66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E91-D0B5-4993-9FEA-F7FD66C8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C99C3-8507-4240-AD7E-76AC93FB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60DA0-EF66-444C-999C-9C470FDC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85562-1AFE-48B8-A395-B539A9DE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A9CF9-8EA1-4348-A818-38C9BB10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EBAA9-6C9A-4ABE-907C-14B00FA9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313B-02C2-4B9E-95F8-EC4E92A0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53792-30BD-4508-B493-263D6415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01612-9BDB-4BB7-AC94-954C060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F6C59-1E52-4452-88F0-3BCE4FE6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97C78-DC93-4D2E-94C2-0DCBE444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604-E4A2-4C97-80B0-DB05CFA4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4E0E1-8FAE-40D4-82B7-DDC209D9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24906-ACFC-4316-91EF-D2EBF845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03CA1-69E1-4C0D-8B2C-696C3D09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A59E5-1FB7-4D7B-BF44-0474B83D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49459-0FF7-44FA-A5ED-C91F64FF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A56CF-B91A-4705-BCE9-A3AC8F37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53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854EC-A998-480F-BFBF-8F2DF942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71865-6CE7-4809-9D51-7BB045DD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FE25D-C144-4A7D-AE6E-8B2D93F9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FEA08-FFFF-41D6-984D-06027BCC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DA0-50B0-47C9-95D8-45704FA3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B35C8-A0E2-4EA7-9C7C-5D1BFF80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BC477-DC99-49BA-AF95-29C0ACCA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198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44040" y="148392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198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44040" y="4079880"/>
            <a:ext cx="26895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AD688-BAA2-4357-877A-8F771C08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407988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D50-C209-4C1A-8458-264FA7E5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483920"/>
            <a:ext cx="40762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079880"/>
            <a:ext cx="835344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1AB-7D2F-4ED5-BFEB-FC9BF340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C2E4-B8BD-400A-AC34-86BA3580E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86B9-9A04-4103-BE74-8FDE7C76A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sto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9899-DF73-4A22-B3E0-92C05AF2C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A393-9E22-4A93-A895-8A59B2380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95280" y="148392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743040" indent="-28584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2" marL="11430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3" marL="16002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4" marL="2057400" indent="-228600">
              <a:spcBef>
                <a:spcPts val="7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173F-C9EC-4C16-9D08-C0866A195D4D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040" y="414972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0AFD-7EF1-4ACE-A984-72078A966215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sto MT"/>
            </a:endParaRPr>
          </a:p>
          <a:p>
            <a:pPr lvl="2" marL="914400" algn="ctr">
              <a:spcBef>
                <a:spcPts val="601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3" marL="13716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4" marL="1828800" algn="ctr">
              <a:spcBef>
                <a:spcPts val="499"/>
              </a:spcBef>
              <a:buClr>
                <a:srgbClr val="d18009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6040" y="4464000"/>
            <a:ext cx="8856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l Capital Humano en la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Calisto MT"/>
              </a:rPr>
              <a:t>Estrategia de Innovación de Chile</a:t>
            </a:r>
            <a:endParaRPr b="0" lang="en-US" sz="3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78920" y="5587920"/>
            <a:ext cx="88362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Nicolás Eyzaguirre G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La Estrategia de Innov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2568600"/>
            <a:ext cx="850716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form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de aprendizaje para toda la vida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,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El fortalecimiento de un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plataforma de generación, difusión y aplicación del conocimiento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que se funde en un esfuerzo permanente y robusto de investigación científica y tecnológica coherente con los problemas productivos y sociale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18009"/>
                </a:solidFill>
                <a:latin typeface="Calisto MT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La consolidación de u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sto MT"/>
              </a:rPr>
              <a:t>sistema empresarial innovador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orientado a la creación de valor como estrategia de competencia en los mercados globale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"/>
          <p:cNvSpPr/>
          <p:nvPr/>
        </p:nvSpPr>
        <p:spPr>
          <a:xfrm>
            <a:off x="325440" y="145908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Estrategia elaborada por el Consejo de Innovación se funda en tres pilares: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4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s grandes orientaciones del Volumen 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5" name=""/>
          <p:cNvSpPr/>
          <p:nvPr/>
        </p:nvSpPr>
        <p:spPr>
          <a:xfrm>
            <a:off x="482760" y="2049480"/>
            <a:ext cx="824040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vertir en nuestro capital humano es invertir tanto en competitividad como en equidad: fallas de mercado justifican el apoyo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innovación requiere de cambios culturales a nivel de individuos e instituciones (cultura organizacional y sector público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 requiere un gran salto en educación terciari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esgo a favor de la educación técn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o del Estado con foco en la demanda (estudiantes): créditos y bec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xigencia de calidad de la oferta es requisito para cualquier aporte públic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mación técnica y capacitación van de la mano: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Necesidad de formar masas críticas de capital humano especializado: conocimiento tácit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l tiempo importa: esfuerzo especial de selectividad para responder a requerimientos de sectores con potenc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2068560"/>
            <a:ext cx="854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formar un sistema de aprendizaje para toda la vida accesible y de calidad, que le permita al país contar con el capital humano que la Economía del Conocimiento demanda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9" name=""/>
          <p:cNvSpPr/>
          <p:nvPr/>
        </p:nvSpPr>
        <p:spPr>
          <a:xfrm>
            <a:off x="148608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"/>
          <p:cNvSpPr/>
          <p:nvPr/>
        </p:nvSpPr>
        <p:spPr>
          <a:xfrm>
            <a:off x="361332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"/>
          <p:cNvSpPr/>
          <p:nvPr/>
        </p:nvSpPr>
        <p:spPr>
          <a:xfrm>
            <a:off x="5740560" y="39178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"/>
          <p:cNvSpPr/>
          <p:nvPr/>
        </p:nvSpPr>
        <p:spPr>
          <a:xfrm>
            <a:off x="1298520" y="3478320"/>
            <a:ext cx="655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Tres grandes líneas de acción en el capítulo de Capital Humano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3" name=""/>
          <p:cNvSpPr/>
          <p:nvPr/>
        </p:nvSpPr>
        <p:spPr>
          <a:xfrm>
            <a:off x="2263680" y="4989600"/>
            <a:ext cx="58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Ciencia                                             Innovación Empresarial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"/>
          <p:cNvSpPr/>
          <p:nvPr/>
        </p:nvSpPr>
        <p:spPr>
          <a:xfrm>
            <a:off x="1793880" y="540396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"/>
          <p:cNvSpPr/>
          <p:nvPr/>
        </p:nvSpPr>
        <p:spPr>
          <a:xfrm>
            <a:off x="4441680" y="5416560"/>
            <a:ext cx="187992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6" name=""/>
          <p:cNvSpPr/>
          <p:nvPr/>
        </p:nvSpPr>
        <p:spPr>
          <a:xfrm>
            <a:off x="1293840" y="4761000"/>
            <a:ext cx="65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sto MT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5410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ticulación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"/>
          <p:cNvSpPr/>
          <p:nvPr/>
        </p:nvSpPr>
        <p:spPr>
          <a:xfrm>
            <a:off x="322200" y="2897280"/>
            <a:ext cx="8526600" cy="34257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Consolidar mecanismos de articulación: entre niveles de formación y capacitación, y entre éstas y el mercado laboral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Sistema de certificación de competencias laborales (con participación del mundo productivo en la definición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rmonizar procesos formativos para dar más flexibilidad al sistema y asegurar competencia entre oferentes de formación. (Ej. Créditos transferibles)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conocimiento del aprendizaje obtenido en instancias no formales (mejora la empleabilidad de los trabajadores y ayuda al proceso de formación continua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3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alidad y pertinenci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"/>
          <p:cNvSpPr/>
          <p:nvPr/>
        </p:nvSpPr>
        <p:spPr>
          <a:xfrm>
            <a:off x="328680" y="2903400"/>
            <a:ext cx="8513640" cy="296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la calidad y pertinencia de la formación y la capacitación a través de modelos de evaluación que apunten a la medición de resultad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la acreditación de la oferta de pre y post grad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mplementar la acreditación de la formación y capacitación técnicas sobre la base del sistema de certificación de competencias laboral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Fortalecer sistemas de información para orientar y retroalimentar a los actores del sistem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7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8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9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umentar cobertura con foco en el apoyo a la formación terciaria de jóvenes de menores ingresos (en especial técnicos) y en la capacitación de trabajadores de las empresas de menor tamaño relativo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onsolidar el actual sistema de Crédito con Aval del Estado como el principal sistema de financiamiento para la formación técnica y profesion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erfeccionar cobranza y focalización del Crédito Universitario Solidario y perfeccionar el crédito Corfo (foco en educación continua y postgrados profesionale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Potenciar becas (aranceles y mantención) para quintiles más pobres, ajustando monto de los beneficios (costo de oportunidad y costos de las carreras)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Reorientar el apoyo público a la capacitación de acuerdo a las necesidades de los trabajadores, y focalizar la franquicia Sence en pequeñ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Cienc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2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tación de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3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Asegurar una dotación de científicos capaz de abordar los desafíos del paí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umentar aporte público para becas de postgrado (con foco en formación de investigadores), elevando el valor de las becas nacionales e internacionales, exigiendo calidad a la oferta de formación y estimulando la graduación en menos tiemp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Estimular y fortalecer la oferta de programas de doctorado nacionales con orientación estratégic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incorporación de investigadores nuevos al sistema y la reinserción tanto en la academia como en las empresas de los nuevos doctore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traer investigadores formados en el extranjero para cubrir brechas coyunturales en áreas prioritari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5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6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estión de la Innovación e I+D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Incorporar capital humano para la gestión de la innovación y para el desarrollo de I+D en las empresas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Poner en marcha un programa de formación en habilidades de gestión de la innovación a través de créditos con garantía estatal u otras formas de apoyo pertinente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sto MT"/>
              </a:rPr>
              <a:t>Apoyar con recursos públicos la inserción en las empresas de personal especializado en la gestión de la innovación y en el desarrollo de la I+D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Apoyar la formación de capital humano especializado en Propiedad Intelectu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Desarrollar un sistema de garantías estatales para créditos para financiar la adquisición de activos intangibles, especialmente en empresas de menor tamaño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strategia: foco en Capital Humano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9" name=""/>
          <p:cNvSpPr/>
          <p:nvPr/>
        </p:nvSpPr>
        <p:spPr>
          <a:xfrm>
            <a:off x="297000" y="1433520"/>
            <a:ext cx="85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propuesta del Volumen II en Innovación Empresaria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"/>
          <p:cNvSpPr/>
          <p:nvPr/>
        </p:nvSpPr>
        <p:spPr>
          <a:xfrm>
            <a:off x="511200" y="196200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uster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" y="2898720"/>
            <a:ext cx="8871120" cy="347652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El capital humano como plataforma transversal en los sectores prioritari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 gran demanda que emerge es disponer de competencias específicas en la fuerza laboral para cada sector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as hojas de ruta de los ocho clusters estudiados por el Consejo consideran necesidades de los sectores tanto en formación profesional como técnica. Ej. habilidades en inglés para offshoring; técnicos para fruticultura y turismo; técnicos y profesionales (investigadores) para acuicultura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spcBef>
                <a:spcPts val="1125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Los sectores productivos demandan sistemas de certificación que señalicen en quiénes existen las competencias requeridas y faciliten así la relación entre oferentes y demandantes en el mercado labor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5440" y="476280"/>
            <a:ext cx="8818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sto MT"/>
              </a:rPr>
              <a:t>En síntesis</a:t>
            </a:r>
            <a:endParaRPr b="0" lang="en-US" sz="3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93" name=""/>
          <p:cNvSpPr/>
          <p:nvPr/>
        </p:nvSpPr>
        <p:spPr>
          <a:xfrm>
            <a:off x="297000" y="1433520"/>
            <a:ext cx="85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problema de la innovación es sistémico y es necesario integrar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"/>
          <p:cNvSpPr/>
          <p:nvPr/>
        </p:nvSpPr>
        <p:spPr>
          <a:xfrm>
            <a:off x="1268280" y="3205080"/>
            <a:ext cx="1879560" cy="83844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"/>
          <p:cNvSpPr/>
          <p:nvPr/>
        </p:nvSpPr>
        <p:spPr>
          <a:xfrm>
            <a:off x="272880" y="4770360"/>
            <a:ext cx="4299120" cy="17924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personas con educación terciaria, en especial de técnic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Más científicos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Más trabajadores capacitados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"/>
          <p:cNvSpPr/>
          <p:nvPr/>
        </p:nvSpPr>
        <p:spPr>
          <a:xfrm>
            <a:off x="5014800" y="4770360"/>
            <a:ext cx="4299120" cy="21700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0" anchor="t">
            <a:no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Demandas específicas de los  sector productivos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Participación de los privados en la definición de perfiles de competencia laboral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7" name=""/>
          <p:cNvSpPr/>
          <p:nvPr/>
        </p:nvSpPr>
        <p:spPr>
          <a:xfrm>
            <a:off x="5994360" y="3203640"/>
            <a:ext cx="1879560" cy="838080"/>
          </a:xfrm>
          <a:prstGeom prst="roundRect">
            <a:avLst>
              <a:gd name="adj" fmla="val 16667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"/>
          <p:cNvSpPr/>
          <p:nvPr/>
        </p:nvSpPr>
        <p:spPr>
          <a:xfrm>
            <a:off x="3294000" y="3147840"/>
            <a:ext cx="2554200" cy="914400"/>
          </a:xfrm>
          <a:prstGeom prst="leftRightArrow">
            <a:avLst>
              <a:gd name="adj1" fmla="val 84722"/>
              <a:gd name="adj2" fmla="val 55905"/>
            </a:avLst>
          </a:prstGeom>
          <a:solidFill>
            <a:srgbClr val="a0e2fa">
              <a:alpha val="20000"/>
            </a:srgbClr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sto MT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90520" y="1227240"/>
            <a:ext cx="129384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7160" y="2198520"/>
            <a:ext cx="7398000" cy="32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En la era de la competencia y del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28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progreso tecnológico, la clave de la prosperidad vendrá de una fuerza de trabajo creativa, calificada, que sabe producir ideas, bienes y servicios intensivos en conocimiento, empleada en empresas capaces de innovar, de adoptar las tecnologías más modernas y de vender en el mundo entero bienes y servicios perfeccionados.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862600" y="3087000"/>
            <a:ext cx="194472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Calisto MT"/>
              </a:rPr>
              <a:t>“</a:t>
            </a:r>
            <a:endParaRPr b="0" lang="en-US" sz="20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5977080"/>
            <a:ext cx="6745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 algn="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sto MT"/>
              </a:rPr>
              <a:t>Ángel Gurría</a:t>
            </a:r>
            <a:r>
              <a:rPr b="0" i="1" lang="es-ES" sz="2200" spc="-1" strike="noStrike">
                <a:solidFill>
                  <a:srgbClr val="000000"/>
                </a:solidFill>
                <a:latin typeface="Calisto MT"/>
              </a:rPr>
              <a:t>, secretario general de la OCDE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3240" indent="-32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sto MT"/>
              </a:rPr>
              <a:t>mayo de 2007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"/>
          <p:cNvSpPr/>
          <p:nvPr/>
        </p:nvSpPr>
        <p:spPr>
          <a:xfrm>
            <a:off x="2935440" y="6012000"/>
            <a:ext cx="6002280" cy="0"/>
          </a:xfrm>
          <a:prstGeom prst="line">
            <a:avLst/>
          </a:prstGeom>
          <a:ln cap="sq"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sto MT"/>
              </a:rPr>
              <a:t>Consenso global</a:t>
            </a:r>
            <a:endParaRPr b="0" lang="en-US" sz="36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Dos tendencias marcan el futur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4280" y="1541160"/>
            <a:ext cx="8628120" cy="30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El avance insoslayable de la globalización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mercados para exportaciones y nuevos bienes para consumo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-114120"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Nuevos competidores en mercados ya conquistados</a:t>
            </a: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lvl="1" marL="477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sto MT"/>
            </a:endParaRPr>
          </a:p>
          <a:p>
            <a:pPr marL="184320" indent="-184320">
              <a:spcBef>
                <a:spcPts val="180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a calidad d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apital humano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, el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conocimiento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y la </a:t>
            </a:r>
            <a:r>
              <a:rPr b="1" lang="en-US" sz="2400" spc="-1" strike="noStrike">
                <a:solidFill>
                  <a:srgbClr val="ffffff"/>
                </a:solidFill>
                <a:latin typeface="Calisto MT"/>
              </a:rPr>
              <a:t>innovación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son los nuevos motores de la competitividad y el desarrollo.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Chile requiere más “inspiración”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5" name=""/>
          <p:cNvSpPr/>
          <p:nvPr/>
        </p:nvSpPr>
        <p:spPr>
          <a:xfrm>
            <a:off x="1077840" y="3848040"/>
            <a:ext cx="2413080" cy="2705040"/>
          </a:xfrm>
          <a:prstGeom prst="rect">
            <a:avLst/>
          </a:prstGeom>
          <a:gradFill rotWithShape="0">
            <a:gsLst>
              <a:gs pos="0">
                <a:srgbClr val="dddddd">
                  <a:alpha val="20000"/>
                </a:srgbClr>
              </a:gs>
              <a:gs pos="100000">
                <a:srgbClr val="0019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"/>
          <p:cNvSpPr/>
          <p:nvPr/>
        </p:nvSpPr>
        <p:spPr>
          <a:xfrm>
            <a:off x="121752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"/>
          <p:cNvSpPr/>
          <p:nvPr/>
        </p:nvSpPr>
        <p:spPr>
          <a:xfrm>
            <a:off x="2678040" y="3962520"/>
            <a:ext cx="719280" cy="2158920"/>
          </a:xfrm>
          <a:prstGeom prst="rect">
            <a:avLst/>
          </a:prstGeom>
          <a:solidFill>
            <a:srgbClr val="dddddd">
              <a:alpha val="15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"/>
          <p:cNvSpPr/>
          <p:nvPr/>
        </p:nvSpPr>
        <p:spPr>
          <a:xfrm>
            <a:off x="907920" y="3338640"/>
            <a:ext cx="429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sto MT"/>
              </a:rPr>
              <a:t>Aporte de la PTF al crecimiento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"/>
          <p:cNvSpPr/>
          <p:nvPr/>
        </p:nvSpPr>
        <p:spPr>
          <a:xfrm>
            <a:off x="1166760" y="610884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CHILE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0" name=""/>
          <p:cNvSpPr/>
          <p:nvPr/>
        </p:nvSpPr>
        <p:spPr>
          <a:xfrm>
            <a:off x="2589120" y="6108840"/>
            <a:ext cx="88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Otros países*</a:t>
            </a:r>
            <a:r>
              <a:rPr b="0" lang="en-US" sz="1400" spc="-1" strike="noStrike">
                <a:solidFill>
                  <a:srgbClr val="b2b2b2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1" name=""/>
          <p:cNvSpPr/>
          <p:nvPr/>
        </p:nvSpPr>
        <p:spPr>
          <a:xfrm>
            <a:off x="1077840" y="3822840"/>
            <a:ext cx="2413080" cy="0"/>
          </a:xfrm>
          <a:prstGeom prst="line">
            <a:avLst/>
          </a:prstGeom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2" name=""/>
          <p:cNvSpPr/>
          <p:nvPr/>
        </p:nvSpPr>
        <p:spPr>
          <a:xfrm>
            <a:off x="1065240" y="6591240"/>
            <a:ext cx="24130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"/>
          <p:cNvSpPr/>
          <p:nvPr/>
        </p:nvSpPr>
        <p:spPr>
          <a:xfrm>
            <a:off x="3648240" y="6381720"/>
            <a:ext cx="47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 Narrow"/>
              </a:rPr>
              <a:t>* Bálticos, Europa del Este y países de rápido crecimiento de Asia.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17520" y="5041800"/>
            <a:ext cx="2179440" cy="1087560"/>
            <a:chOff x="1217520" y="5041800"/>
            <a:chExt cx="2179440" cy="1087560"/>
          </a:xfrm>
        </p:grpSpPr>
        <p:sp>
          <p:nvSpPr>
            <p:cNvPr id="265" name=""/>
            <p:cNvSpPr/>
            <p:nvPr/>
          </p:nvSpPr>
          <p:spPr>
            <a:xfrm>
              <a:off x="1217520" y="5626080"/>
              <a:ext cx="718920" cy="50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78040" y="5041800"/>
              <a:ext cx="718920" cy="1079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672000" y="4626000"/>
            <a:ext cx="4925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Según estimaciones de la Economist Intelligence Unit, la PTF explicaría menos de un cuarto del crecimiento proyectado para Chile para el período 2007-2011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100000"/>
              </a:lnSpc>
              <a:buClr>
                <a:srgbClr val="d180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 Narrow"/>
              </a:rPr>
              <a:t>En países competidores, el aporte de la PTF explicaría entre el 30% y 50% del crecimiento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"/>
          <p:cNvSpPr/>
          <p:nvPr/>
        </p:nvSpPr>
        <p:spPr>
          <a:xfrm>
            <a:off x="474840" y="1468440"/>
            <a:ext cx="84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l crecimiento de la PTF depende de muchos factores, pero, por sobre todo, de la dinámica y diseminación del conocimiento, del cambio tecnológico, de las capacidades y el esfuerzo de las personas y de la innovación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Brechas que condicionan el crecimien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0" name=""/>
          <p:cNvSpPr/>
          <p:nvPr/>
        </p:nvSpPr>
        <p:spPr>
          <a:xfrm>
            <a:off x="474840" y="1582560"/>
            <a:ext cx="846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Más allá del buen desempeño macroeconómico o el buen nivel de las instituciones y los mercados, Chile muestra importantes debilidades en las áreas claves para el crecimiento de la PTF: educación, innovación, infraestructura y preparación tecnológica</a:t>
            </a:r>
            <a:r>
              <a:rPr b="0" lang="es-MX" sz="2000" spc="-1" strike="noStrike">
                <a:solidFill>
                  <a:srgbClr val="ffffff"/>
                </a:solidFill>
                <a:latin typeface="Calisto MT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Calisto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1" name=""/>
          <p:cNvSpPr/>
          <p:nvPr/>
        </p:nvSpPr>
        <p:spPr>
          <a:xfrm>
            <a:off x="3252960" y="6562800"/>
            <a:ext cx="344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246480" y="3450960"/>
            <a:ext cx="0" cy="3105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"/>
          <p:cNvSpPr/>
          <p:nvPr/>
        </p:nvSpPr>
        <p:spPr>
          <a:xfrm>
            <a:off x="5081760" y="662004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osición en el ranking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4" name=""/>
          <p:cNvSpPr/>
          <p:nvPr/>
        </p:nvSpPr>
        <p:spPr>
          <a:xfrm>
            <a:off x="3195000" y="657072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65707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6" name=""/>
          <p:cNvSpPr/>
          <p:nvPr/>
        </p:nvSpPr>
        <p:spPr>
          <a:xfrm>
            <a:off x="994680" y="3486240"/>
            <a:ext cx="2268720" cy="31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Macroeconomí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Trabaj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Mdo. Financier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ficiencia Mdo. Bie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fraestructur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ofisticación de negocios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Ed. Superior y Capacit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Preparación tecnológic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Innovación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Tamaño del mercado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rebuchet MS"/>
              </a:rPr>
              <a:t>Salud y Ed. Primar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640" y="5299200"/>
            <a:ext cx="3130560" cy="1212840"/>
            <a:chOff x="3284640" y="5299200"/>
            <a:chExt cx="3130560" cy="1212840"/>
          </a:xfrm>
        </p:grpSpPr>
        <p:sp>
          <p:nvSpPr>
            <p:cNvPr id="278" name=""/>
            <p:cNvSpPr/>
            <p:nvPr/>
          </p:nvSpPr>
          <p:spPr>
            <a:xfrm>
              <a:off x="3284640" y="529920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84640" y="5551560"/>
              <a:ext cx="150480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84640" y="5797800"/>
              <a:ext cx="1612800" cy="215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4640" y="6050160"/>
              <a:ext cx="16761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84640" y="6296040"/>
              <a:ext cx="3130560" cy="216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6040" y="5330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55771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11680" y="58309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560" y="60850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7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65720" y="633888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219480" y="3119400"/>
            <a:ext cx="571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sto MT"/>
              </a:rPr>
              <a:t>Chile en el ranking de Competitividad Global (WEF)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284640" y="3514680"/>
            <a:ext cx="1038240" cy="722160"/>
            <a:chOff x="3284640" y="3514680"/>
            <a:chExt cx="1038240" cy="722160"/>
          </a:xfrm>
        </p:grpSpPr>
        <p:sp>
          <p:nvSpPr>
            <p:cNvPr id="290" name=""/>
            <p:cNvSpPr/>
            <p:nvPr/>
          </p:nvSpPr>
          <p:spPr>
            <a:xfrm>
              <a:off x="3284640" y="3514680"/>
              <a:ext cx="350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84640" y="3767040"/>
              <a:ext cx="431640" cy="21564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5760" y="35478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81200" y="380664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84640" y="4020840"/>
              <a:ext cx="984240" cy="21600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1360" y="4060440"/>
              <a:ext cx="3715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284640" y="4275000"/>
            <a:ext cx="1120680" cy="981000"/>
            <a:chOff x="3284640" y="4275000"/>
            <a:chExt cx="1120680" cy="981000"/>
          </a:xfrm>
        </p:grpSpPr>
        <p:sp>
          <p:nvSpPr>
            <p:cNvPr id="297" name=""/>
            <p:cNvSpPr/>
            <p:nvPr/>
          </p:nvSpPr>
          <p:spPr>
            <a:xfrm>
              <a:off x="3284640" y="4781160"/>
              <a:ext cx="10922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84640" y="5040000"/>
              <a:ext cx="111744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2560" y="48225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30720" y="507672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84640" y="4275000"/>
              <a:ext cx="1022400" cy="215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03640" y="431460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84640" y="4528800"/>
              <a:ext cx="1060200" cy="2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41800" y="4568760"/>
              <a:ext cx="1746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968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327640" y="3925800"/>
            <a:ext cx="36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 Narrow"/>
              </a:rPr>
              <a:t>En 2007 Chile ocupó la posición 27 en el ranking general de competitividad del Foro Económico Mundial.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7" name=""/>
          <p:cNvSpPr/>
          <p:nvPr/>
        </p:nvSpPr>
        <p:spPr>
          <a:xfrm>
            <a:off x="417600" y="1454040"/>
            <a:ext cx="82566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sto MT"/>
              </a:rPr>
              <a:t>Existe pleno consenso en Chile sobre la urgencia de una reforma profunda en la educación que permita mejorar los niveles de capital humano para responder a los desafíos que nos el futuro.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Cobertura y calidad son debilidades ampliamente reconocidas en Chile y deben ser abordadas con urgencia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Pero existe también una brecha de financiamiento, que se relaciona con las dos primeras. 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obertura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480" y="1383840"/>
            <a:ext cx="8510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800"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Nivel educacional promedio de nuestra fuerza de trabajo está por debajo de lo que corresponde a nuestro nivel de ingreso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10800">
              <a:spcBef>
                <a:spcPts val="1250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Existe un fuerte déficit de cobertura en educación terciaria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0" name=""/>
          <p:cNvSpPr/>
          <p:nvPr/>
        </p:nvSpPr>
        <p:spPr>
          <a:xfrm>
            <a:off x="1889280" y="6095880"/>
            <a:ext cx="5181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884240" y="3432240"/>
            <a:ext cx="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2" name=""/>
          <p:cNvSpPr/>
          <p:nvPr/>
        </p:nvSpPr>
        <p:spPr>
          <a:xfrm>
            <a:off x="2043000" y="5610240"/>
            <a:ext cx="32400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"/>
          <p:cNvSpPr/>
          <p:nvPr/>
        </p:nvSpPr>
        <p:spPr>
          <a:xfrm>
            <a:off x="2911320" y="5175360"/>
            <a:ext cx="32400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4" name=""/>
          <p:cNvSpPr/>
          <p:nvPr/>
        </p:nvSpPr>
        <p:spPr>
          <a:xfrm>
            <a:off x="3751200" y="5479920"/>
            <a:ext cx="32400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"/>
          <p:cNvSpPr/>
          <p:nvPr/>
        </p:nvSpPr>
        <p:spPr>
          <a:xfrm>
            <a:off x="4589640" y="5407200"/>
            <a:ext cx="32364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"/>
          <p:cNvSpPr/>
          <p:nvPr/>
        </p:nvSpPr>
        <p:spPr>
          <a:xfrm>
            <a:off x="5415120" y="5479920"/>
            <a:ext cx="323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48160"/>
            <a:ext cx="324000" cy="741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8" name=""/>
          <p:cNvSpPr/>
          <p:nvPr/>
        </p:nvSpPr>
        <p:spPr>
          <a:xfrm>
            <a:off x="2390760" y="511668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9" name=""/>
          <p:cNvSpPr/>
          <p:nvPr/>
        </p:nvSpPr>
        <p:spPr>
          <a:xfrm>
            <a:off x="3259080" y="407196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"/>
          <p:cNvSpPr/>
          <p:nvPr/>
        </p:nvSpPr>
        <p:spPr>
          <a:xfrm>
            <a:off x="4097160" y="4622760"/>
            <a:ext cx="32400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475452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"/>
          <p:cNvSpPr/>
          <p:nvPr/>
        </p:nvSpPr>
        <p:spPr>
          <a:xfrm>
            <a:off x="5761080" y="4362480"/>
            <a:ext cx="32364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3" name=""/>
          <p:cNvSpPr/>
          <p:nvPr/>
        </p:nvSpPr>
        <p:spPr>
          <a:xfrm>
            <a:off x="6585120" y="4433760"/>
            <a:ext cx="323640" cy="165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"/>
          <p:cNvSpPr/>
          <p:nvPr/>
        </p:nvSpPr>
        <p:spPr>
          <a:xfrm>
            <a:off x="1778040" y="2909880"/>
            <a:ext cx="5546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orcentaje de matrícula en educación terciari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60560" y="3479760"/>
            <a:ext cx="1131840" cy="338040"/>
            <a:chOff x="1960560" y="3479760"/>
            <a:chExt cx="1131840" cy="338040"/>
          </a:xfrm>
        </p:grpSpPr>
        <p:sp>
          <p:nvSpPr>
            <p:cNvPr id="326" name=""/>
            <p:cNvSpPr/>
            <p:nvPr/>
          </p:nvSpPr>
          <p:spPr>
            <a:xfrm>
              <a:off x="2193840" y="3483000"/>
              <a:ext cx="290520" cy="13644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62120" y="3479760"/>
              <a:ext cx="290520" cy="1364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0560" y="3602160"/>
              <a:ext cx="1131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991  2004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846440" y="6172200"/>
            <a:ext cx="52243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           Corea        Estonia        Irlanda       Letonia      Lituania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90800" y="5211720"/>
            <a:ext cx="4630680" cy="628920"/>
            <a:chOff x="1990800" y="5211720"/>
            <a:chExt cx="4630680" cy="628920"/>
          </a:xfrm>
        </p:grpSpPr>
        <p:sp>
          <p:nvSpPr>
            <p:cNvPr id="331" name=""/>
            <p:cNvSpPr/>
            <p:nvPr/>
          </p:nvSpPr>
          <p:spPr>
            <a:xfrm>
              <a:off x="1990800" y="560088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868480" y="5211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706920" y="548784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25920" y="54403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64000" y="54975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92720" y="5392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344680" y="4087800"/>
            <a:ext cx="4619520" cy="1287360"/>
            <a:chOff x="2344680" y="4087800"/>
            <a:chExt cx="4619520" cy="1287360"/>
          </a:xfrm>
        </p:grpSpPr>
        <p:sp>
          <p:nvSpPr>
            <p:cNvPr id="338" name=""/>
            <p:cNvSpPr/>
            <p:nvPr/>
          </p:nvSpPr>
          <p:spPr>
            <a:xfrm>
              <a:off x="2344680" y="51354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480" y="408780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8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9640" y="464976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65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69000" y="47736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97360" y="4392720"/>
              <a:ext cx="4287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6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35800" y="4478400"/>
              <a:ext cx="428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73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384200" y="3321000"/>
            <a:ext cx="7336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Calidad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98600" y="1444680"/>
            <a:ext cx="7688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sto MT"/>
              </a:rPr>
              <a:t>Sólo es posible dar un gran salto en educación terciaria (técnica y universitaria) si se eleva la calidad de la educación.</a:t>
            </a:r>
            <a:endParaRPr b="0" lang="en-US" sz="2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"/>
          <p:cNvSpPr/>
          <p:nvPr/>
        </p:nvSpPr>
        <p:spPr>
          <a:xfrm>
            <a:off x="1335240" y="6365880"/>
            <a:ext cx="7673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Narrow"/>
              </a:rPr>
              <a:t>Brechas similares de desempeño se observan en las pruebas de Matemáticas y Ciencias.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8" name=""/>
          <p:cNvSpPr/>
          <p:nvPr/>
        </p:nvSpPr>
        <p:spPr>
          <a:xfrm>
            <a:off x="1257480" y="2597040"/>
            <a:ext cx="3987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Resultados Prueba PISA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(Comprensión Lectora)</a:t>
            </a:r>
            <a:endParaRPr b="0" lang="en-US" sz="1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9" name=""/>
          <p:cNvSpPr/>
          <p:nvPr/>
        </p:nvSpPr>
        <p:spPr>
          <a:xfrm>
            <a:off x="1457280" y="517680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"/>
          <p:cNvSpPr/>
          <p:nvPr/>
        </p:nvSpPr>
        <p:spPr>
          <a:xfrm>
            <a:off x="1444680" y="3373560"/>
            <a:ext cx="0" cy="180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984960" y="3127320"/>
            <a:ext cx="595080" cy="2095200"/>
            <a:chOff x="984960" y="3127320"/>
            <a:chExt cx="595080" cy="2095200"/>
          </a:xfrm>
        </p:grpSpPr>
        <p:sp>
          <p:nvSpPr>
            <p:cNvPr id="352" name=""/>
            <p:cNvSpPr/>
            <p:nvPr/>
          </p:nvSpPr>
          <p:spPr>
            <a:xfrm>
              <a:off x="1097280" y="50068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97280" y="4491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4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97280" y="395748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97280" y="341136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5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960" y="3127320"/>
              <a:ext cx="59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Puntos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412640" y="5214960"/>
            <a:ext cx="5685120" cy="215640"/>
            <a:chOff x="1412640" y="5214960"/>
            <a:chExt cx="5685120" cy="215640"/>
          </a:xfrm>
        </p:grpSpPr>
        <p:sp>
          <p:nvSpPr>
            <p:cNvPr id="358" name=""/>
            <p:cNvSpPr/>
            <p:nvPr/>
          </p:nvSpPr>
          <p:spPr>
            <a:xfrm>
              <a:off x="1412640" y="521496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769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964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4268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25360" y="5214960"/>
              <a:ext cx="572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727360" y="4732200"/>
            <a:ext cx="330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"/>
          <p:cNvSpPr/>
          <p:nvPr/>
        </p:nvSpPr>
        <p:spPr>
          <a:xfrm>
            <a:off x="7111800" y="508320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"/>
          <p:cNvSpPr/>
          <p:nvPr/>
        </p:nvSpPr>
        <p:spPr>
          <a:xfrm>
            <a:off x="3413160" y="4618080"/>
            <a:ext cx="62244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33333"/>
              <a:gd name="adj6" fmla="val -8367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rebuchet MS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"/>
          <p:cNvSpPr/>
          <p:nvPr/>
        </p:nvSpPr>
        <p:spPr>
          <a:xfrm>
            <a:off x="2803680" y="495144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865600" y="5621400"/>
            <a:ext cx="4487760" cy="550800"/>
            <a:chOff x="2865600" y="5621400"/>
            <a:chExt cx="4487760" cy="550800"/>
          </a:xfrm>
        </p:grpSpPr>
        <p:sp>
          <p:nvSpPr>
            <p:cNvPr id="368" name=""/>
            <p:cNvSpPr/>
            <p:nvPr/>
          </p:nvSpPr>
          <p:spPr>
            <a:xfrm>
              <a:off x="2905200" y="562140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Austral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anadá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Dinamarc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Finlandi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Leton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Nva. Zelanda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Suec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Tailandia 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s-ES" sz="1000" spc="-1" strike="noStrike">
                  <a:solidFill>
                    <a:srgbClr val="ffffff"/>
                  </a:solidFill>
                  <a:latin typeface="Trebuchet MS"/>
                </a:rPr>
                <a:t>     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08440" y="571644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08440" y="5867280"/>
              <a:ext cx="7632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05360" y="571500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05360" y="58611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98720" y="571500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98720" y="586728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65600" y="570852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5600" y="5861160"/>
              <a:ext cx="7596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5600" y="6013440"/>
              <a:ext cx="7596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56080" y="605952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847880" y="3508200"/>
            <a:ext cx="4670280" cy="1420920"/>
            <a:chOff x="1847880" y="3508200"/>
            <a:chExt cx="4670280" cy="1420920"/>
          </a:xfrm>
        </p:grpSpPr>
        <p:sp>
          <p:nvSpPr>
            <p:cNvPr id="380" name=""/>
            <p:cNvSpPr/>
            <p:nvPr/>
          </p:nvSpPr>
          <p:spPr>
            <a:xfrm>
              <a:off x="1971720" y="4452840"/>
              <a:ext cx="7632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00480" y="4087800"/>
              <a:ext cx="75960" cy="7632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25880" y="3720960"/>
              <a:ext cx="76320" cy="76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4240" y="362592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0480" y="3697200"/>
              <a:ext cx="75960" cy="7632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726080" y="376884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40480" y="381780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70520" y="38336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6080" y="350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6520" y="353232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53120" y="363996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1480" y="3703680"/>
              <a:ext cx="7632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86400" y="4029120"/>
              <a:ext cx="7632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42200" y="410220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47880" y="4749840"/>
              <a:ext cx="76320" cy="7632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63880" y="4853160"/>
              <a:ext cx="75960" cy="75960"/>
            </a:xfrm>
            <a:prstGeom prst="ellipse">
              <a:avLst/>
            </a:prstGeom>
            <a:solidFill>
              <a:srgbClr val="a0e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V="1">
            <a:off x="1909800" y="3665160"/>
            <a:ext cx="4572000" cy="80316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353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res brechas en Educación: Gasto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0680" y="1459080"/>
            <a:ext cx="4703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d18009"/>
              </a:buClr>
              <a:buSzPct val="75000"/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¿Estamos gastando lo suficiente?</a:t>
            </a:r>
            <a:endParaRPr b="0" lang="en-US" sz="24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/>
          <p:nvPr/>
        </p:nvSpPr>
        <p:spPr>
          <a:xfrm>
            <a:off x="1638360" y="5438880"/>
            <a:ext cx="5686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"/>
          <p:cNvSpPr/>
          <p:nvPr/>
        </p:nvSpPr>
        <p:spPr>
          <a:xfrm>
            <a:off x="1638360" y="3622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1" name=""/>
          <p:cNvSpPr/>
          <p:nvPr/>
        </p:nvSpPr>
        <p:spPr>
          <a:xfrm>
            <a:off x="1426320" y="519264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"/>
          <p:cNvSpPr/>
          <p:nvPr/>
        </p:nvSpPr>
        <p:spPr>
          <a:xfrm>
            <a:off x="1357200" y="471492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"/>
          <p:cNvSpPr/>
          <p:nvPr/>
        </p:nvSpPr>
        <p:spPr>
          <a:xfrm>
            <a:off x="1357200" y="42321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4" name=""/>
          <p:cNvSpPr/>
          <p:nvPr/>
        </p:nvSpPr>
        <p:spPr>
          <a:xfrm>
            <a:off x="1357200" y="3762360"/>
            <a:ext cx="3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3649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% del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Ingreso 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6" name=""/>
          <p:cNvSpPr/>
          <p:nvPr/>
        </p:nvSpPr>
        <p:spPr>
          <a:xfrm>
            <a:off x="1896480" y="5519880"/>
            <a:ext cx="2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"/>
          <p:cNvSpPr/>
          <p:nvPr/>
        </p:nvSpPr>
        <p:spPr>
          <a:xfrm>
            <a:off x="3313080" y="5519880"/>
            <a:ext cx="50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"/>
          <p:cNvSpPr/>
          <p:nvPr/>
        </p:nvSpPr>
        <p:spPr>
          <a:xfrm>
            <a:off x="49834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0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"/>
          <p:cNvSpPr/>
          <p:nvPr/>
        </p:nvSpPr>
        <p:spPr>
          <a:xfrm>
            <a:off x="6812280" y="5519880"/>
            <a:ext cx="57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15.000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0" name=""/>
          <p:cNvSpPr/>
          <p:nvPr/>
        </p:nvSpPr>
        <p:spPr>
          <a:xfrm>
            <a:off x="7407360" y="5372280"/>
            <a:ext cx="77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IB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per cápita</a:t>
            </a:r>
            <a:endParaRPr b="0" lang="en-US" sz="1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"/>
          <p:cNvSpPr/>
          <p:nvPr/>
        </p:nvSpPr>
        <p:spPr>
          <a:xfrm>
            <a:off x="1474200" y="2932200"/>
            <a:ext cx="529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Gasto público en educación por habitante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en edad escolar (% del PIB per cápita) y PIB per cápita</a:t>
            </a:r>
            <a:endParaRPr b="0" lang="en-US" sz="16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056040" y="5942160"/>
            <a:ext cx="4487760" cy="550800"/>
            <a:chOff x="3056040" y="5942160"/>
            <a:chExt cx="4487760" cy="550800"/>
          </a:xfrm>
        </p:grpSpPr>
        <p:sp>
          <p:nvSpPr>
            <p:cNvPr id="413" name=""/>
            <p:cNvSpPr/>
            <p:nvPr/>
          </p:nvSpPr>
          <p:spPr>
            <a:xfrm>
              <a:off x="3095640" y="5942160"/>
              <a:ext cx="4448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hin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ore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Es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I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eton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Lituania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Malasia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Tailandia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Tendencia promedio</a:t>
              </a:r>
              <a:endParaRPr b="0" lang="en-US" sz="10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8880" y="6037200"/>
              <a:ext cx="76320" cy="76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98880" y="6188040"/>
              <a:ext cx="76320" cy="76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6160" y="6035760"/>
              <a:ext cx="7596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96160" y="6181560"/>
              <a:ext cx="75960" cy="763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89520" y="6035760"/>
              <a:ext cx="7596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89520" y="6188040"/>
              <a:ext cx="75960" cy="763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56040" y="6029280"/>
              <a:ext cx="75960" cy="7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56040" y="6181560"/>
              <a:ext cx="7596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46880" y="6380280"/>
              <a:ext cx="52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137120" y="4545000"/>
            <a:ext cx="2450880" cy="836640"/>
            <a:chOff x="4137120" y="4545000"/>
            <a:chExt cx="2450880" cy="836640"/>
          </a:xfrm>
        </p:grpSpPr>
        <p:sp>
          <p:nvSpPr>
            <p:cNvPr id="424" name=""/>
            <p:cNvSpPr/>
            <p:nvPr/>
          </p:nvSpPr>
          <p:spPr>
            <a:xfrm flipV="1">
              <a:off x="4168800" y="4854600"/>
              <a:ext cx="115560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37120" y="521028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0640" y="48974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91280" y="48020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86320" y="4840200"/>
              <a:ext cx="451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5920" y="4545000"/>
              <a:ext cx="622080" cy="228600"/>
            </a:xfrm>
            <a:prstGeom prst="borderCallout2">
              <a:avLst>
                <a:gd name="adj1" fmla="val 18750"/>
                <a:gd name="adj2" fmla="val -8333"/>
                <a:gd name="adj3" fmla="val 50000"/>
                <a:gd name="adj4" fmla="val -51787"/>
                <a:gd name="adj5" fmla="val 111111"/>
                <a:gd name="adj6" fmla="val -93879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rebuchet MS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4200" y="5235480"/>
              <a:ext cx="317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rebuchet MS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31" name="">
            <a:hlinkClick r:id="rId2" action="ppaction://hlinksldjump"/>
          </p:cNvPr>
          <p:cNvSpPr/>
          <p:nvPr/>
        </p:nvSpPr>
        <p:spPr>
          <a:xfrm>
            <a:off x="235080" y="7256520"/>
            <a:ext cx="276120" cy="276120"/>
          </a:xfrm>
          <a:custGeom>
            <a:avLst/>
            <a:gdLst>
              <a:gd name="textAreaLeft" fmla="*/ 17640 w 276120"/>
              <a:gd name="textAreaRight" fmla="*/ 258480 w 27612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a0e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93920" y="4118040"/>
            <a:ext cx="4889520" cy="969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276640" y="3922560"/>
            <a:ext cx="4986000" cy="1444680"/>
            <a:chOff x="2276640" y="3922560"/>
            <a:chExt cx="4986000" cy="1444680"/>
          </a:xfrm>
        </p:grpSpPr>
        <p:sp>
          <p:nvSpPr>
            <p:cNvPr id="434" name=""/>
            <p:cNvSpPr/>
            <p:nvPr/>
          </p:nvSpPr>
          <p:spPr>
            <a:xfrm>
              <a:off x="7186680" y="4668840"/>
              <a:ext cx="75960" cy="763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2276640" y="3922560"/>
              <a:ext cx="3781440" cy="1444680"/>
              <a:chOff x="2276640" y="3922560"/>
              <a:chExt cx="3781440" cy="1444680"/>
            </a:xfrm>
          </p:grpSpPr>
          <p:sp>
            <p:nvSpPr>
              <p:cNvPr id="436" name=""/>
              <p:cNvSpPr/>
              <p:nvPr/>
            </p:nvSpPr>
            <p:spPr>
              <a:xfrm>
                <a:off x="2276640" y="5105520"/>
                <a:ext cx="7596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514600" y="4962600"/>
                <a:ext cx="76320" cy="75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268880" y="4033800"/>
                <a:ext cx="7596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4305240"/>
                <a:ext cx="76320" cy="76320"/>
              </a:xfrm>
              <a:prstGeom prst="ellipse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51480" y="443232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1080" y="4844880"/>
                <a:ext cx="75960" cy="76320"/>
              </a:xfrm>
              <a:prstGeom prst="ellipse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67080" y="52912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3800" y="520380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9000" y="4608360"/>
                <a:ext cx="7596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13320" y="4019400"/>
                <a:ext cx="76320" cy="76320"/>
              </a:xfrm>
              <a:prstGeom prst="ellips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81760" y="3922560"/>
                <a:ext cx="76320" cy="76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08200" y="514188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097160" y="4608360"/>
                <a:ext cx="76320" cy="76320"/>
              </a:xfrm>
              <a:prstGeom prst="ellips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722160" y="1924200"/>
            <a:ext cx="825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18009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Las cifras de gasto total o gasto por estudiante pueden ser engañosas...</a:t>
            </a:r>
            <a:endParaRPr b="0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9:33:31Z</dcterms:created>
  <dc:creator>Informática</dc:creator>
  <dc:description/>
  <dc:language>en-US</dc:language>
  <cp:lastModifiedBy>alumno</cp:lastModifiedBy>
  <dcterms:modified xsi:type="dcterms:W3CDTF">2008-05-16T19:56:00Z</dcterms:modified>
  <cp:revision>40</cp:revision>
  <dc:subject/>
  <dc:title>El Capital Humano en la  Estrategia de Innovación de Chile</dc:title>
</cp:coreProperties>
</file>