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62736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lang="es-ES_trad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9B4A4D0-85B2-441E-B2ED-622BCC472DD6}" type="slidenum"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11D2BD6-1F39-4B21-872B-AFA851E8669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C0B9B6A-F185-45F9-A864-4E2FE5473AA8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F4F2AF6-2A04-4779-BCAD-50579490BD77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388B5789-47F8-4DCF-BC8D-BF56604C4D1B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0006A27-17A5-4D07-8538-76473FDDD566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66C34FB-3302-46B6-A9CB-69147C360F2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3E4BA8C-0A7B-4712-9E1B-81ECE7AC976B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63265CA-C721-4EDE-A8E9-59888D81232F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4AFC3677-FE75-4AD9-A4E2-E23BA1482CBD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3AB2879-E317-4058-846B-05C76146B19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87FA01C-D633-4775-B60C-A5A3C44D26E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47FF8DF-C1B8-41A2-9DFE-55F980FD431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0085372-FA02-4682-8C7E-2D9C6ACC188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812D13A-5F4B-4554-84DB-88E2478CAFF3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ECD171F5-940D-418C-97CE-8182DCA1BB9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02E7476-4C85-49C3-84E4-ED7E31E5FE6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3835883-DCF9-4CA7-8801-996403FC31F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0CB65F3-BC79-43D3-B806-F1619E930474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50B55CB-1469-41AB-AFAA-EFF579A177E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1734E34-FAD5-438A-903A-A536C95897DC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6913A80-53E6-4A4C-8C37-02DA3BAEF15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A1DA8EB-DDB2-49F5-8569-DE2E0D8D857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DD04A8C-37F2-4AFA-81DB-7C334F76AE30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0A32B54-42D2-45F8-A71C-D8A89AE0740E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E80CBBC-6E19-44A8-B584-2AC4FA63E3E1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4CAE55F-3F3D-4C78-B55A-B756851D6083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2AB4D93-8FD4-4B2E-8E10-C77CE18F2348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298ED92-8186-4C2F-960F-99D197D4F055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4A84D78-D125-4A0F-B874-01FA57FA3F73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7CC26CB-2B26-42D4-839A-463404B7C375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7C40284-BA56-4D16-8DA1-8F268B6935B4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FC01A1F-896E-4BE6-A7BC-B36540CBE63D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6485D1D-F906-47D3-8A0E-A6B18081AAC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E936079-DDDC-46A8-9AD4-5E32886D5FCF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CF4-B942-4FB0-B83F-EBB2D227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FE1-EA88-4C8A-8FA2-C31A7E4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4AA-809A-4C5A-9DFD-A1190CA2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0BC-A42E-492B-9513-BFC59845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135-EA99-4A22-A515-9374C854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F79F-72E4-44D8-9BF6-31B52427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039-0C1F-4292-A12A-DBA87DF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609C-CBA9-4614-B2BD-99B25E0E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5D8-573F-4448-AFD3-B5110C6B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05F0-B12D-443B-AADC-10B78C8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479-77EE-4F9E-AED0-F05A231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714-363E-4EEB-81AD-2586F246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A01-88D7-42DA-8028-C83DA2D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90B8-9EDD-4746-8C76-4B5167EB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4D6-2D15-4C9D-962C-7799211B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3A56-B90A-4E49-BF71-F611ACC9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5430-515B-442E-9C6C-837D3B1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B74-0097-4875-AEE1-0F6E1AD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1EF-4604-4C4E-B327-063F2C83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318-C238-4C29-AA25-B514EAA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466E-A496-45CE-80C4-5BB8A62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EF4-5DC4-41E9-A717-1394FE6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B17-E4B1-41DD-AB15-00DFA60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12E-5964-4638-A473-915E569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849-8CF3-4856-855D-8420A2478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6331-6ACF-4713-A09E-B63F01D58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PROPIEDADES FISICAS DE LOS MINER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Picture 6" descr="C:\Jose\GL31A\Minerales\BayldoniteSmall.jpg"/>
          <p:cNvPicPr/>
          <p:nvPr/>
        </p:nvPicPr>
        <p:blipFill>
          <a:blip r:embed="rId1"/>
          <a:stretch/>
        </p:blipFill>
        <p:spPr>
          <a:xfrm>
            <a:off x="2438280" y="1928880"/>
            <a:ext cx="4419720" cy="3190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895480" y="5562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botro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 individuales paralelos o radiados entre s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lobular, radiado en forma esfé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oforme, formas esféricas de individuos radi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Jose\GL31A\Minerales\Carbonate-fluorapatiteSmall.jpg"/>
          <p:cNvPicPr/>
          <p:nvPr/>
        </p:nvPicPr>
        <p:blipFill>
          <a:blip r:embed="rId1"/>
          <a:stretch/>
        </p:blipFill>
        <p:spPr>
          <a:xfrm>
            <a:off x="2133720" y="22860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2514600" y="57452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colofo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 Minerales laminad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liado, separables en ho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áceo, similar a foliado pero más f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mellar o tabular, hojas pla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um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regado mineral de granos igu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Otr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eo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alactí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liva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edad de un mineral de romperse en determinadas direcciones, dejando caras más o menos plan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siempre a superficies paralelas a caras reales o posibles del cris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estructura interna del cris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liva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livaje puede ser malo, moderado o bueno, e incluso puede estar au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describir clivaje, se debe indicar la cantidad y dirección de cada uno; además no se debe olvidar su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Jose\GL31A\Minerales\calcite.gif"/>
          <p:cNvPicPr/>
          <p:nvPr/>
        </p:nvPicPr>
        <p:blipFill>
          <a:blip r:embed="rId1"/>
          <a:stretch/>
        </p:blipFill>
        <p:spPr>
          <a:xfrm>
            <a:off x="304920" y="304920"/>
            <a:ext cx="472428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Jose\GL31A\Minerales\fluorite.gif"/>
          <p:cNvPicPr/>
          <p:nvPr/>
        </p:nvPicPr>
        <p:blipFill>
          <a:blip r:embed="rId2"/>
          <a:stretch/>
        </p:blipFill>
        <p:spPr>
          <a:xfrm>
            <a:off x="4648320" y="3581280"/>
            <a:ext cx="4267080" cy="2986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5105520" y="609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calc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85800" y="457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fluo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artició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tendencia de los minerales de romperse a lo largo de planos de debilidad estructural producto ya sea de tensiones o pres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o la mayoría de las veces es paralelo a las caras de los cristales, suele confundirse con el cliva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Fractur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nera en que el cristal se rompe cuando no lo hace según una superficie de clivaje o de parti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forma de la fractura puede ser característica y distintiva de miner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oidal; fibrosa o astill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errada; irreg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finición de miner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 mineral se define como un sólido homogéneo con estructura interna ordenada, de origen natural e inorgánico, y con composición química definida (pero variable dentro de ciertos límit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istencia que ofrece una superficie lisa de un mineral a ser rayad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le asigna un valor numérico simbolizado como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estructura cristalina, es decir, del tipo de enlace interat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una característica vectorial pues depende de la orientación cristalográfica para donde es ray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br>
              <a:rPr sz="1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bla de Moh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Tal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Topa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Ye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. Corin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Calcit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. Diam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Fluo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Apat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Ortocl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uar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br>
              <a:rPr sz="1200"/>
            </a:b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Objetos utilizados comúnment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ña :  2 a 2,5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neda de Cobre: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ero: 5 a 5,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drio: 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celana: 6,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ayador de Tungsteno: 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enacida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érmino asignado a la cohesión del cristal, o sea, corresponde a la resistencia a ser roto, doblado o desgar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érminos más utilizados 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rág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rompe y pulveriza fáci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leabl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forma plásticamen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éct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uede ser cortado con cuchill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enacida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deformable en forma de alambre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exibl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minerales que se doblan pero no vuelven a su forma original (ejemplos son el talco y la clorit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á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minerales que se doblan y logran recuperar su forma posteriormente (un ejemplo claro lo constituyen las mic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so específico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denota por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a la relación entre el peso de un mineral y el peso de un volumen igual de agua a 4º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composición y estruc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Brillo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pecto general de la superficie de un mineral producto de la reflexión y difracción de la lu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lmente se divide en metálico y no metálico, utilizandóse el término submetálico para referirse a términos intermed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lor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olor de un mineral puede ser altamente característico o completamente inservible dependiendo del mineral en cuest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iste una amplia gama de minerales que presentan 2 ó más variaciones de color, esto posiblemente a impurezas exist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ay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una propiedad más flexible que el color de un mineral, generalmente varía me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determina rayando el mineral con otro más duro, determinando el color del polvo fino del min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Luminiscenc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a la emisión de luz de un mineral que no es resultado directo de incandesc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n tener los siguientes ca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luore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ocurre cuando los minerales son expuestos a rayos ultravioletas, rayos X o rayos catód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Familias de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lic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Óx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idróx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lf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lf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ementos na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Luminiscenc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osfore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rresponde a la luminiscencia que continúa después de cortada la exc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ermolumini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opiedad de producir luz visible cuando se calientan a temperatura por debajo del roj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ribolumini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opiedad poseída por algunos minerales de volverse luminosos cuando son rotos, rayados o gas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eléctricas y magnét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ndición de electricidad es relativa al tipo de enlace de los crist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nerales con enlace metálico son buenos conductores de electric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magnetismo es una propiedad de algunos minerales de Fierro que atraen cualquier superficie imant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Uso de estas propie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ásicamente consiste en utilizar alguna(s) de ella(s) para lograr reconocer mi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la práctica basta con utilizar a lo más cuatro para lograr el obje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 otro lado, algunas de estas propiedades son poco utilizadas por lo complicado de verificar o poner en práctica el método adecu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Otros característica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sabor es una característica típica de algunos mi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gunos minerales logran adherirse medianamente a la len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o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olor de la llama de f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acciones químicas provocadas por ácidos fuer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Otros característica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Picture 4" descr="C:\Jose\GL31A\Minerales\halite.gif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86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676520" y="51055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tales de halita fácilmente reconocible por su sabor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a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físicas y químicas de los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t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ra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ur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n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Especí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físicas y químicas de los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r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a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minisc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edades eléctricas y magné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Apariencia externa de los monocristales y forma en que los cristales crecen ju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 Minerales aislad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icular, forma de agu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iliforme, pelos o hi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adas, cristales elongados y planos.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1752480" y="10666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ac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105520" y="4495680"/>
            <a:ext cx="2590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de esp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C:\Jose\GL31A\Minerales\Acicular.jpg"/>
          <p:cNvPicPr/>
          <p:nvPr/>
        </p:nvPicPr>
        <p:blipFill>
          <a:blip r:embed="rId1"/>
          <a:stretch/>
        </p:blipFill>
        <p:spPr>
          <a:xfrm>
            <a:off x="4648320" y="228600"/>
            <a:ext cx="4257720" cy="3362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Jose\GL31A\Minerales\bladed.jpg"/>
          <p:cNvPicPr/>
          <p:nvPr/>
        </p:nvPicPr>
        <p:blipFill>
          <a:blip r:embed="rId2"/>
          <a:stretch/>
        </p:blipFill>
        <p:spPr>
          <a:xfrm>
            <a:off x="304920" y="3124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dendrítico, arborescente, ramas diverg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radi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drusas, superficie cubierta por pequeños cris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reticulado, en red de cristales fi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 individuales paralelos o radiados entre s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um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ibr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e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otroidal, racimo de u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niforme, masas con forma de riñ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21:26:56Z</dcterms:created>
  <dc:creator>Manuel Salazar</dc:creator>
  <dc:description/>
  <dc:language>en-US</dc:language>
  <cp:lastModifiedBy>Luis Fernando Lopez</cp:lastModifiedBy>
  <cp:lastPrinted>2001-08-22T19:14:29Z</cp:lastPrinted>
  <dcterms:modified xsi:type="dcterms:W3CDTF">2008-05-13T10:10:43Z</dcterms:modified>
  <cp:revision>19</cp:revision>
  <dc:subject/>
  <dc:title>MINERALES</dc:title>
</cp:coreProperties>
</file>