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FAF-BED0-4B27-9A64-AADFB391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26B-16B8-474F-9C3B-8D48D2DA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884-F604-4412-87D4-5ED373C3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A1B-E289-424B-906E-E1AF7295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800-C4F2-4B33-B2B8-D274B182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490-AAEA-43EB-92C1-00742A72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197-1104-408F-82EF-B1430946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526-2EC9-4379-8B1A-2E6A0208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E48-D0A9-467C-BF7B-57ABC365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030-2783-4125-BA9A-2389291C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504-8E16-451E-8DFC-1F80A94E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904-F0FE-4041-9F1D-CBFEE81D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5549-9B87-4A55-BA46-DD3DF2940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260280"/>
            <a:ext cx="86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RELACIONES DE MAXWELL ESTÁN AL ORIGEN DE MUCHAS FÓRMU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MODINÁMICAS  ÚT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9560" y="1125360"/>
            <a:ext cx="85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unas de las funciones termodinámicas que hemos definido en este curso no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eden medir directamente. Por lo que hay que expresar esas magnitude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ón de otras, que si sean accesibles experimentalmente. Para dar cuent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cedimiento partiremos analizando la función  energía li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3456000" cy="585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4537080" cy="1201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116000" y="2997360"/>
            <a:ext cx="3745080" cy="62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12000" y="2205000"/>
            <a:ext cx="2665440" cy="6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92360" y="2349360"/>
            <a:ext cx="19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el proc. es re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2720" y="29973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720" y="306864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onces si F = F(V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9960" y="422100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 igualamos los coefici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2124000" y="5373720"/>
            <a:ext cx="5327640" cy="1050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2124000" y="5373720"/>
            <a:ext cx="53276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748720" cy="4660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2760" y="493092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87480" y="57546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4869000"/>
            <a:ext cx="79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ropía molar del etano a 400K, en función de la presión, S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GP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 400K v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46.45 Jmol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343080"/>
            <a:ext cx="8820000" cy="4741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1120" y="550692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gráfico muestra la entalpía molar del etano a 400 K en función de la presión. 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G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molar a 400 K vale 17.867 kJmol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33336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ahora igualamos las derivadas cruza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4319640" cy="2762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87200" y="3716280"/>
            <a:ext cx="83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Ésta última expresión es una de las “relaciones de Maxwell”. Existen numero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laciones de Maxwell donde intervienen diversas magnitudes TD. Esta últ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cuación es particularmente útil ya que permite saber como varía la entropí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cuerpo al variar el volúmen, ya que si se integra esta expresión a T = cte. :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4560" y="4869000"/>
            <a:ext cx="8569440" cy="143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27840" y="3059280"/>
            <a:ext cx="22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19240" y="260280"/>
            <a:ext cx="79545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os impuesto la condición T = cte. en ésta última expresión ya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gramos (</a:t>
            </a:r>
            <a:r>
              <a:rPr b="0" lang="es-ES_tradnl" sz="1800" spc="-1" strike="noStrike">
                <a:solidFill>
                  <a:srgbClr val="000000"/>
                </a:solidFill>
                <a:latin typeface="SymbolPS"/>
                <a:ea typeface="SymbolPS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es-ES_tradnl" sz="1800" spc="-1" strike="noStrike">
                <a:solidFill>
                  <a:srgbClr val="000000"/>
                </a:solidFill>
                <a:latin typeface="SymbolPS"/>
                <a:ea typeface="SymbolPS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)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s decir T se mantiene cte. en la derivada y por lo ta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mantiene cte. durante toda la integr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3280" y="2060640"/>
            <a:ext cx="870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ecuación recién encontrada permite expresar la entropía de un cuer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función del volumen o de la densidad (ya que </a:t>
            </a:r>
            <a:r>
              <a:rPr b="0" lang="es-ES_tradnl" sz="1800" spc="-1" strike="noStrike">
                <a:solidFill>
                  <a:srgbClr val="000000"/>
                </a:solidFill>
                <a:latin typeface="SymbolPS"/>
                <a:ea typeface="SymbolPS"/>
              </a:rPr>
              <a:t>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/V) , a partir del conoc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P-V-T. Si se asume que el V1 de la última ecuación es suficientemente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o para podamos asimilar el gas a un gas ideal, entonces: la ecuación que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3500280"/>
            <a:ext cx="5759640" cy="1536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80680" y="56610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quí GP quiere decir gas perfecto o gas id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48360" y="3933720"/>
            <a:ext cx="12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c.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848720" cy="4338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98400" y="4930920"/>
            <a:ext cx="624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gráfico muestra la entropía molar de etano a 400K en función de la densidad (</a:t>
            </a:r>
            <a:r>
              <a:rPr b="0" lang="es-ES_tradnl" sz="1800" spc="-1" strike="noStrike">
                <a:solidFill>
                  <a:srgbClr val="000000"/>
                </a:solidFill>
                <a:latin typeface="SymbolPS"/>
                <a:ea typeface="SymbolPS"/>
              </a:rPr>
              <a:t>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1/V molar), donde S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GP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lar a 400K vale 246.45 Jmol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404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endo de la Ec.2 se puede encontrar una ecuación que ya había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contrado al comienzo de este curso por otro cami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16360" y="1125360"/>
            <a:ext cx="2521080" cy="435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71640" y="1700280"/>
            <a:ext cx="3816360" cy="846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119700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un gas ideal , sabemos 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1440" y="1773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onc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000" y="2513160"/>
            <a:ext cx="860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í a partir de Ec.2 y conociendo la ecuación de estado del gas en parti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puede calcular </a:t>
            </a:r>
            <a:r>
              <a:rPr b="0" lang="es-ES_tradnl" sz="1800" spc="-1" strike="noStrike">
                <a:solidFill>
                  <a:srgbClr val="000000"/>
                </a:solidFill>
                <a:latin typeface="SymbolPS"/>
                <a:ea typeface="SymbolPS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, Ejemplo; calcular el </a:t>
            </a:r>
            <a:r>
              <a:rPr b="0" lang="es-ES_tradnl" sz="1800" spc="-1" strike="noStrike">
                <a:solidFill>
                  <a:srgbClr val="000000"/>
                </a:solidFill>
                <a:latin typeface="SymbolPS"/>
                <a:ea typeface="SymbolPS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 molar correspondiente a la expan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un gas de ec. de estado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55640" y="4724280"/>
            <a:ext cx="7561440" cy="1030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900000" y="3429000"/>
            <a:ext cx="2664000" cy="63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30480" y="3645000"/>
            <a:ext cx="50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el gas se expande desde el volumen molar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sta el volumen mola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4360" y="333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cuadro siguiente muestra las cuatro funciones de estado principales con sus expresiones diferenciales y las correspondientes relaciones de Max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7993080" cy="3403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1341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ERGÍA TERMODINÁ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1341360"/>
            <a:ext cx="17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PRESIÓN DIFER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1197000"/>
            <a:ext cx="272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LACIÓN de MAXWELL CORRESPOND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5480" y="5867280"/>
            <a:ext cx="64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procedimiento para obtener este cuadro es el ya mostrado en el cálculo de las relaciones para F, complete lo que falt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120" y="136440"/>
            <a:ext cx="88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8280" y="549360"/>
            <a:ext cx="87516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teriormente habíamos mostrado que la energía interna de un gas ideal depend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nicamente de la T, lo que no ocurre para los gases reales. Supongamos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remos saber como varía la energía interna de un gas con el V a T c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mentablemente no lo podemos medir directamente, no obstante podemos recurr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 la Ec.1 para encontrar una ecuación práctica de (</a:t>
            </a:r>
            <a:r>
              <a:rPr b="0" lang="es-ES_tradnl" sz="1800" spc="-1" strike="noStrike">
                <a:solidFill>
                  <a:srgbClr val="000000"/>
                </a:solidFill>
                <a:latin typeface="SymbolPS"/>
                <a:ea typeface="SymbolPS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/</a:t>
            </a:r>
            <a:r>
              <a:rPr b="0" lang="es-ES_tradnl" sz="1800" spc="-1" strike="noStrike">
                <a:solidFill>
                  <a:srgbClr val="000000"/>
                </a:solidFill>
                <a:latin typeface="SymbolPS"/>
                <a:ea typeface="SymbolPS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)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22050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otros términos se puede establecer una relación, a partir de la cual es posible conocer la variación de la energía interna con el V a T cte., pero partiendo de magnitudes fácilmente med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213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rivando  la Ec. F = U –TS a T cte. y us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4581360"/>
            <a:ext cx="345600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4608360" cy="90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732720" y="3933720"/>
            <a:ext cx="14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llega 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27280" y="4724280"/>
            <a:ext cx="561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cuación que expresa (</a:t>
            </a:r>
            <a:r>
              <a:rPr b="0" lang="es-ES_tradnl" sz="1800" spc="-1" strike="noStrike">
                <a:solidFill>
                  <a:srgbClr val="000000"/>
                </a:solidFill>
                <a:latin typeface="SymbolPS"/>
                <a:ea typeface="SymbolPS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/</a:t>
            </a:r>
            <a:r>
              <a:rPr b="0" lang="es-ES_tradnl" sz="1800" spc="-1" strike="noStrike">
                <a:solidFill>
                  <a:srgbClr val="000000"/>
                </a:solidFill>
                <a:latin typeface="SymbolPS"/>
                <a:ea typeface="SymbolPS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)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función de P-V-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6160" y="508464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si se integra se ti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5516640"/>
            <a:ext cx="8712000" cy="76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64720" y="649116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 T c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90760" y="5938920"/>
            <a:ext cx="142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24360" y="404640"/>
            <a:ext cx="23763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5400720" cy="881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6160" y="42372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un gas ideal se tiene 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7080" y="3524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ento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421000"/>
            <a:ext cx="8713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 que muestra que muestra que U 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(T)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solo función de la Temperatura para el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s id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39337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gráfico muestra la energía interna molar en función de la presión para el etano a 400 K y U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G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lar vale 14.55 kJmol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558972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e gráfico muestra que la U varía con la Pres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561080" cy="4268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5640" y="4941720"/>
            <a:ext cx="71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gráfico muestra la energía interna molar del etano a 400 K en función de la presión. U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G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molar a 400 K vale 17.867 kJmol-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4T21:50:44Z</dcterms:created>
  <dc:creator>MTG</dc:creator>
  <dc:description/>
  <dc:language>en-US</dc:language>
  <cp:lastModifiedBy>MTG</cp:lastModifiedBy>
  <dcterms:modified xsi:type="dcterms:W3CDTF">2006-06-29T14:48:27Z</dcterms:modified>
  <cp:revision>17</cp:revision>
  <dc:subject/>
  <dc:title>Diapositiva 1</dc:title>
</cp:coreProperties>
</file>