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E46-2CCC-4052-B5B1-3ED73A6E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2B4F-B237-4630-A8C7-D5D40324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AF9-EFCB-468B-943C-A53A27EA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E50-BEC5-42EC-905A-A605046F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38F-1428-4C06-AFCB-D136B6BB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DA9-0C1F-4F65-A050-1647D158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47D-7C3B-444A-987B-0883D938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A58-E384-450E-A9F0-54A21402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1BE6-BEBD-4C69-8EC0-3970D4B4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8BC-89D4-4C3D-86BC-059E7A8D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035-0CB5-45F9-A878-BD3583CE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0A8-9F7B-46D0-A068-8E102AC4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CD8A-A7C1-4891-80D5-9AD4FAE33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Tres Ejemplos: viscosidad del aire, choque-resorte, choque-pole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</a:t>
            </a:r>
            <a:r>
              <a:rPr b="0" lang="es-CL" sz="1000" spc="-1" strike="noStrike">
                <a:solidFill>
                  <a:srgbClr val="0033cc"/>
                </a:solidFill>
                <a:latin typeface="Arial"/>
              </a:rPr>
              <a:t>Nelson Zamorano—June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319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1130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3923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537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235080"/>
            <a:ext cx="468000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859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88920"/>
            <a:ext cx="45370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3:05:22Z</dcterms:created>
  <dc:creator>Nelson Zamorano</dc:creator>
  <dc:description/>
  <dc:language>en-US</dc:language>
  <cp:lastModifiedBy>Nelson Zamorano</cp:lastModifiedBy>
  <dcterms:modified xsi:type="dcterms:W3CDTF">2008-06-18T15:21:07Z</dcterms:modified>
  <cp:revision>4</cp:revision>
  <dc:subject/>
  <dc:title>Dinámica de una masa sobre una cuña</dc:title>
</cp:coreProperties>
</file>