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ED2-8BA3-4A65-87E8-774D0AAA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F73-7A90-461E-9218-2A0C1276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96E-1D8C-41B3-8A6C-0E35E3D3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90B-B81E-4A60-B4FA-0E8D98F4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BF7-1C1B-4B96-87D7-6B5543CC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B4D-2D48-4575-AD80-C44DF317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6AA-EBE3-4C31-9405-A7AFF327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2A4-43A6-4846-A7F8-A01BC16B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1BE-F1CD-43E4-A28B-5352AC24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633-EE25-4050-942C-9F16064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6A7-5113-4B70-8BB7-C7826914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B3C-D777-45C4-95C4-21E0E68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7E62-8195-4FD0-B266-862D5609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Tres Ejemplos: viscosidad del aire, choque-resorte, choque-pol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</a:t>
            </a: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Nelson Zamorano—June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13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35080"/>
            <a:ext cx="4680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9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88920"/>
            <a:ext cx="45370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8T15:21:07Z</dcterms:modified>
  <cp:revision>4</cp:revision>
  <dc:subject/>
  <dc:title>Dinámica de una masa sobre una cuña</dc:title>
</cp:coreProperties>
</file>