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58D-CC37-460D-AB88-77A379EA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EDB-EDD4-4201-96DE-EC15726E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233D-4984-4011-AB02-2327E8B4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A0C-4D65-4F9E-AD71-05716F2B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533-5C04-4D3C-B3CD-343236A0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583-CFEF-4CD6-B939-722C10B4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8B95-E3FB-484B-B69D-F85F2253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CF3-194B-473D-B99A-F075B134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B3A-D920-447C-950E-76300139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C15-EFA8-4405-B228-75944357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46C-BBDE-42D4-A072-C01EC77B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387B-DD69-4004-BF71-AC926FAB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498E-0232-4ED1-B8EE-F71043706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Tres Ejemplos: viscosidad del aire, choque-resorte, choque-pol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</a:t>
            </a: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Nelson Zamorano—June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13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53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35080"/>
            <a:ext cx="4680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9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88920"/>
            <a:ext cx="45370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8T15:21:07Z</dcterms:modified>
  <cp:revision>4</cp:revision>
  <dc:subject/>
  <dc:title>Dinámica de una masa sobre una cuña</dc:title>
</cp:coreProperties>
</file>