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599-B2AD-4C6E-8A5E-E4943968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A90-314F-46E3-B59F-92AA5290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3DB-6F21-4405-9D86-EFEB19C1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71D-1864-4E40-8876-75CDA54D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44D-812D-4CDD-9E25-04840CD2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AA0-3CF6-4AF8-B99F-56C9527A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446-BA7D-4C26-BC35-EED6B993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6C7-2BFB-45A3-BB43-39EAD894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147-363C-46DC-AE72-6EA1F33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585-1A5F-442B-AB5D-B9B53EF6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E40-8663-4B96-BB24-62E1757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1ED-EF67-4268-BE18-4DF4B10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8C6-D9C1-4359-BBB2-073BEF85C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Tres Ejemplos: viscosidad del aire, choque-resorte, choque-pol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</a:t>
            </a: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Nelson Zamorano—June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13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3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35080"/>
            <a:ext cx="4680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9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88920"/>
            <a:ext cx="45370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8T15:21:07Z</dcterms:modified>
  <cp:revision>4</cp:revision>
  <dc:subject/>
  <dc:title>Dinámica de una masa sobre una cuña</dc:title>
</cp:coreProperties>
</file>