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C6C1-A220-406C-A1F0-94B5D245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35B9-2437-4000-9F1B-F44499704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68BB-66CC-4344-8A3F-DF13E6F97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0DC-3DC8-4427-9021-541F47573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0608-3CC8-4226-9C13-ABDA8464C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7BF9-9C96-495A-911E-B8CEB4902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1AF-5AD0-463A-8E8B-98FC71592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08FC9-9E44-4B00-8F24-867675E8A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0FAF-7E27-4AF3-A09F-03D7486B4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1ED3D-AA98-4F85-9DD0-E53FD5DBE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FE6E-266A-4F40-B14E-F6D69AAF4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D810-4E4E-4D01-B9A7-ED10DBE7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4687B-60C5-4524-B3DE-9A2C493F2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6600"/>
                </a:solidFill>
                <a:latin typeface="Verdana"/>
              </a:rPr>
              <a:t>Tres Ejemplos: viscosidad del aire, choque-resorte, choque-pole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15640" y="2491920"/>
            <a:ext cx="65516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onservación de la energ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Choque Inelás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33cc"/>
                </a:solidFill>
                <a:latin typeface="Arial"/>
              </a:rPr>
              <a:t>Despegue de la ma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                                                             </a:t>
            </a:r>
            <a:r>
              <a:rPr b="0" lang="es-CL" sz="1000" spc="-1" strike="noStrike">
                <a:solidFill>
                  <a:srgbClr val="0033cc"/>
                </a:solidFill>
                <a:latin typeface="Arial"/>
              </a:rPr>
              <a:t>Nelson Zamorano—June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43192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113080" cy="61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3923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453708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35080"/>
            <a:ext cx="4680000" cy="66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485928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877080" y="189000"/>
            <a:ext cx="2057400" cy="7794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4932360" y="765000"/>
            <a:ext cx="367344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6600"/>
                </a:solidFill>
                <a:latin typeface="Comic Sans MS"/>
              </a:rPr>
              <a:t>FI-100-02</a:t>
            </a:r>
            <a:r>
              <a:rPr b="0" lang="es-ES" sz="1200" spc="-1" strike="noStrike" u="sng">
                <a:solidFill>
                  <a:srgbClr val="ff6600"/>
                </a:solidFill>
                <a:uFillTx/>
                <a:latin typeface="Comic Sans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6600"/>
                </a:solidFill>
                <a:latin typeface="Comic Sans MS"/>
              </a:rPr>
              <a:t>Introducción a la Física Newtoniana</a:t>
            </a:r>
            <a:r>
              <a:rPr b="0" lang="es-ES" sz="1200" spc="-1" strike="noStrike" u="sng">
                <a:solidFill>
                  <a:srgbClr val="000000"/>
                </a:solidFill>
                <a:uFillTx/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cc"/>
                </a:solidFill>
                <a:latin typeface="Comic Sans MS"/>
              </a:rPr>
              <a:t>Nelson Zamorano H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50920" y="88920"/>
            <a:ext cx="4537080" cy="643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0T23:05:22Z</dcterms:created>
  <dc:creator>Nelson Zamorano</dc:creator>
  <dc:description/>
  <dc:language>en-US</dc:language>
  <cp:lastModifiedBy>Nelson Zamorano</cp:lastModifiedBy>
  <dcterms:modified xsi:type="dcterms:W3CDTF">2008-06-18T15:21:07Z</dcterms:modified>
  <cp:revision>4</cp:revision>
  <dc:subject/>
  <dc:title>Dinámica de una masa sobre una cuña</dc:title>
</cp:coreProperties>
</file>