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1AA0-9C25-4BF7-83D1-8E031617F7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BC7C-A514-4A8C-8630-A3EA564844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5F54-7041-43CA-9323-1A20A59F224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D5D0-DB43-41CA-A040-87F58D5780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00EA-8BE9-46AA-8CEB-15FF6F56FC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0FC2-6167-4BB3-BEEA-B1C209B71D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44EE-546E-405B-8EF7-48B5A0D536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D918-87A1-48B0-B920-A7B5A4A21F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3071160" y="4235760"/>
            <a:ext cx="435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CL Elemental Sans"/>
              </a:rPr>
              <a:t> - </a:t>
            </a:r>
            <a:r>
              <a:rPr b="1" lang="es-ES" sz="1000" spc="-1" strike="noStrike">
                <a:solidFill>
                  <a:srgbClr val="808080"/>
                </a:solidFill>
                <a:latin typeface="TCL Elemental Sans"/>
              </a:rPr>
              <a:t>Nelson Zamorano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29200" y="609480"/>
            <a:ext cx="0" cy="59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059280" y="6237360"/>
            <a:ext cx="1942920" cy="387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300720" y="409680"/>
            <a:ext cx="261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596360" y="76320"/>
            <a:ext cx="112068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91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657360"/>
            <a:ext cx="4448160" cy="6200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673200" y="3213000"/>
            <a:ext cx="525240" cy="1800360"/>
          </a:xfrm>
          <a:custGeom>
            <a:avLst/>
            <a:gdLst/>
            <a:ahLst/>
            <a:rect l="l" t="t" r="r" b="b"/>
            <a:pathLst>
              <a:path w="331" h="1134">
                <a:moveTo>
                  <a:pt x="143" y="0"/>
                </a:moveTo>
                <a:cubicBezTo>
                  <a:pt x="169" y="49"/>
                  <a:pt x="196" y="98"/>
                  <a:pt x="188" y="136"/>
                </a:cubicBezTo>
                <a:cubicBezTo>
                  <a:pt x="180" y="174"/>
                  <a:pt x="90" y="189"/>
                  <a:pt x="97" y="227"/>
                </a:cubicBezTo>
                <a:cubicBezTo>
                  <a:pt x="104" y="265"/>
                  <a:pt x="240" y="318"/>
                  <a:pt x="233" y="363"/>
                </a:cubicBezTo>
                <a:cubicBezTo>
                  <a:pt x="226" y="408"/>
                  <a:pt x="52" y="469"/>
                  <a:pt x="52" y="499"/>
                </a:cubicBezTo>
                <a:cubicBezTo>
                  <a:pt x="52" y="529"/>
                  <a:pt x="233" y="521"/>
                  <a:pt x="233" y="544"/>
                </a:cubicBezTo>
                <a:cubicBezTo>
                  <a:pt x="233" y="567"/>
                  <a:pt x="44" y="612"/>
                  <a:pt x="52" y="635"/>
                </a:cubicBezTo>
                <a:cubicBezTo>
                  <a:pt x="60" y="658"/>
                  <a:pt x="286" y="665"/>
                  <a:pt x="279" y="680"/>
                </a:cubicBezTo>
                <a:cubicBezTo>
                  <a:pt x="272" y="695"/>
                  <a:pt x="7" y="711"/>
                  <a:pt x="7" y="726"/>
                </a:cubicBezTo>
                <a:cubicBezTo>
                  <a:pt x="7" y="741"/>
                  <a:pt x="272" y="756"/>
                  <a:pt x="279" y="771"/>
                </a:cubicBezTo>
                <a:cubicBezTo>
                  <a:pt x="286" y="786"/>
                  <a:pt x="45" y="801"/>
                  <a:pt x="52" y="816"/>
                </a:cubicBezTo>
                <a:cubicBezTo>
                  <a:pt x="59" y="831"/>
                  <a:pt x="331" y="854"/>
                  <a:pt x="324" y="862"/>
                </a:cubicBezTo>
                <a:cubicBezTo>
                  <a:pt x="317" y="870"/>
                  <a:pt x="14" y="847"/>
                  <a:pt x="7" y="862"/>
                </a:cubicBezTo>
                <a:cubicBezTo>
                  <a:pt x="0" y="877"/>
                  <a:pt x="264" y="929"/>
                  <a:pt x="279" y="952"/>
                </a:cubicBezTo>
                <a:cubicBezTo>
                  <a:pt x="294" y="975"/>
                  <a:pt x="127" y="968"/>
                  <a:pt x="97" y="998"/>
                </a:cubicBezTo>
                <a:cubicBezTo>
                  <a:pt x="67" y="1028"/>
                  <a:pt x="97" y="1119"/>
                  <a:pt x="97" y="11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494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941720"/>
            <a:ext cx="936720" cy="14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4480" y="2984400"/>
            <a:ext cx="250920" cy="157320"/>
          </a:xfrm>
          <a:custGeom>
            <a:avLst/>
            <a:gdLst/>
            <a:ahLst/>
            <a:rect l="l" t="t" r="r" b="b"/>
            <a:pathLst>
              <a:path w="158" h="99">
                <a:moveTo>
                  <a:pt x="7" y="99"/>
                </a:moveTo>
                <a:cubicBezTo>
                  <a:pt x="3" y="57"/>
                  <a:pt x="0" y="16"/>
                  <a:pt x="7" y="8"/>
                </a:cubicBezTo>
                <a:cubicBezTo>
                  <a:pt x="14" y="0"/>
                  <a:pt x="29" y="53"/>
                  <a:pt x="52" y="53"/>
                </a:cubicBezTo>
                <a:cubicBezTo>
                  <a:pt x="75" y="53"/>
                  <a:pt x="128" y="0"/>
                  <a:pt x="143" y="8"/>
                </a:cubicBezTo>
                <a:cubicBezTo>
                  <a:pt x="158" y="16"/>
                  <a:pt x="143" y="84"/>
                  <a:pt x="143" y="9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2852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3213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876400"/>
            <a:ext cx="1260360" cy="336600"/>
          </a:xfrm>
          <a:custGeom>
            <a:avLst/>
            <a:gdLst/>
            <a:ahLst/>
            <a:rect l="l" t="t" r="r" b="b"/>
            <a:pathLst>
              <a:path w="794" h="212">
                <a:moveTo>
                  <a:pt x="681" y="212"/>
                </a:moveTo>
                <a:cubicBezTo>
                  <a:pt x="737" y="136"/>
                  <a:pt x="794" y="60"/>
                  <a:pt x="681" y="30"/>
                </a:cubicBezTo>
                <a:cubicBezTo>
                  <a:pt x="568" y="0"/>
                  <a:pt x="113" y="30"/>
                  <a:pt x="0" y="3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600800" cy="6153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42920" y="1628640"/>
            <a:ext cx="227160" cy="144720"/>
          </a:xfrm>
          <a:custGeom>
            <a:avLst/>
            <a:gdLst/>
            <a:ahLst/>
            <a:rect l="l" t="t" r="r" b="b"/>
            <a:pathLst>
              <a:path w="143" h="91">
                <a:moveTo>
                  <a:pt x="0" y="91"/>
                </a:moveTo>
                <a:cubicBezTo>
                  <a:pt x="15" y="45"/>
                  <a:pt x="31" y="0"/>
                  <a:pt x="46" y="0"/>
                </a:cubicBezTo>
                <a:cubicBezTo>
                  <a:pt x="61" y="0"/>
                  <a:pt x="76" y="91"/>
                  <a:pt x="91" y="91"/>
                </a:cubicBezTo>
                <a:cubicBezTo>
                  <a:pt x="106" y="91"/>
                  <a:pt x="129" y="0"/>
                  <a:pt x="136" y="0"/>
                </a:cubicBezTo>
                <a:cubicBezTo>
                  <a:pt x="143" y="0"/>
                  <a:pt x="136" y="76"/>
                  <a:pt x="136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521000"/>
            <a:ext cx="587520" cy="288720"/>
          </a:xfrm>
          <a:custGeom>
            <a:avLst/>
            <a:gdLst/>
            <a:ahLst/>
            <a:rect l="l" t="t" r="r" b="b"/>
            <a:pathLst>
              <a:path w="370" h="182">
                <a:moveTo>
                  <a:pt x="45" y="23"/>
                </a:moveTo>
                <a:cubicBezTo>
                  <a:pt x="0" y="46"/>
                  <a:pt x="0" y="136"/>
                  <a:pt x="45" y="159"/>
                </a:cubicBezTo>
                <a:cubicBezTo>
                  <a:pt x="90" y="182"/>
                  <a:pt x="272" y="182"/>
                  <a:pt x="317" y="159"/>
                </a:cubicBezTo>
                <a:cubicBezTo>
                  <a:pt x="362" y="136"/>
                  <a:pt x="370" y="46"/>
                  <a:pt x="317" y="23"/>
                </a:cubicBezTo>
                <a:cubicBezTo>
                  <a:pt x="264" y="0"/>
                  <a:pt x="90" y="0"/>
                  <a:pt x="45" y="23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1066680"/>
            <a:ext cx="4619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7624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7052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0920" y="619200"/>
            <a:ext cx="464796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1:06:18Z</dcterms:created>
  <dc:creator>Nelson Zamorano</dc:creator>
  <dc:description/>
  <dc:language>en-US</dc:language>
  <cp:lastModifiedBy>Nelson Zamorano</cp:lastModifiedBy>
  <dcterms:modified xsi:type="dcterms:W3CDTF">2008-06-11T01:05:54Z</dcterms:modified>
  <cp:revision>4</cp:revision>
  <dc:subject/>
  <dc:title>Diapositiva 1</dc:title>
</cp:coreProperties>
</file>