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media/image9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4D83-2FDF-4A12-9FF1-8FF1FF1F0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0AA7-F9E8-4ED4-A642-EC28C3A4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77E2-57F9-41F2-92C2-513EA74E0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9E4B-4DD2-4866-B08A-81630186C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E6A4-C60D-4B7E-A4BD-067E4886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1090-D47A-4065-A74F-46D4EC49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5E54-6AC1-4EF4-8D15-985722AE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A827-4435-4DC5-9B30-2149B08A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29EB-9B27-4287-BD07-AA7C3D23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8D69-A5D7-41E1-8FCF-C221318C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D35D-34A8-4492-B43F-A9ABFC9C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5D2B-D9AD-45C9-A380-4F245380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55F2-7E9F-4AC9-AF3E-83B1F0EA8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6600"/>
                </a:solidFill>
                <a:latin typeface="Verdana"/>
              </a:rPr>
              <a:t>Choque de una masa con un resorte vert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2491920"/>
            <a:ext cx="6551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Conservación de la energí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Choque Inelá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Osci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Despegue de la m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463860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48080" y="1846440"/>
            <a:ext cx="2859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Se deja caer una masa m des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una altura H. Choca en form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Inelástica (e=0) con 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Describir el comportami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de este sistem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05600" y="1846440"/>
            <a:ext cx="3382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Hemos usado aquí el eje x apuntan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hacia abaj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Esto cambia la convención anteri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                 </a:t>
            </a:r>
            <a:r>
              <a:rPr b="0" lang="es-CL" sz="1400" spc="-1" strike="noStrike">
                <a:solidFill>
                  <a:srgbClr val="ff6600"/>
                </a:solidFill>
                <a:latin typeface="Comic Sans MS"/>
              </a:rPr>
              <a:t>V(x) = -m g H</a:t>
            </a: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562280" cy="5934240"/>
          </a:xfrm>
          <a:prstGeom prst="rect">
            <a:avLst/>
          </a:prstGeom>
          <a:ln w="0">
            <a:noFill/>
          </a:ln>
        </p:spPr>
      </p:pic>
      <p:cxnSp>
        <p:nvCxnSpPr>
          <p:cNvPr id="51" name=""/>
          <p:cNvCxnSpPr>
            <a:endCxn id="49" idx="1"/>
          </p:cNvCxnSpPr>
          <p:nvPr/>
        </p:nvCxnSpPr>
        <p:spPr>
          <a:xfrm flipH="1" flipV="1" rot="5400000">
            <a:off x="3113640" y="2726280"/>
            <a:ext cx="2248560" cy="2069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98760" y="1846440"/>
            <a:ext cx="3404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NOTE que, a pesar que no se dic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se tomó como origen de coorden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el largo natural del resorte L</a:t>
            </a:r>
            <a:r>
              <a:rPr b="0" lang="es-CL" sz="1400" spc="-1" strike="noStrike" baseline="-25000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619520" cy="6257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859280" y="1413000"/>
            <a:ext cx="3960720" cy="2409840"/>
          </a:xfrm>
          <a:prstGeom prst="cloudCallout">
            <a:avLst>
              <a:gd name="adj1" fmla="val -74810"/>
              <a:gd name="adj2" fmla="val -26615"/>
            </a:avLst>
          </a:prstGeom>
          <a:gradFill rotWithShape="0">
            <a:gsLst>
              <a:gs pos="0">
                <a:srgbClr val="99cc00">
                  <a:alpha val="0"/>
                </a:srgbClr>
              </a:gs>
              <a:gs pos="100000">
                <a:srgbClr val="e0efb5">
                  <a:alpha val="0"/>
                </a:srgbClr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92720" y="4076640"/>
            <a:ext cx="3672000" cy="1762200"/>
          </a:xfrm>
          <a:prstGeom prst="cloudCallout">
            <a:avLst>
              <a:gd name="adj1" fmla="val -73606"/>
              <a:gd name="adj2" fmla="val 55314"/>
            </a:avLst>
          </a:prstGeom>
          <a:gradFill rotWithShape="0">
            <a:gsLst>
              <a:gs pos="0">
                <a:srgbClr val="99cc00"/>
              </a:gs>
              <a:gs pos="100000">
                <a:srgbClr val="f7fae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10240" y="4389480"/>
            <a:ext cx="34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cc"/>
                </a:solidFill>
                <a:latin typeface="Comic Sans MS"/>
              </a:rPr>
              <a:t>Usamos la velocidad calcu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s-CL" sz="1800" spc="-1" strike="noStrike">
                <a:solidFill>
                  <a:srgbClr val="0033cc"/>
                </a:solidFill>
                <a:latin typeface="Comic Sans MS"/>
              </a:rPr>
              <a:t>a partir del choque inelás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724360" y="4869000"/>
            <a:ext cx="2016360" cy="12747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100000">
                <a:srgbClr val="f7fae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572000" cy="5848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003640" y="1916280"/>
            <a:ext cx="37576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NOTA: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Muestre que E</a:t>
            </a:r>
            <a:r>
              <a:rPr b="1" lang="es-CL" sz="1800" spc="-1" strike="noStrike" baseline="-25000">
                <a:solidFill>
                  <a:srgbClr val="ff6600"/>
                </a:solidFill>
                <a:latin typeface="Arial"/>
              </a:rPr>
              <a:t>i</a:t>
            </a: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  se pue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escribir co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580000" y="2637000"/>
          <a:ext cx="2808360" cy="65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2637000"/>
                    <a:ext cx="28083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5810040" y="4941720"/>
            <a:ext cx="18342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Si m = 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 = g</a:t>
            </a:r>
            <a:r>
              <a:rPr b="1" lang="es-CL" sz="1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1" lang="es-CL" sz="1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 / (2 k)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48200" y="3521160"/>
            <a:ext cx="28645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Si E</a:t>
            </a:r>
            <a:r>
              <a:rPr b="1" lang="es-CL" sz="1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 = 0, se obtiene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resultado indicado en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última pá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64796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4486320" cy="575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324000" y="5084640"/>
          <a:ext cx="799920" cy="15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5084640"/>
                    <a:ext cx="7999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74720" y="1846440"/>
            <a:ext cx="152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de este sistem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46483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455292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23:05:22Z</dcterms:created>
  <dc:creator>Nelson Zamorano</dc:creator>
  <dc:description/>
  <dc:language>en-US</dc:language>
  <cp:lastModifiedBy>Nelson Zamorano</cp:lastModifiedBy>
  <dcterms:modified xsi:type="dcterms:W3CDTF">2008-06-11T00:54:41Z</dcterms:modified>
  <cp:revision>2</cp:revision>
  <dc:subject/>
  <dc:title>Dinámica de una masa sobre una cuña</dc:title>
</cp:coreProperties>
</file>