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4BC-B8F3-48A5-A3C5-2422CC2C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C81-2B20-4B04-9727-CF25309A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631-D753-4B86-9BF8-D27586B4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361-2D72-4368-AB4A-EFB424C4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357-D4D4-48DD-9130-AD8A3638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C7F-AC9F-4157-97F7-046B86C0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F70-4F0E-43C5-AA06-4BEADAF5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3F7-A8C2-4B54-BFAB-BD52D8B8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290-77FB-4654-AB5B-4E2BD263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2A8-2907-44B6-866C-A59D4AB9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CA09-8545-4E23-B27E-3E817962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BA20-4A0C-404C-A8EB-DB815074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CA35-9A50-42D8-8E7B-335367FD5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Choque de una masa con un resorte ver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Osc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6386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8080" y="1846440"/>
            <a:ext cx="2859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deja caer una masa m des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una altura H. Choca en for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Inelástica (e=0) con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scribir el comport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05600" y="1846440"/>
            <a:ext cx="3382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emos usado aquí el eje x apunta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acia 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sto cambia la convención anteri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                 </a:t>
            </a:r>
            <a:r>
              <a:rPr b="0" lang="es-CL" sz="1400" spc="-1" strike="noStrike">
                <a:solidFill>
                  <a:srgbClr val="ff6600"/>
                </a:solidFill>
                <a:latin typeface="Comic Sans MS"/>
              </a:rPr>
              <a:t>V(x) = -m g H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562280" cy="5934240"/>
          </a:xfrm>
          <a:prstGeom prst="rect">
            <a:avLst/>
          </a:prstGeom>
          <a:ln w="0">
            <a:noFill/>
          </a:ln>
        </p:spPr>
      </p:pic>
      <p:cxnSp>
        <p:nvCxnSpPr>
          <p:cNvPr id="51" name=""/>
          <p:cNvCxnSpPr>
            <a:endCxn id="49" idx="1"/>
          </p:cNvCxnSpPr>
          <p:nvPr/>
        </p:nvCxnSpPr>
        <p:spPr>
          <a:xfrm flipH="1" flipV="1" rot="5400000">
            <a:off x="3113640" y="2726280"/>
            <a:ext cx="2248560" cy="2069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8760" y="1846440"/>
            <a:ext cx="3404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NOTE que, a pesar que no se dic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tomó como origen de coorden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l largo natural del resorte L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619520" cy="625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59280" y="1413000"/>
            <a:ext cx="3960720" cy="2409840"/>
          </a:xfrm>
          <a:prstGeom prst="cloudCallout">
            <a:avLst>
              <a:gd name="adj1" fmla="val -74810"/>
              <a:gd name="adj2" fmla="val -26615"/>
            </a:avLst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e0efb5">
                  <a:alpha val="0"/>
                </a:srgbClr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4076640"/>
            <a:ext cx="3672000" cy="1762200"/>
          </a:xfrm>
          <a:prstGeom prst="cloudCallout">
            <a:avLst>
              <a:gd name="adj1" fmla="val -73606"/>
              <a:gd name="adj2" fmla="val 55314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10240" y="4389480"/>
            <a:ext cx="34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Usamos la velocidad calcu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a partir del choque inelá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360" y="4869000"/>
            <a:ext cx="2016360" cy="1274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572000" cy="5848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1916280"/>
            <a:ext cx="37576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NOTA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Muestre que E</a:t>
            </a:r>
            <a:r>
              <a:rPr b="1" lang="es-CL" sz="1800" spc="-1" strike="noStrike" baseline="-25000">
                <a:solidFill>
                  <a:srgbClr val="ff6600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 se pue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escribir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580000" y="2637000"/>
          <a:ext cx="2808360" cy="65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2637000"/>
                    <a:ext cx="28083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810040" y="4941720"/>
            <a:ext cx="1834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m = 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g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/ (2 k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48200" y="3521160"/>
            <a:ext cx="2864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0, se obtiene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resultado indicado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últim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6479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486320" cy="575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324000" y="5084640"/>
          <a:ext cx="79992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5084640"/>
                    <a:ext cx="799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4720" y="1846440"/>
            <a:ext cx="152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6483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5529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3:05:22Z</dcterms:created>
  <dc:creator>Nelson Zamorano</dc:creator>
  <dc:description/>
  <dc:language>en-US</dc:language>
  <cp:lastModifiedBy>Nelson Zamorano</cp:lastModifiedBy>
  <dcterms:modified xsi:type="dcterms:W3CDTF">2008-06-11T00:54:41Z</dcterms:modified>
  <cp:revision>2</cp:revision>
  <dc:subject/>
  <dc:title>Dinámica de una masa sobre una cuña</dc:title>
</cp:coreProperties>
</file>