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png" ContentType="image/pn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8C3C-6936-4599-8D3F-335B8F0E1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BF18-512A-45DF-B73D-161D39B7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13A-5E47-4AFE-9A9A-BA4B4F42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DEE7-7A43-4396-8D25-E17874F4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AEF-8E0B-4079-99AA-2FBE0989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1F9-102F-4404-B4F0-0C362ACC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2512-4FBC-4F29-8EC9-7D3B6888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3395-83C9-4410-B7FB-1FAEDAFC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0E0-1C0F-4884-A0DA-94C95554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4E23-6997-43F0-B810-5AE78691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EEDE-7B22-4C39-A87E-21D4966B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F608-B61E-400F-9D5D-63D9D2D01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3DCA-A564-4824-A9C8-EAFBD7218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Choque de una masa con un resorte ver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Osci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463860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48080" y="1846440"/>
            <a:ext cx="2859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deja caer una masa m des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una altura H. Choca en fo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Inelástica (e=0) con 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scribir el compor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205600" y="1846440"/>
            <a:ext cx="3382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emos usado aquí el eje x apuntan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hacia abaj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sto cambia la convención anterio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                 </a:t>
            </a:r>
            <a:r>
              <a:rPr b="0" lang="es-CL" sz="1400" spc="-1" strike="noStrike">
                <a:solidFill>
                  <a:srgbClr val="ff6600"/>
                </a:solidFill>
                <a:latin typeface="Comic Sans MS"/>
              </a:rPr>
              <a:t>V(x) = -m g H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562280" cy="5934240"/>
          </a:xfrm>
          <a:prstGeom prst="rect">
            <a:avLst/>
          </a:prstGeom>
          <a:ln w="0">
            <a:noFill/>
          </a:ln>
        </p:spPr>
      </p:pic>
      <p:cxnSp>
        <p:nvCxnSpPr>
          <p:cNvPr id="51" name=""/>
          <p:cNvCxnSpPr>
            <a:endCxn id="49" idx="1"/>
          </p:cNvCxnSpPr>
          <p:nvPr/>
        </p:nvCxnSpPr>
        <p:spPr>
          <a:xfrm flipH="1" flipV="1" rot="5400000">
            <a:off x="3113640" y="2726280"/>
            <a:ext cx="2248560" cy="2069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98760" y="1846440"/>
            <a:ext cx="340416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NOTE que, a pesar que no se dic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se tomó como origen de coordenad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el largo natural del resorte L</a:t>
            </a:r>
            <a:r>
              <a:rPr b="0" lang="es-CL" sz="1400" spc="-1" strike="noStrike" baseline="-25000">
                <a:solidFill>
                  <a:srgbClr val="0033cc"/>
                </a:solidFill>
                <a:latin typeface="Comic Sans MS"/>
              </a:rPr>
              <a:t>o</a:t>
            </a: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619520" cy="6257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859280" y="1413000"/>
            <a:ext cx="3960720" cy="2409840"/>
          </a:xfrm>
          <a:prstGeom prst="cloudCallout">
            <a:avLst>
              <a:gd name="adj1" fmla="val -74810"/>
              <a:gd name="adj2" fmla="val -26615"/>
            </a:avLst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e0efb5">
                  <a:alpha val="0"/>
                </a:srgbClr>
              </a:gs>
            </a:gsLst>
            <a:lin ang="5400000"/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4076640"/>
            <a:ext cx="3672000" cy="1762200"/>
          </a:xfrm>
          <a:prstGeom prst="cloudCallout">
            <a:avLst>
              <a:gd name="adj1" fmla="val -73606"/>
              <a:gd name="adj2" fmla="val 55314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10240" y="4389480"/>
            <a:ext cx="34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Usamos la velocidad calcul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s-CL" sz="1800" spc="-1" strike="noStrike">
                <a:solidFill>
                  <a:srgbClr val="0033cc"/>
                </a:solidFill>
                <a:latin typeface="Comic Sans MS"/>
              </a:rPr>
              <a:t>a partir del choque inelásti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724360" y="4869000"/>
            <a:ext cx="2016360" cy="127476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9cc00"/>
              </a:gs>
              <a:gs pos="100000">
                <a:srgbClr val="f7fa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572000" cy="58482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03640" y="1916280"/>
            <a:ext cx="37576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NOTA: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Muestre que E</a:t>
            </a:r>
            <a:r>
              <a:rPr b="1" lang="es-CL" sz="1800" spc="-1" strike="noStrike" baseline="-25000">
                <a:solidFill>
                  <a:srgbClr val="ff6600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 se pue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escribir com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5580000" y="2637000"/>
          <a:ext cx="2808360" cy="657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2637000"/>
                    <a:ext cx="28083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810040" y="4941720"/>
            <a:ext cx="183420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m =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g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M</a:t>
            </a:r>
            <a:r>
              <a:rPr b="1" lang="es-CL" sz="1800" spc="-1" strike="noStrike" baseline="30000">
                <a:solidFill>
                  <a:srgbClr val="0033cc"/>
                </a:solidFill>
                <a:latin typeface="Arial"/>
              </a:rPr>
              <a:t>2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/ (2 k)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848200" y="3521160"/>
            <a:ext cx="28645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Si E</a:t>
            </a:r>
            <a:r>
              <a:rPr b="1" lang="es-CL" sz="1800" spc="-1" strike="noStrike" baseline="-25000">
                <a:solidFill>
                  <a:srgbClr val="0033cc"/>
                </a:solidFill>
                <a:latin typeface="Arial"/>
              </a:rPr>
              <a:t>i</a:t>
            </a: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 = 0, se obtiene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resultado indicado en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33cc"/>
                </a:solidFill>
                <a:latin typeface="Arial"/>
              </a:rPr>
              <a:t>últim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6479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486320" cy="5753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324000" y="5084640"/>
          <a:ext cx="799920" cy="15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5084640"/>
                    <a:ext cx="7999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74720" y="1846440"/>
            <a:ext cx="152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33cc"/>
                </a:solidFill>
                <a:latin typeface="Comic Sans MS"/>
              </a:rPr>
              <a:t>de este sistem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46483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55292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1T00:54:41Z</dcterms:modified>
  <cp:revision>2</cp:revision>
  <dc:subject/>
  <dc:title>Dinámica de una masa sobre una cuña</dc:title>
</cp:coreProperties>
</file>