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3577-2854-4312-9F68-25B726997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0B13-F19B-4550-BE8C-634B30AEE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068C-6F47-4B59-AEA4-C192A5D7A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89F7-1D1E-4DFD-A305-21279975C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EFE4-AE52-48D0-BB37-A1EE2E0C5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F3DF-3348-4426-B348-4BF1FCA0A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9EB8-473E-4DC6-AC30-E5BC5C83E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80FE-737E-4C69-9726-88D90DE91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89C4-60F2-44C9-B5ED-4E2304FE8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1CC2-164B-427B-9857-A9510B786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75BB-428B-4AD7-B207-E05902F0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E4BD-20DA-4F1A-9312-A0BFDC30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871E3-4FC3-4700-B017-1FBC4EF7A3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6600"/>
                </a:solidFill>
                <a:latin typeface="Verdana"/>
              </a:rPr>
              <a:t>Dinámica de una masa sobre una cuñ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15640" y="2491920"/>
            <a:ext cx="65516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Diagrama de cuerpo lib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Principio de Superposi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Ecuaciones de Movi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cc"/>
                </a:solidFill>
                <a:latin typeface="Arial"/>
              </a:rPr>
              <a:t>(Segunda Ley de Newt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236000" y="333360"/>
            <a:ext cx="1690560" cy="6397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140360" y="189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</a:rPr>
              <a:t>FI-100-02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808080"/>
                </a:solidFill>
                <a:latin typeface="Arial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236000" y="333360"/>
            <a:ext cx="169056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236000" y="333360"/>
            <a:ext cx="169056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4432320" cy="5977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877080" y="189000"/>
            <a:ext cx="2057400" cy="779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236000" y="189000"/>
            <a:ext cx="1690560" cy="639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4478400" cy="5611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236000" y="333360"/>
            <a:ext cx="1690560" cy="639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4645080" cy="6308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Verdana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Verdana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Arial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236000" y="333360"/>
            <a:ext cx="1690560" cy="639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4485960" cy="6381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Verdana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Verdana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Arial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236000" y="333360"/>
            <a:ext cx="1690560" cy="639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5021280" cy="6381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148360" y="90792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</a:rPr>
              <a:t>FI-100-02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808080"/>
                </a:solidFill>
                <a:latin typeface="Arial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32360" y="2637000"/>
            <a:ext cx="397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6600"/>
                </a:solidFill>
                <a:latin typeface="Comic Sans MS"/>
              </a:rPr>
              <a:t>Aquí se usa la conservación de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6600"/>
                </a:solidFill>
                <a:latin typeface="Comic Sans MS"/>
              </a:rPr>
              <a:t>energía. Esta es la ecu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6600"/>
                </a:solidFill>
                <a:latin typeface="Comic Sans MS"/>
              </a:rPr>
              <a:t>adicional que permite resolv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6600"/>
                </a:solidFill>
                <a:latin typeface="Comic Sans MS"/>
              </a:rPr>
              <a:t>las incógnit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00720" y="2060640"/>
            <a:ext cx="4392360" cy="2232000"/>
          </a:xfrm>
          <a:prstGeom prst="cloudCallout">
            <a:avLst>
              <a:gd name="adj1" fmla="val -52097"/>
              <a:gd name="adj2" fmla="val 62092"/>
            </a:avLst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236000" y="333360"/>
            <a:ext cx="1690560" cy="639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4714920" cy="61912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003640" y="765000"/>
            <a:ext cx="367380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</a:rPr>
              <a:t>FI-100-02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808080"/>
                </a:solidFill>
                <a:latin typeface="Arial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236000" y="333360"/>
            <a:ext cx="1690560" cy="639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4133880" cy="56005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788000" y="83664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236000" y="333360"/>
            <a:ext cx="1690560" cy="639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4530960" cy="63705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716360" y="69228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</a:rPr>
              <a:t>FI-100-02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808080"/>
                </a:solidFill>
                <a:latin typeface="Arial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6T17:11:57Z</dcterms:created>
  <dc:creator>Nelson Zamorano</dc:creator>
  <dc:description/>
  <dc:language>en-US</dc:language>
  <cp:lastModifiedBy>Nelson Zamorano</cp:lastModifiedBy>
  <dcterms:modified xsi:type="dcterms:W3CDTF">2008-05-26T17:53:03Z</dcterms:modified>
  <cp:revision>2</cp:revision>
  <dc:subject/>
  <dc:title>Dinámica de una masa sobre una cuña</dc:title>
</cp:coreProperties>
</file>