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643-9AA2-4293-BC59-9B9CB746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7C0-7BA8-401C-A4E3-3A264353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88C-2C0E-4415-9DF5-95AB76B7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E93-8CB6-4E02-BE7D-7EAD47A6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A9F-50F8-4FFC-8690-3906BEB4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8F0-F00D-4003-B2DE-1D4CA768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2A2-485B-4B55-819F-ACD0560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25A-BB09-40CC-B289-83713280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467-F862-4684-8092-233D5FF1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F68-E43C-475C-9A86-F043F57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3C7-15C6-4E56-851F-866B0DD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ADA-E264-4F67-9FFF-6256770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86AA-C154-4D38-943B-DFF15C0F7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Dinámica de una masa sobre una cu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iagrama de cuerpo lib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Principio de Superpo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Ecuacione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Arial"/>
              </a:rPr>
              <a:t>(Segunda Ley de 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40360" y="189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32320" cy="597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78400" cy="5611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645080" cy="63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8596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2128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8360" y="90792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637000"/>
            <a:ext cx="39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quí se usa la conserva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energía. Esta es la ec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dicional que permite res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las incógn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060640"/>
            <a:ext cx="4392360" cy="2232000"/>
          </a:xfrm>
          <a:prstGeom prst="cloudCallout">
            <a:avLst>
              <a:gd name="adj1" fmla="val -52097"/>
              <a:gd name="adj2" fmla="val 62092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14920" cy="619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765000"/>
            <a:ext cx="3673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600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83664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0960" cy="637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69228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7:11:57Z</dcterms:created>
  <dc:creator>Nelson Zamorano</dc:creator>
  <dc:description/>
  <dc:language>en-US</dc:language>
  <cp:lastModifiedBy>Nelson Zamorano</cp:lastModifiedBy>
  <dcterms:modified xsi:type="dcterms:W3CDTF">2008-05-26T17:53:03Z</dcterms:modified>
  <cp:revision>2</cp:revision>
  <dc:subject/>
  <dc:title>Dinámica de una masa sobre una cuña</dc:title>
</cp:coreProperties>
</file>