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565-98DF-421C-8498-6C7EDAA2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317-118D-4A24-9F2E-72EE09D1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DA7-D95E-4F01-A4ED-207E2582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967-F785-4F57-97AA-DA638B99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567-86AD-4B01-80CC-A7D041BE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B0C-0C7F-450C-A287-58E9CDA0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CB4-DE9A-4165-91EB-63769B4B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676-C244-4C95-88DC-72B75D5F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24E-DA4C-4266-9468-FD48DACE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211-B91E-4575-8A95-09F45DCF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933-94C8-41A1-B62D-A3C7FCB1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585-91EC-4003-9542-DDBA92EF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D69E-C3DC-44CA-96DC-DBD90F510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Dinámica de una masa sobre una cuñ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iagrama de cuerpo lib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Principio de Superpo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Ecuacione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Arial"/>
              </a:rPr>
              <a:t>(Segunda Ley de New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40360" y="189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32320" cy="597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478400" cy="5611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645080" cy="630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485960" cy="638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21280" cy="638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48360" y="90792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637000"/>
            <a:ext cx="39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quí se usa la conserva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energía. Esta es la ecu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dicional que permite resol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las incógni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2060640"/>
            <a:ext cx="4392360" cy="2232000"/>
          </a:xfrm>
          <a:prstGeom prst="cloudCallout">
            <a:avLst>
              <a:gd name="adj1" fmla="val -52097"/>
              <a:gd name="adj2" fmla="val 62092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714920" cy="619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03640" y="765000"/>
            <a:ext cx="36738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133880" cy="5600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83664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530960" cy="637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69228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7:11:57Z</dcterms:created>
  <dc:creator>Nelson Zamorano</dc:creator>
  <dc:description/>
  <dc:language>en-US</dc:language>
  <cp:lastModifiedBy>Nelson Zamorano</cp:lastModifiedBy>
  <dcterms:modified xsi:type="dcterms:W3CDTF">2008-05-26T17:53:03Z</dcterms:modified>
  <cp:revision>2</cp:revision>
  <dc:subject/>
  <dc:title>Dinámica de una masa sobre una cuña</dc:title>
</cp:coreProperties>
</file>