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C75-EBF8-4CCC-A2B2-0E1C717F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E95-ABBB-454A-83C4-5A5F33FE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A76-DBDC-4A0E-B1F3-3B9C20D1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D6B-EA74-4B50-AF80-73E776D6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457-7F3C-48CD-9D28-0394CBD7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959-7F74-4288-A60C-8A54F6AF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B5C-C1E5-4A6C-9D74-40C464AB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77A-7CA2-4D1B-A438-C1E6AE1D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FA7-68F8-43DC-8F18-7ADF03D3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C6F-697D-419C-99CC-75F0900F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EE7-6329-476A-95FE-EC831B84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BDB-1642-43AD-923F-BD33FE67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5A22-8B56-438B-87B8-88F0762A3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Dinámica de una masa sobre una cuñ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iagrama de cuerpo lib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Principio de Superpos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Ecuaciones de Mov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cc"/>
                </a:solidFill>
                <a:latin typeface="Arial"/>
              </a:rPr>
              <a:t>(Segunda Ley de New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140360" y="189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432320" cy="5977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478400" cy="5611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645080" cy="6308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485960" cy="638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21280" cy="6381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48360" y="90792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2637000"/>
            <a:ext cx="39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Aquí se usa la conservación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energía. Esta es la ecu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adicional que permite resol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las incógnit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2060640"/>
            <a:ext cx="4392360" cy="2232000"/>
          </a:xfrm>
          <a:prstGeom prst="cloudCallout">
            <a:avLst>
              <a:gd name="adj1" fmla="val -52097"/>
              <a:gd name="adj2" fmla="val 62092"/>
            </a:avLst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714920" cy="619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03640" y="765000"/>
            <a:ext cx="367380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4133880" cy="5600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83664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530960" cy="6370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360" y="69228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7:11:57Z</dcterms:created>
  <dc:creator>Nelson Zamorano</dc:creator>
  <dc:description/>
  <dc:language>en-US</dc:language>
  <cp:lastModifiedBy>Nelson Zamorano</cp:lastModifiedBy>
  <dcterms:modified xsi:type="dcterms:W3CDTF">2008-05-26T17:53:03Z</dcterms:modified>
  <cp:revision>2</cp:revision>
  <dc:subject/>
  <dc:title>Dinámica de una masa sobre una cuña</dc:title>
</cp:coreProperties>
</file>