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.wmf" ContentType="image/x-wmf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_trad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_trad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_trad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C436480-1DDD-474F-ADCB-17C3B8841245}" type="slidenum"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EJEMPLOS PROPUEST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1.- A partir de un triángulo isósceles cuyos ángulos en la base son de 72 grados encontrar el valor de coseno y seno  de 18 grados, 36 grados y 54 g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(Teorema de Tha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2.- ¿Cómo definir radian? Usar el teorema de t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3.- quebrar una circunferencia en ángulos pequeños y sumarlos adecuad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4.- Aproximar la longitud de una arco mediante una cuer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    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Usar figuras inscritas y ex inscri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eorema del seno y coseno: demostración (Pág. 451 y 452 de N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eorema del ángulo doble: demostración geométrica  (Pág.445 de NZ. Ver erra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6200000">
            <a:off x="3071160" y="4235760"/>
            <a:ext cx="4351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CL Elemental Sans"/>
              </a:rPr>
              <a:t>Introducción a la 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CL Elemental Sans"/>
              </a:rPr>
              <a:t> - </a:t>
            </a:r>
            <a:r>
              <a:rPr b="1" lang="es-ES" sz="1000" spc="-1" strike="noStrike">
                <a:solidFill>
                  <a:srgbClr val="808080"/>
                </a:solidFill>
                <a:latin typeface="TCL Elemental Sans"/>
              </a:rPr>
              <a:t>Nelson Zamorano H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029200" y="609480"/>
            <a:ext cx="0" cy="59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3059280" y="6237360"/>
            <a:ext cx="1942920" cy="387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300720" y="409680"/>
            <a:ext cx="261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CL Elemental Sans"/>
              </a:rPr>
              <a:t>Introducción a la  Física Newtoni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596360" y="76320"/>
            <a:ext cx="1120680" cy="42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876920" y="0"/>
            <a:ext cx="4724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2492280"/>
            <a:ext cx="596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FI-100-02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CL Elemental Sans"/>
              </a:rPr>
              <a:t>Introducción a l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CL Elemental Sans"/>
              </a:rPr>
              <a:t>Física Newtoniana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Nelson Zamorano H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708360" y="1857240"/>
            <a:ext cx="2057400" cy="779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348000" y="4581360"/>
            <a:ext cx="626436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88960" y="765000"/>
            <a:ext cx="37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198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88960" y="765000"/>
            <a:ext cx="37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430380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88960" y="765000"/>
            <a:ext cx="37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412128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94000" y="765000"/>
            <a:ext cx="38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425304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94000" y="765000"/>
            <a:ext cx="38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419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4549680" cy="58327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094000" y="765000"/>
            <a:ext cx="38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51400" y="83664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40579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94320" y="98100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55680" y="992160"/>
            <a:ext cx="444492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51400" y="90792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352760" cy="58197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765760" y="5013360"/>
            <a:ext cx="26146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Note 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la ecuación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el gráfico de la Figu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Considera </a:t>
            </a:r>
            <a:r>
              <a:rPr b="0" lang="es-CL" sz="1800" spc="-1" strike="noStrike">
                <a:solidFill>
                  <a:srgbClr val="0066cc"/>
                </a:solidFill>
                <a:latin typeface="Symbol"/>
                <a:ea typeface="Symbol"/>
              </a:rPr>
              <a:t></a:t>
            </a:r>
            <a:r>
              <a:rPr b="0" lang="es-CL" sz="1800" spc="-1" strike="noStrike" baseline="-25000">
                <a:solidFill>
                  <a:srgbClr val="0066cc"/>
                </a:solidFill>
                <a:latin typeface="Verdana"/>
              </a:rPr>
              <a:t>o </a:t>
            </a: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negat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92720" y="4941720"/>
            <a:ext cx="3600360" cy="1582920"/>
          </a:xfrm>
          <a:prstGeom prst="wedgeEllipseCallout">
            <a:avLst>
              <a:gd name="adj1" fmla="val -104277"/>
              <a:gd name="adj2" fmla="val 6768"/>
            </a:avLst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22680" y="90792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46306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5600" y="68904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Verdana"/>
              </a:rPr>
              <a:t>CLASE 1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Marzo1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413000"/>
            <a:ext cx="4557960" cy="50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Ángulos Alternos Internos</a:t>
            </a:r>
            <a:r>
              <a:rPr b="0" lang="es-ES" sz="3600" spc="-1" strike="noStrike">
                <a:solidFill>
                  <a:srgbClr val="006600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Correspo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Teorema de Tale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   </a:t>
            </a: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Mi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Radi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Cuerda y Ar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   </a:t>
            </a: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   </a:t>
            </a: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Circun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132000" y="2205000"/>
            <a:ext cx="1752840" cy="907920"/>
            <a:chOff x="3132000" y="2205000"/>
            <a:chExt cx="1752840" cy="907920"/>
          </a:xfrm>
        </p:grpSpPr>
        <p:sp>
          <p:nvSpPr>
            <p:cNvPr id="56" name=""/>
            <p:cNvSpPr/>
            <p:nvPr/>
          </p:nvSpPr>
          <p:spPr>
            <a:xfrm flipV="1">
              <a:off x="3132000" y="2782800"/>
              <a:ext cx="1752840" cy="5400"/>
            </a:xfrm>
            <a:prstGeom prst="line">
              <a:avLst/>
            </a:prstGeom>
            <a:ln w="34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132000" y="2399400"/>
              <a:ext cx="1752840" cy="12240"/>
            </a:xfrm>
            <a:prstGeom prst="line">
              <a:avLst/>
            </a:prstGeom>
            <a:ln w="34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3637080" y="2205000"/>
              <a:ext cx="515520" cy="90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340000" y="3573360"/>
            <a:ext cx="2362320" cy="804960"/>
            <a:chOff x="2340000" y="3573360"/>
            <a:chExt cx="2362320" cy="804960"/>
          </a:xfrm>
        </p:grpSpPr>
        <p:sp>
          <p:nvSpPr>
            <p:cNvPr id="60" name=""/>
            <p:cNvSpPr/>
            <p:nvPr/>
          </p:nvSpPr>
          <p:spPr>
            <a:xfrm flipH="1">
              <a:off x="2340000" y="3573360"/>
              <a:ext cx="2362320" cy="590400"/>
            </a:xfrm>
            <a:prstGeom prst="rtTriangl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057920" y="3573360"/>
              <a:ext cx="0" cy="804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581920" y="4508640"/>
            <a:ext cx="2241360" cy="1643040"/>
            <a:chOff x="2581920" y="4508640"/>
            <a:chExt cx="2241360" cy="1643040"/>
          </a:xfrm>
        </p:grpSpPr>
        <p:sp>
          <p:nvSpPr>
            <p:cNvPr id="63" name=""/>
            <p:cNvSpPr/>
            <p:nvPr/>
          </p:nvSpPr>
          <p:spPr>
            <a:xfrm>
              <a:off x="3433680" y="5299200"/>
              <a:ext cx="131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3024360" y="4726080"/>
              <a:ext cx="985680" cy="9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81920" y="4674240"/>
              <a:ext cx="1443600" cy="135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638" y="3370"/>
                  </a:moveTo>
                  <a:arcTo wR="10800" hR="10800" stAng="-2608210" swAng="22867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8638" y="3370"/>
                  </a:moveTo>
                  <a:arcTo wR="10800" hR="10800" stAng="-2608210" swAng="2286788"/>
                </a:path>
              </a:pathLst>
            </a:custGeom>
            <a:noFill/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43280" y="4751640"/>
              <a:ext cx="1185480" cy="109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74"/>
                  </a:moveTo>
                  <a:arcTo wR="10800" hR="10800" stAng="-39991" swAng="1876191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74"/>
                  </a:moveTo>
                  <a:arcTo wR="10800" hR="10800" stAng="-39991" swAng="18761917"/>
                </a:path>
              </a:pathLst>
            </a:custGeom>
            <a:noFill/>
            <a:ln w="34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3039840" y="4873680"/>
              <a:ext cx="393480" cy="42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028400" y="5361120"/>
              <a:ext cx="794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RADIO =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19840" y="479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0000"/>
                  </a:solidFill>
                  <a:latin typeface="Arial"/>
                </a:rPr>
                <a:t>ar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33680" y="4508640"/>
              <a:ext cx="0" cy="164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3274920" y="5516280"/>
              <a:ext cx="7207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60560" y="5803920"/>
              <a:ext cx="72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0000"/>
                  </a:solidFill>
                  <a:latin typeface="Arial"/>
                </a:rPr>
                <a:t>cuer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687840" y="5659560"/>
              <a:ext cx="288720" cy="216000"/>
            </a:xfrm>
            <a:custGeom>
              <a:avLst/>
              <a:gdLst/>
              <a:ahLst/>
              <a:rect l="l" t="t" r="r" b="b"/>
              <a:pathLst>
                <a:path w="182" h="136">
                  <a:moveTo>
                    <a:pt x="182" y="136"/>
                  </a:moveTo>
                  <a:cubicBezTo>
                    <a:pt x="106" y="79"/>
                    <a:pt x="30" y="23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03840" y="4940280"/>
              <a:ext cx="215640" cy="71640"/>
            </a:xfrm>
            <a:custGeom>
              <a:avLst/>
              <a:gdLst/>
              <a:ahLst/>
              <a:rect l="l" t="t" r="r" b="b"/>
              <a:pathLst>
                <a:path w="136" h="45">
                  <a:moveTo>
                    <a:pt x="136" y="0"/>
                  </a:moveTo>
                  <a:cubicBezTo>
                    <a:pt x="136" y="0"/>
                    <a:pt x="68" y="22"/>
                    <a:pt x="0" y="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94320" y="90792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451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94320" y="83664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24000" y="333360"/>
            <a:ext cx="424332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94320" y="83664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24800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1400" y="98100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39640" y="404640"/>
            <a:ext cx="410544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51400" y="98100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46515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330800" cy="59436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351400" y="98100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01600" y="54936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648000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01520" y="98100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1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 03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46160" y="923760"/>
            <a:ext cx="442584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01520" y="98100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1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 03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3225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01520" y="98100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1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 03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473076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5640" y="620640"/>
            <a:ext cx="32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2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Marzo13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4280" y="1484280"/>
            <a:ext cx="35089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Verdana"/>
              </a:rPr>
              <a:t>Triángulo rectáng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Verdana"/>
              </a:rPr>
              <a:t>TRIGONOMET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Verdana"/>
              </a:rPr>
              <a:t>Igualda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Verdana"/>
              </a:rPr>
              <a:t>  </a:t>
            </a:r>
            <a:r>
              <a:rPr b="1" lang="es-CL" sz="2400" spc="-1" strike="noStrike">
                <a:solidFill>
                  <a:srgbClr val="cc0000"/>
                </a:solidFill>
                <a:latin typeface="Verdana"/>
              </a:rPr>
              <a:t>Trigonomét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292720" y="549360"/>
            <a:ext cx="1663200" cy="1210680"/>
            <a:chOff x="5292720" y="549360"/>
            <a:chExt cx="1663200" cy="1210680"/>
          </a:xfrm>
        </p:grpSpPr>
        <p:grpSp>
          <p:nvGrpSpPr>
            <p:cNvPr id="79" name=""/>
            <p:cNvGrpSpPr/>
            <p:nvPr/>
          </p:nvGrpSpPr>
          <p:grpSpPr>
            <a:xfrm>
              <a:off x="5292720" y="549360"/>
              <a:ext cx="1663200" cy="1210680"/>
              <a:chOff x="5292720" y="549360"/>
              <a:chExt cx="1663200" cy="121068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5562000" y="549360"/>
                <a:ext cx="1393920" cy="981720"/>
                <a:chOff x="5562000" y="549360"/>
                <a:chExt cx="1393920" cy="98172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5562000" y="549360"/>
                  <a:ext cx="0" cy="9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5562000" y="1531080"/>
                  <a:ext cx="1393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562000" y="549360"/>
                  <a:ext cx="1393920" cy="9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84" name=""/>
                  <p:cNvSpPr txBox="1"/>
                  <p:nvPr/>
                </p:nvSpPr>
                <p:spPr>
                  <a:xfrm>
                    <a:off x="5292720" y="942120"/>
                    <a:ext cx="155520" cy="130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5" name=""/>
                  <p:cNvSpPr txBox="1"/>
                  <p:nvPr/>
                </p:nvSpPr>
                <p:spPr>
                  <a:xfrm>
                    <a:off x="6101640" y="1596600"/>
                    <a:ext cx="153720" cy="16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6" name=""/>
                  <p:cNvSpPr txBox="1"/>
                  <p:nvPr/>
                </p:nvSpPr>
                <p:spPr>
                  <a:xfrm>
                    <a:off x="6326640" y="844200"/>
                    <a:ext cx="179280" cy="162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c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7" name=""/>
              <p:cNvSpPr/>
              <p:nvPr/>
            </p:nvSpPr>
            <p:spPr>
              <a:xfrm>
                <a:off x="5562000" y="1432800"/>
                <a:ext cx="134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697000" y="1432800"/>
                <a:ext cx="0" cy="9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6597360" y="1367280"/>
                  <a:ext cx="171360" cy="16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0" name=""/>
            <p:cNvSpPr/>
            <p:nvPr/>
          </p:nvSpPr>
          <p:spPr>
            <a:xfrm flipH="1">
              <a:off x="6417000" y="1301400"/>
              <a:ext cx="449280" cy="45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580000" y="5516640"/>
                <a:ext cx="30956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332000" y="3789360"/>
            <a:ext cx="3600360" cy="216072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5364000" y="3789360"/>
            <a:ext cx="3673800" cy="1514520"/>
            <a:chOff x="5364000" y="3789360"/>
            <a:chExt cx="3673800" cy="1514520"/>
          </a:xfrm>
        </p:grpSpPr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5364000" y="3789360"/>
                  <a:ext cx="36738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t xml:space="preserve">c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5364000" y="4354560"/>
                  <a:ext cx="360072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c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5364000" y="4857840"/>
                  <a:ext cx="3600720" cy="4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C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7" name=""/>
          <p:cNvSpPr/>
          <p:nvPr/>
        </p:nvSpPr>
        <p:spPr>
          <a:xfrm>
            <a:off x="6001200" y="190800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99"/>
                </a:solidFill>
                <a:latin typeface="Symbol"/>
                <a:ea typeface="Symbol"/>
              </a:rPr>
              <a:t>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97840" y="190800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99"/>
                </a:solidFill>
                <a:latin typeface="Symbol"/>
                <a:ea typeface="Symbol"/>
              </a:rPr>
              <a:t>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27880" y="2133720"/>
            <a:ext cx="1810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91480" y="246852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99"/>
                </a:solidFill>
                <a:latin typeface="Symbol"/>
                <a:ea typeface="Symbol"/>
              </a:rPr>
              <a:t>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88480" y="246852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99"/>
                </a:solidFill>
                <a:latin typeface="Symbol"/>
                <a:ea typeface="Symbol"/>
              </a:rPr>
              <a:t>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75680" y="2693880"/>
            <a:ext cx="166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78880" y="302724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99"/>
                </a:solidFill>
                <a:latin typeface="Symbol"/>
                <a:ea typeface="Symbol"/>
              </a:rPr>
              <a:t>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75880" y="302724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99"/>
                </a:solidFill>
                <a:latin typeface="Symbol"/>
                <a:ea typeface="Symbol"/>
              </a:rPr>
              <a:t>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05560" y="3252960"/>
            <a:ext cx="1810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3040" y="289728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600040" y="289728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298360" y="318924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595000" y="318924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05600" y="3252960"/>
            <a:ext cx="785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97360" y="325764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02400" y="296388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78240" y="309564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2640" y="253512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00560" y="197640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924320" y="328140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27520" y="311940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99"/>
                </a:solidFill>
                <a:latin typeface="Times New Roman"/>
              </a:rPr>
              <a:t>t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17800" y="255888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99"/>
                </a:solidFill>
                <a:latin typeface="Times New Roman"/>
              </a:rPr>
              <a:t>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929360" y="298764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422480" y="3281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23920" y="29876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94400" y="2722680"/>
            <a:ext cx="9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84320" y="24289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53440" y="2162160"/>
            <a:ext cx="9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446240" y="186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83480" y="2162160"/>
            <a:ext cx="1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94560" y="1868400"/>
            <a:ext cx="1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27520" y="200016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3399"/>
                </a:solidFill>
                <a:latin typeface="Times New Roman"/>
              </a:rPr>
              <a:t>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45320" y="3095640"/>
            <a:ext cx="16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02240" y="3095640"/>
            <a:ext cx="16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14840" y="2535120"/>
            <a:ext cx="16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24560" y="1976400"/>
            <a:ext cx="16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01520" y="98100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1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 03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436716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01520" y="98100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1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 03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4417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01520" y="98100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1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 03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28680" y="1143000"/>
            <a:ext cx="424332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4343400" cy="54864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088960" y="765000"/>
            <a:ext cx="37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88960" y="765000"/>
            <a:ext cx="37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24000" y="404640"/>
            <a:ext cx="4144680" cy="55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88960" y="765000"/>
            <a:ext cx="37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9280" y="990720"/>
            <a:ext cx="4392720" cy="56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88960" y="765000"/>
            <a:ext cx="37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41036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88960" y="765000"/>
            <a:ext cx="37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4386240" cy="5486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435640" y="1974960"/>
            <a:ext cx="3240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Comic Sans MS"/>
              </a:rPr>
              <a:t>Esta es la ecuación de la parábo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Comic Sans MS"/>
              </a:rPr>
              <a:t>para una partícula que salió d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Comic Sans MS"/>
              </a:rPr>
              <a:t>origen con velocidad vo y con un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Comic Sans MS"/>
              </a:rPr>
              <a:t>dirección </a:t>
            </a:r>
            <a:r>
              <a:rPr b="1" lang="es-ES" sz="1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" sz="1400" spc="-1" strike="noStrike">
                <a:solidFill>
                  <a:srgbClr val="3333cc"/>
                </a:solidFill>
                <a:latin typeface="Comic Sans MS"/>
              </a:rPr>
              <a:t>o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Comic Sans MS"/>
              </a:rPr>
              <a:t>Estas son las dos condiciones</a:t>
            </a:r>
            <a:r>
              <a:rPr b="1" lang="es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Comic Sans MS"/>
              </a:rPr>
              <a:t>iniciales que caracterizan 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Comic Sans MS"/>
              </a:rPr>
              <a:t>movimiento posterior</a:t>
            </a:r>
            <a:r>
              <a:rPr b="1" lang="es-ES" sz="1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88960" y="765000"/>
            <a:ext cx="37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511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18:22:08Z</dcterms:created>
  <dc:creator>Alejandra Avila</dc:creator>
  <dc:description/>
  <dc:language>en-US</dc:language>
  <cp:lastModifiedBy>Nelson Zamorano</cp:lastModifiedBy>
  <dcterms:modified xsi:type="dcterms:W3CDTF">2008-04-17T16:38:14Z</dcterms:modified>
  <cp:revision>48</cp:revision>
  <dc:subject/>
  <dc:title>Sin título de diapositiva</dc:title>
</cp:coreProperties>
</file>