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7005638" cy="9291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D640-DA98-4FB8-8938-20EB5BA66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85C5-7CB5-4986-B974-132763ED2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3A52-82EA-41C3-AB84-EC16FF40D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F5C6-164C-449E-B445-E7A60A855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CBAC4-88E2-492B-BD8F-50E6E646C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29A49-1ACE-41EE-B2A7-6CBBBF0FF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B810D-7C66-4AA6-B183-32AA4FF01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255D3-A995-4D2A-8D41-DE6E59163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74FD3-1BFF-43C4-A4C6-01B679473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7354F-B296-458B-A824-0365C1655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1DC56-EB54-4462-8F2C-8A1E9DBB7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E15B-48F0-431D-B012-55A6FFB65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0818A-9B99-4BE6-A18E-B1FB9E7CA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46C74-29E6-4533-BDBC-2BDA34C12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C00C2-8045-46F8-990D-40BE183F5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4B628-1DD0-4298-B193-55F38E264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B8CE2-1C32-4D51-942A-06D4EDA1C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FB0F-9745-4C94-A312-D99C41207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1A7F-3B8E-4CC8-A1A5-D25C4B4E7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ABF1-AC1C-4271-946F-8973F32CA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5BF7-E3FF-4E97-B18D-C0DFD0B7F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DFB1-7609-409E-9626-326702F26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37E5-FCB3-4312-B261-59DC89884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CBC6-9916-4981-84A3-B6D16F8C2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987B4-1C4F-4735-AE5D-614FB8411328}" type="slidenum">
              <a:rPr b="0" lang="es-E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13574-F318-49A2-BCE3-0BE19B28DAE5}" type="slidenum">
              <a:rPr b="0" lang="es-E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1582200" y="727200"/>
            <a:ext cx="654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Dispositivos de protección contra sobretensiones</a:t>
            </a: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812160" y="2174760"/>
            <a:ext cx="8026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-Las sobretensiones se clasifican según duraciones decrecientes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-Las tensiones soportadas en general aumentan al disminuir la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duración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-Es conveniente tomar medidas para limitar las sobretensiones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y también la tensión permanente de frecuencia industrial en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condiciones normales de operación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Característica de resistencia no- lineal de SiC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24080" y="188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10" name="msotw9_temp0" descr=""/>
          <p:cNvPicPr/>
          <p:nvPr/>
        </p:nvPicPr>
        <p:blipFill>
          <a:blip r:embed="rId1"/>
          <a:stretch/>
        </p:blipFill>
        <p:spPr>
          <a:xfrm>
            <a:off x="2438280" y="2320920"/>
            <a:ext cx="5105520" cy="33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1995480" y="14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12" name="msotw9_temp0" descr=""/>
          <p:cNvPicPr/>
          <p:nvPr/>
        </p:nvPicPr>
        <p:blipFill>
          <a:blip r:embed="rId1"/>
          <a:stretch/>
        </p:blipFill>
        <p:spPr>
          <a:xfrm>
            <a:off x="1600200" y="838080"/>
            <a:ext cx="6400800" cy="501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1506960" y="574560"/>
            <a:ext cx="549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Nivel de protección de pararrayo de SiC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ante sobretensiones de frente rápido 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573920" y="2098800"/>
            <a:ext cx="68072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Mayor valor entre 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-Tensión de encendido con impulso de 1.2 * 50 </a:t>
            </a:r>
            <a:r>
              <a:rPr b="0" lang="es-CL" sz="2400" spc="-1" strike="noStrike">
                <a:solidFill>
                  <a:srgbClr val="003366"/>
                </a:solidFill>
                <a:latin typeface="Symbol"/>
                <a:ea typeface="Symbol"/>
              </a:rPr>
              <a:t></a:t>
            </a: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s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-Mayor tensión residual para corriente de descarga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nominal correspondiente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-El voltaje de encendido en el frente dividido por 1.5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se eliminó porque se justificaba sólo para aislaciones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de papel impregnado en aceit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2095560" y="1104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16" name="msotw9_temp0" descr=""/>
          <p:cNvPicPr/>
          <p:nvPr/>
        </p:nvPicPr>
        <p:blipFill>
          <a:blip r:embed="rId1"/>
          <a:stretch/>
        </p:blipFill>
        <p:spPr>
          <a:xfrm>
            <a:off x="1676520" y="609480"/>
            <a:ext cx="6172200" cy="57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1507320" y="574560"/>
            <a:ext cx="561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Nivel de protección de pararrayos de SiC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ante sobretensiones de frente lento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805400" y="2098800"/>
            <a:ext cx="67035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-Mayor tensión de descarga para los impulsos de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corriente especificados en punto 8.3.5 de norma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CEI 99-1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-Estos pararrayos no deberían descargarse nunca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con sobretensiones temporales porque se destruirían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(así se determina el voltaje nominal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1811160" y="955800"/>
            <a:ext cx="407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Pararrayos de óxido metálico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654200" y="2251080"/>
            <a:ext cx="7139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-No poseen chisperos en serie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-Sólo poseen resistencias no-lineales de óxido de cinc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dopado con Bi, Sb, Co, Mn, etc de característica mucho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mas no-lineal que las de carburo de silicio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                          </a:t>
            </a: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I = U</a:t>
            </a:r>
            <a:r>
              <a:rPr b="0" lang="es-CL" sz="2400" spc="-1" strike="noStrike" baseline="30000">
                <a:solidFill>
                  <a:srgbClr val="003366"/>
                </a:solidFill>
                <a:latin typeface="Symbol"/>
                <a:ea typeface="Symbol"/>
              </a:rPr>
              <a:t>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Symbol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Symbol"/>
                <a:ea typeface="Symbol"/>
              </a:rPr>
              <a:t></a:t>
            </a: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= 4 a 6 para  SiC    y     </a:t>
            </a:r>
            <a:r>
              <a:rPr b="0" lang="es-CL" sz="2400" spc="-1" strike="noStrike">
                <a:solidFill>
                  <a:srgbClr val="003366"/>
                </a:solidFill>
                <a:latin typeface="Symbol"/>
                <a:ea typeface="Symbol"/>
              </a:rPr>
              <a:t></a:t>
            </a: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 = 20 para ZnO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buClr>
                <a:srgbClr val="003366"/>
              </a:buClr>
              <a:buFont typeface="Symbol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2419200" y="206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22" name="msotw9_temp0" descr=""/>
          <p:cNvPicPr/>
          <p:nvPr/>
        </p:nvPicPr>
        <p:blipFill>
          <a:blip r:embed="rId1"/>
          <a:stretch/>
        </p:blipFill>
        <p:spPr>
          <a:xfrm>
            <a:off x="2057400" y="2057400"/>
            <a:ext cx="5562720" cy="35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1287000" y="838080"/>
            <a:ext cx="75657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-En un pararrayos de ZnO no existe un voltaje de descarga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(encendido) porque no tienen chisperos en serie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-Sólo existe un voltaje residual debido al paso de la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corriente de descarga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-El nivel de protección lo fija el mayor voltaje residua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-El paso de la zona de alta impedancia a la de baja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impedancia es muy rápido y desaparecen los problemas de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retardo al encendido de los chisperos, presente en los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pararrayos de carburo de silicio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-Así se limitan las sobretensiones de frente empinado a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valores mas bajos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447920" y="1752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9097920" y="1641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033720" y="164160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095560" y="1104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28" name="msotw9_temp0" descr=""/>
          <p:cNvPicPr/>
          <p:nvPr/>
        </p:nvPicPr>
        <p:blipFill>
          <a:blip r:embed="rId1"/>
          <a:stretch/>
        </p:blipFill>
        <p:spPr>
          <a:xfrm>
            <a:off x="1676520" y="609480"/>
            <a:ext cx="6172200" cy="57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1444680" y="685800"/>
            <a:ext cx="7442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Nivel de protección de un pararrayos de óxido metálico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419480" y="2022480"/>
            <a:ext cx="75355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-Voltaje de operación permanente máximo MCOV :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voltaje alterno efectivo de frecuencia industrial mas alto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que se puede aplicar permanentemente entre los terminales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de un pararrayos de óxido metálico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-El nivel de protección de un pararrayos de ZnO queda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determinado únicamente por el mayor valor del voltaje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residual con corriente de descarga nominal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-Este nivel es prácticamente independiente de la forma de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onda de la corriente de descarga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1582560" y="650880"/>
            <a:ext cx="552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Limitación de tensiones y sobretensiones</a:t>
            </a: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890280" y="2022480"/>
            <a:ext cx="82778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-En EAT se puede recurrir a la compensación serie y paralelo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para limitar la tensión permanente de frecuencia industrial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-Las sobretensiones temporales se limitan usando puesta a tierra 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en los neutros de transformadores y diseñando adecuadamente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los reguladores de voltaje y de velocidad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-Las sobretensiones de conexión y desconexión se limitan usando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interruptores de preinserció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-Existen sobretensiones como las provocadas por el rayo que se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deben limitar usando medios drásticos : chisperos y pararrayos 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2147760" y="10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32" name="msotw9_temp0" descr=""/>
          <p:cNvPicPr/>
          <p:nvPr/>
        </p:nvPicPr>
        <p:blipFill>
          <a:blip r:embed="rId1"/>
          <a:stretch/>
        </p:blipFill>
        <p:spPr>
          <a:xfrm>
            <a:off x="1752480" y="762120"/>
            <a:ext cx="5791320" cy="56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1766880" y="-4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34" name="msotw9_temp0" descr=""/>
          <p:cNvPicPr/>
          <p:nvPr/>
        </p:nvPicPr>
        <p:blipFill>
          <a:blip r:embed="rId1"/>
          <a:stretch/>
        </p:blipFill>
        <p:spPr>
          <a:xfrm>
            <a:off x="1752480" y="333360"/>
            <a:ext cx="5610240" cy="62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Comparación del nivel de protección</a:t>
            </a: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36" name="msotw9_temp0" descr=""/>
          <p:cNvPicPr/>
          <p:nvPr/>
        </p:nvPicPr>
        <p:blipFill>
          <a:blip r:embed="rId1"/>
          <a:stretch/>
        </p:blipFill>
        <p:spPr>
          <a:xfrm>
            <a:off x="2362320" y="1523880"/>
            <a:ext cx="4952880" cy="49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Capacidad de soportar sobretensiones temporale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290680" y="180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39" name="msotw9_temp0" descr=""/>
          <p:cNvPicPr/>
          <p:nvPr/>
        </p:nvPicPr>
        <p:blipFill>
          <a:blip r:embed="rId1"/>
          <a:stretch/>
        </p:blipFill>
        <p:spPr>
          <a:xfrm>
            <a:off x="1752480" y="1752480"/>
            <a:ext cx="5943600" cy="42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1050840" y="2174760"/>
            <a:ext cx="7712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     </a:t>
            </a: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TOV : sobretensión temporal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                   </a:t>
            </a: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T = U/Uc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-Para un sistema sólidamente puesto a tierra  TOV  para falla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monofásica a tierra es  1.4  y puede ser soportado por un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pararrayos de ZnO durante  4  s  incluso si la condición de carga  previa es muy grande  8  kJ/kV de Uc (descarga de una línea  larga a través del pararrayos)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-Se debería revisar otros sobrevoltajes temporales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909000" y="2019240"/>
            <a:ext cx="7605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-Los pararrayos de ZnO se pueden encapsular en resina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aumentando su capacidad de absorción de energía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-También se pueden conectar en paralelo con el mismo fin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-Encapsulados se pueden instalar en SS/EE  GIS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-Pueden proteger grandes bancos de condensadores y cables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largos (se pueden descargar a través del pararrayos)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-Se pueden usar para proteger motores y generadores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cebido a la gran variedad de valores de Uc  (MCOV)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1736280" y="879480"/>
            <a:ext cx="357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Dispositivos de protecció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190880" y="2403360"/>
            <a:ext cx="7876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-El dispositivo debe limitar las sobretensiones manteniéndolas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bajo la tensión soportada por los aislamientos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-Esto, aunque parece simple, se complica porque el voltaje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soportado no es único sino que depende del tiempo de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aplicació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2200320" y="19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96" name="msotw9_temp0" descr=""/>
          <p:cNvPicPr/>
          <p:nvPr/>
        </p:nvPicPr>
        <p:blipFill>
          <a:blip r:embed="rId1"/>
          <a:stretch/>
        </p:blipFill>
        <p:spPr>
          <a:xfrm>
            <a:off x="2209680" y="457200"/>
            <a:ext cx="4743720" cy="2876400"/>
          </a:xfrm>
          <a:prstGeom prst="rect">
            <a:avLst/>
          </a:prstGeom>
          <a:ln w="0">
            <a:noFill/>
          </a:ln>
        </p:spPr>
      </p:pic>
      <p:pic>
        <p:nvPicPr>
          <p:cNvPr id="297" name="msotw9_temp0" descr=""/>
          <p:cNvPicPr/>
          <p:nvPr/>
        </p:nvPicPr>
        <p:blipFill>
          <a:blip r:embed="rId2"/>
          <a:stretch/>
        </p:blipFill>
        <p:spPr>
          <a:xfrm>
            <a:off x="2209680" y="3657600"/>
            <a:ext cx="561024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1580760" y="803160"/>
            <a:ext cx="609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Clasificación de los dispositivos de protecció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116720" y="2251080"/>
            <a:ext cx="75110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-Chisperos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-Pararrayos tipo expulsión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-Pararrayos tipo resistencia no-lineal con chisperos en serie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-Pararrayos de óxido metálico sin chisperos (óxido de cinc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2499480" y="803160"/>
            <a:ext cx="173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Pararrayos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116360" y="2174760"/>
            <a:ext cx="7799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-Tienen la ventaja frente a los chisperos, de que limitan la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corriente de frecuencia industrial posterior a una falla, sin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interrumpir el servicio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-Se verán solamente los pararrayos de resistencias no-lineales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de SiC con chisperos en serie, en forma resumida y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-Los pararrayos de óxido metálico (sin chisperos) que han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reemplazado casi totalmente a los de SiC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1581840" y="879480"/>
            <a:ext cx="527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Times New Roman"/>
              </a:rPr>
              <a:t>Pararrayos de carburo de silicio ( SiC 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983520" y="2286000"/>
            <a:ext cx="78282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-Están formados por una o varias resistencias no-lineales de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SiC en serie con uno o varios chisperos en serie en el interior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de una cubierta aislante hermética y elemental de repartición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de tensiones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-En condiciones de operación normales, la corriente de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circulación fase-tierra es muy pequeña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-Cuando la sobretensión supera un valor umbral, se descargan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los chisperos y por lo tanto el pararrayos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1265400" y="2174760"/>
            <a:ext cx="76132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-Las resistencias no-lineales disminuyen fuertemente y la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corriente crece mas rápidamente que la tensión, limitándola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-Después del paso de la corriente de descarga, la corriente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subsiguiente (de 50 Hz) disminuye mas rápidamente que la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tensión y puede ser interrumpida por los chisperos en su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primer paso por cero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-No se provoca interrupción de servicio ni ondas cortadas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2200320" y="19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766880" y="21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7" name="msotw9_temp0" descr=""/>
          <p:cNvPicPr/>
          <p:nvPr/>
        </p:nvPicPr>
        <p:blipFill>
          <a:blip r:embed="rId1"/>
          <a:stretch/>
        </p:blipFill>
        <p:spPr>
          <a:xfrm>
            <a:off x="762120" y="2362320"/>
            <a:ext cx="7819920" cy="37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30T15:07:12Z</dcterms:created>
  <dc:creator>Nelson Morales</dc:creator>
  <dc:description/>
  <dc:language>en-US</dc:language>
  <cp:lastModifiedBy>Nelson Morales</cp:lastModifiedBy>
  <dcterms:modified xsi:type="dcterms:W3CDTF">2005-09-06T14:57:45Z</dcterms:modified>
  <cp:revision>11</cp:revision>
  <dc:subject/>
  <dc:title>Presentación de PowerPoint</dc:title>
</cp:coreProperties>
</file>