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0277-C839-4C7F-809A-BBCD81E2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D10-422E-4E23-9772-C3F979F6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B5E3-0523-4F03-BC86-9489D43F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FCAB-F0BB-414F-B300-3B0EA7DD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6F89-8E1A-4AF6-9B95-E37B6D46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7194-4BDC-4CE3-A3D5-A3641FAB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70AB-1F67-42B6-95CA-57A547E4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7BC4-4951-4B2B-B36D-78DD13AB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3007-2A86-4353-8BD0-A680E185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0BDF-C602-4CC6-B609-7C6DFBF7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EC42-828E-434F-9A5B-C8ED477D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F70D-A6AB-476E-A76E-0D189BB1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EF4B-54AA-4BD4-9AFC-6B9F3251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7CDB-941B-4A62-9AB5-EF4B8B58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4D65-3E07-4D28-8227-56AC120B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0A88-0B83-4E54-9487-3772892D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3A0F-B2A6-4D80-86A4-AEA154EA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285-8116-4870-870E-D0A05CBE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EBAF-1654-468F-AD2E-210E0537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902F-E5E9-486E-8C96-B87EB03B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9792-10F2-4259-AF82-6012A683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D077-D5E5-43AF-BF59-A875BED2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548-7DD9-4BC0-9A62-FFEA4A60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331-DFAC-4030-9C1E-4ECC1476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CBE2-3691-4A3C-B775-E7258CE90C17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A6FF-FA45-42F0-89CC-6472EEE5133F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582200" y="727200"/>
            <a:ext cx="65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ispositivos de protección contra sobretensiones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12160" y="2174760"/>
            <a:ext cx="802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Las sobretensiones se clasifican según duraciones decrecient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Las tensiones soportadas en general aumentan al disminuir 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dura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s conveniente tomar medidas para limitar las sobretension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y también la tensión permanente de frecuencia industrial e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condiciones normales de opera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aracterística de resistencia no- lineal de SiC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2408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0" name="msotw9_temp0" descr=""/>
          <p:cNvPicPr/>
          <p:nvPr/>
        </p:nvPicPr>
        <p:blipFill>
          <a:blip r:embed="rId1"/>
          <a:stretch/>
        </p:blipFill>
        <p:spPr>
          <a:xfrm>
            <a:off x="2438280" y="2320920"/>
            <a:ext cx="510552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9954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msotw9_temp0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64008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506960" y="574560"/>
            <a:ext cx="549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Nivel de protección de pararrayo de SiC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nte sobretensiones de frente rápido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73920" y="2098800"/>
            <a:ext cx="6807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Mayor valor entre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Tensión de encendido con impulso de 1.2 * 50 </a:t>
            </a:r>
            <a:r>
              <a:rPr b="0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Mayor tensión residual para corriente de descarg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nominal correspondient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l voltaje de encendido en el frente dividido por 1.5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se eliminó porque se justificaba sólo para aislacion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de papel impregnado en acei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09556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msotw9_temp0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172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507320" y="574560"/>
            <a:ext cx="561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Nivel de protección de pararrayos de SiC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nte sobretensiones de frente lent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05400" y="2098800"/>
            <a:ext cx="6703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Mayor tensión de descarga para los impulsos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corriente especificados en punto 8.3.5 de norm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CEI 99-1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stos pararrayos no deberían descargarse nunc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con sobretensiones temporales porque se destruiría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(así se determina el voltaje nominal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811160" y="955800"/>
            <a:ext cx="40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ararrayos de óxido metálic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54200" y="2251080"/>
            <a:ext cx="713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No poseen chisperos en seri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Sólo poseen resistencias no-lineales de óxido de cinc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dopado con Bi, Sb, Co, Mn, etc de característica much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mas no-lineal que las de carburo de silici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                        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I = U</a:t>
            </a:r>
            <a:r>
              <a:rPr b="0" lang="es-CL" sz="2400" spc="-1" strike="noStrike" baseline="30000">
                <a:solidFill>
                  <a:srgbClr val="003366"/>
                </a:solidFill>
                <a:latin typeface="Symbol"/>
                <a:ea typeface="Symbol"/>
              </a:rPr>
              <a:t>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= 4 a 6 para  SiC    y     </a:t>
            </a:r>
            <a:r>
              <a:rPr b="0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= 20 para Zn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41920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msotw9_temp0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56272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287000" y="838080"/>
            <a:ext cx="7565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n un pararrayos de ZnO no existe un voltaje de descarg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(encendido) porque no tienen chisperos en seri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Sólo existe un voltaje residual debido al paso de 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corriente de descarg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l nivel de protección lo fija el mayor voltaje residu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l paso de la zona de alta impedancia a la de baj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impedancia es muy rápido y desaparecen los problemas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retardo al encendido de los chisperos, presente en l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pararrayos de carburo de silici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Así se limitan las sobretensiones de frente empinado 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valores mas baj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175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97920" y="164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33720" y="16416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09556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8" name="msotw9_temp0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172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444680" y="685800"/>
            <a:ext cx="744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Nivel de protección de un pararrayos de óxido metálic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19480" y="2022480"/>
            <a:ext cx="753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Voltaje de operación permanente máximo MCOV 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voltaje alterno efectivo de frecuencia industrial mas alt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que se puede aplicar permanentemente entre los terminal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de un pararrayos de óxido metálic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l nivel de protección de un pararrayos de ZnO qued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determinado únicamente por el mayor valor del voltaj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residual con corriente de descarga nomin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ste nivel es prácticamente independiente de la forma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onda de la corriente de descarg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582560" y="650880"/>
            <a:ext cx="55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Limitación de tensiones y sobretensiones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90280" y="2022480"/>
            <a:ext cx="827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n EAT se puede recurrir a la compensación serie y paralel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para limitar la tensión permanente de frecuencia industri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Las sobretensiones temporales se limitan usando puesta a tierra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en los neutros de transformadores y diseñando adecuadament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los reguladores de voltaje y de velocida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Las sobretensiones de conexión y desconexión se limitan usand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interruptores de preinser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xisten sobretensiones como las provocadas por el rayo que s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deben limitar usando medios drásticos : chisperos y pararrayos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147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2" name="msotw9_temp0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7913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66880" y="-4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4" name="msotw9_temp0" descr=""/>
          <p:cNvPicPr/>
          <p:nvPr/>
        </p:nvPicPr>
        <p:blipFill>
          <a:blip r:embed="rId1"/>
          <a:stretch/>
        </p:blipFill>
        <p:spPr>
          <a:xfrm>
            <a:off x="1752480" y="333360"/>
            <a:ext cx="561024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mparación del nivel de protección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6" name="msotw9_temp0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9528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apacidad de soportar sobretensiones tempora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9068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9" name="msotw9_temp0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94360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050840" y="2174760"/>
            <a:ext cx="771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TOV : sobretensión tempor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T = U/U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Para un sistema sólidamente puesto a tierra  TOV  para fal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monofásica a tierra es  1.4  y puede ser soportado por u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pararrayos de ZnO durante  4  s  incluso si la condición de carga  previa es muy grande  8  kJ/kV de Uc (descarga de una línea  larga a través del pararrayos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Se debería revisar otros sobrevoltajes temporal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09000" y="2019240"/>
            <a:ext cx="7605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Los pararrayos de ZnO se pueden encapsular en resin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aumentando su capacidad de absorción de energí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También se pueden conectar en paralelo con el mismo fi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ncapsulados se pueden instalar en SS/EE  GI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Pueden proteger grandes bancos de condensadores y cabl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largos (se pueden descargar a través del pararrayos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Se pueden usar para proteger motores y generador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cebido a la gran variedad de valores de Uc  (MCOV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36280" y="87948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ispositivos de protec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90880" y="2403360"/>
            <a:ext cx="787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l dispositivo debe limitar las sobretensiones manteniéndola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bajo la tensión soportada por los aislamiento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sto, aunque parece simple, se complica porque el voltaj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soportado no es único sino que depende del tiempo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aplic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0032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6" name="msotw9_temp0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743720" cy="2876400"/>
          </a:xfrm>
          <a:prstGeom prst="rect">
            <a:avLst/>
          </a:prstGeom>
          <a:ln w="0">
            <a:noFill/>
          </a:ln>
        </p:spPr>
      </p:pic>
      <p:pic>
        <p:nvPicPr>
          <p:cNvPr id="297" name="msotw9_temp0" descr=""/>
          <p:cNvPicPr/>
          <p:nvPr/>
        </p:nvPicPr>
        <p:blipFill>
          <a:blip r:embed="rId2"/>
          <a:stretch/>
        </p:blipFill>
        <p:spPr>
          <a:xfrm>
            <a:off x="2209680" y="3657600"/>
            <a:ext cx="56102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580760" y="803160"/>
            <a:ext cx="60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lasificación de los dispositivos de protec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16720" y="2251080"/>
            <a:ext cx="7511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Chisper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Pararrayos tipo expuls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Pararrayos tipo resistencia no-lineal con chisperos en seri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Pararrayos de óxido metálico sin chisperos (óxido de cinc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499480" y="80316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ararray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16360" y="2174760"/>
            <a:ext cx="7799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Tienen la ventaja frente a los chisperos, de que limitan 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corriente de frecuencia industrial posterior a una falla, si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interrumpir el servici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Se verán solamente los pararrayos de resistencias no-lineal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de SiC con chisperos en serie, en forma resumida y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Los pararrayos de óxido metálico (sin chisperos) que ha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reemplazado casi totalmente a los de Si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581840" y="879480"/>
            <a:ext cx="52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ararrayos de carburo de silicio ( SiC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83520" y="2286000"/>
            <a:ext cx="782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stán formados por una o varias resistencias no-lineales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SiC en serie con uno o varios chisperos en serie en el interio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de una cubierta aislante hermética y elemental de reparti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de tension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n condiciones de operación normales, la corriente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circulación fase-tierra es muy pequeñ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Cuando la sobretensión supera un valor umbral, se descarga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los chisperos y por lo tanto el pararray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265400" y="2174760"/>
            <a:ext cx="761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Las resistencias no-lineales disminuyen fuertemente y 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corriente crece mas rápidamente que la tensión, limitándo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Después del paso de la corriente de descarga, la corrient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subsiguiente (de 50 Hz) disminuye mas rápidamente que 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tensión y puede ser interrumpida por los chisperos en su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primer paso por cer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No se provoca interrupción de servicio ni ondas cortada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20032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668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msotw9_temp0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8199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15:07:12Z</dcterms:created>
  <dc:creator>Nelson Morales</dc:creator>
  <dc:description/>
  <dc:language>en-US</dc:language>
  <cp:lastModifiedBy>Nelson Morales</cp:lastModifiedBy>
  <dcterms:modified xsi:type="dcterms:W3CDTF">2005-09-06T14:57:45Z</dcterms:modified>
  <cp:revision>11</cp:revision>
  <dc:subject/>
  <dc:title>Presentación de PowerPoint</dc:title>
</cp:coreProperties>
</file>