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B51-D132-43A2-BCE8-86504CBD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335-9613-4676-9478-773E5880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C3F-B997-4E86-BF3E-A6CAF5A5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52F-3418-4202-A885-F9B037A4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F6E8-AD98-4CCA-AEF5-B3784F37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6397-4B60-4F2F-AD85-4E729519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EAB5-D004-4785-A97A-68B90D68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39E2-C457-4C38-9446-56F5D6E9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B883-BB71-4C02-8E16-5C0E5C59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737B-D97E-4FB7-81CD-103424F2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D57F-9FCB-4CFC-9D09-BB14A2A0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A9B-95B4-4CE0-A4F7-290F916B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59F1-D9A1-48CB-BEB6-6D76EE01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5DFC-4F90-4CBE-9E4B-0ED8D749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0026-E336-48D2-9625-AA873C0D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A942-5D9E-4AC0-968F-424DF71B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5F20-7475-4EEA-B81B-A8B58FE3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EFC-906E-4BDD-A9B9-F49F9748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B05-A1F4-4B2A-9729-F896698D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158-21E6-42E7-AE07-86B0B093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892-A190-4EB8-8EF3-3BA28D97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990-5683-4095-8BDB-72DAF6E0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B7E-1DE6-4E45-9222-C0ACC902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019-7E0C-493A-9B43-98860152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Arial Unicode MS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Arial Unicode M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Arial Unicode MS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Arial Unicode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Arial Unicode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Arial Unicode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A65D-86AD-45F1-8298-30E545F42811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3147-99C7-4D25-ABB4-A27195B0994A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oordinación de Aislami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62520" y="3048120"/>
            <a:ext cx="3962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Relator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fraín Asenjo Sil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Ingeniero civil Electrici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Agosto 200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36640" y="600120"/>
            <a:ext cx="61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Diseño del aislamiento ante los divers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tipos de sobretensiones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0040" y="2251080"/>
            <a:ext cx="6819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specificación y diseño de las aislaciones extern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la red ( intervalos de aire y líneas de fuga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sladores ) : Problema del diseñador de la red 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iseño de la aislación interna : Problema de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structor del equipo (el diseñador de la r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specifica la aislación del equipo y especifica l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de recepción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85800" y="523800"/>
            <a:ext cx="630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Diseño del aislamiento externo de línea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y  subesta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58520" y="2174760"/>
            <a:ext cx="685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seño de intervalos de aire y líneas de fuga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sladores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arámetros que definen las aislaciones extern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alores mínimos admisibles d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m : Intervalo de aire conductor-ma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f   : Línea de fuga de aisl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g  : Intervalo de aire conductor-cable de guard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c  : Intervalo de aire entre conductores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894600" y="2022480"/>
            <a:ext cx="7638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rimero se determinan los intervalos mínim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uego se escogen los aisladores (esfuerzos dieléctricos 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limáticos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debe considerar separadamente los interval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los aislador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adenas de aisladores limpias : descarga el interva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adenas sucias y en presencia de humedad : la tens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portada depende del aislador y contaminación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04800" y="574560"/>
            <a:ext cx="583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agnitudes características de las tension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portadas por los interval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69880" y="2583000"/>
            <a:ext cx="1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04080" y="2098800"/>
            <a:ext cx="664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No se puede determinar teóricamente la ten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portada por un intervalo de aire o aislad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be recurrir a fórmulas empíricas obtenid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ediante ensayos de laboratori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los ensayos se deben simular los esfuerz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léctricos  y climáticos (Publicación CEI 60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657800" y="574560"/>
            <a:ext cx="708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media de descarga con frecuencia industr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un intervalo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0160" y="2590920"/>
            <a:ext cx="73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ste ensayo es posible por tratarse de una aisl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utorregenerabl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realiza un ensayo de tensión de descarga disrupti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segura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l método consiste en aplicar una tensión sinusoid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amplitud creciente hasta producir la descarga de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ntervalo, midiendo la tensión de descarga Ui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92760" y="2209680"/>
            <a:ext cx="69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medida de Ui se repite  n   veces y se calcula su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alor medio Umed y su desviación estandar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85800" y="3165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0760" y="3352680"/>
            <a:ext cx="739368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mo las medidas no están relacionadas directament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la 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W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sta se obtiene castigan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uertemente Um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o usual es suponer :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Umed – 4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30840" y="5638680"/>
            <a:ext cx="7593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l ensayo es rápido pero la obtención de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es obje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realizar un ensayo mas realista es impracticabl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890360" y="95580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con impulso de maniobra y de ray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81120" y="2174760"/>
            <a:ext cx="7139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simulan en laboratorio utilizando generadore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mpulso ( o transformadores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os impulsos se caracterizan por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Valor de crest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iempo de frente convencional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, o de cresta Tc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iempo de cola convencio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962720" y="727200"/>
            <a:ext cx="45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rácter aleatorio de la descar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tensión de impuls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4560" y="2514600"/>
            <a:ext cx="737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descarga es un fenómeno aleatori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or tratarse de aislamientos autorregenerables s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uede obtener experimentalmente la curva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robabilidad acumulativa de descarga P(U) en fun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l valor de cresta U del impuls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titul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622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msotw9_temp0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4648320" cy="2901960"/>
          </a:xfrm>
          <a:prstGeom prst="rect">
            <a:avLst/>
          </a:prstGeom>
          <a:ln w="0">
            <a:noFill/>
          </a:ln>
        </p:spPr>
      </p:pic>
      <p:pic>
        <p:nvPicPr>
          <p:cNvPr id="324" name="msotw9_temp0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60199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2286000" y="685800"/>
          <a:ext cx="4757760" cy="53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685800"/>
                    <a:ext cx="475776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06960" y="2276640"/>
            <a:ext cx="6860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Determinar el aislamiento óptimo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-Consecuencias de la fal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-Graduación de los aislamient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-Orden de riesgo de falla ( aislamiento n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autorregenerable, aislamiento autorregenera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en una SS/EE, en una línea, etc. 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19240" y="2286000"/>
            <a:ext cx="75981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nocido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y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puede obtener la tensión soporta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como la correspondiente a una probabilidad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scarga muy baja, por ejemplo menor que 1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uponiendo que la distribución es Gaussiana result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de descarga se puede definir como la qu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resenta una probabilidad de descarga mayor que 9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resulta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desc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+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661760" y="87948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con impulso de maniob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09440" y="2098800"/>
            <a:ext cx="809496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as ondas de maniobra tienen formas divers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no se puede definir una onda tip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) Sobretensiones de maniobra fase-tier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(o la soportada) por un intervalo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re depende del tiempo de cresta y de la polarida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be considerar la onda mas seve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aplicaciones corrientes se aplica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cr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2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25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214720" y="13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msotw9_temp0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5623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59960" y="955800"/>
            <a:ext cx="51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obretensiones de maniobra fase-fas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209680"/>
            <a:ext cx="81532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utilizan dos generadores de impulso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cr1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gt;&gt;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cr2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Ambas crestas simultáne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aplica al electrodo con mayor gradiente de voltaj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s amplitudes relativas se caracterizan por coeficiente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21320" y="48769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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4648320"/>
            <a:ext cx="217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od(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89480" y="5105520"/>
            <a:ext cx="294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od(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) + mod(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76600" y="48769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------------------------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9000" y="5867280"/>
            <a:ext cx="78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Resultado depende de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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usa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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  0.39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890720" y="95580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s con impulso de ray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2438280"/>
            <a:ext cx="73915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a experiencia indica que basta usar un impulso con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1.2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08280" y="476568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a polaridad se elige con el mismo criterio usa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los impulsos de maniob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661040" y="676440"/>
            <a:ext cx="68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Voltaje soportado por los intervalos de air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35200" y="2556000"/>
            <a:ext cx="69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han realizado muchos ensayos y estudios pa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clarar el fenómeno y obtener fórmulas físic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ero han resultado infructuos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or el momento sólo se dispone de fórmul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mpíricas basadas en muchos datos experiment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738440" y="905040"/>
            <a:ext cx="70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Factores que influyen en el voltaje soportado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79680" y="2174760"/>
            <a:ext cx="675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Naturaleza y forma de onda de la ten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nfiguración geométrica del intervalo : forma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mensiones, disposición de electrodos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aracterísticas del medio : presión, temperatura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luvia, viento, neblina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661760" y="676440"/>
            <a:ext cx="65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Influencia de las características del medi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2400" y="2133720"/>
            <a:ext cx="7346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No vale la pena tomar en cuenta factores climát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mo lluvia, neblina, humedad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° Para un país templado la influencia de estos factor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s inferior a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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4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° Como los ensayos son convencionales una precis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mayor sería ilusor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ólo vale la pena corregir por altura   ~ 0.5 % p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da 100 m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738080" y="828720"/>
            <a:ext cx="68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Voltaje soportado con frecuencia industrial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60680" y="2403360"/>
            <a:ext cx="379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media de descarg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med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------------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42840" y="347040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1+ 8 / 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9520" y="28605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3.400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19360" y="31654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kV cre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85320" y="4156200"/>
            <a:ext cx="64292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: factor de interval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(coeficiente que depende de la geometría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 : distancia mas corta entre electrodos  (en  m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35240" y="2209680"/>
            <a:ext cx="35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ispersión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03 Um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4280" y="3352680"/>
            <a:ext cx="73267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rácticamente independiente de intervalo y distanc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                  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med-4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88 Ume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43400" y="4689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2040" y="5410080"/>
            <a:ext cx="7325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castiga fuertemente Umed por no estar relacion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rectamente co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37960" y="2362320"/>
            <a:ext cx="731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 Esfuerzos eléctricos no soportables económicament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Ray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aceptan fallas en los puntos menos crític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los puntos mas críticos se instalan dispositivo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rotec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84360" y="879480"/>
            <a:ext cx="59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oltaje soportado con impulso de maniob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71160" y="2133720"/>
            <a:ext cx="75524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mpulsos de maniobra de duración crític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----------      kV de cre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: factor de interval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 : separación mínima entre electrodos, en   m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3200400"/>
            <a:ext cx="12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1 + 8 / 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38680" y="2666880"/>
            <a:ext cx="8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3.4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47480" y="5029200"/>
            <a:ext cx="624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esviación estandar                    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05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90880" y="5638680"/>
            <a:ext cx="781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–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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0.88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584360" y="95580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Voltaje soportado con impulso de ray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62280" y="2133720"/>
            <a:ext cx="79761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3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   = 360 + 150 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(kV cresta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: factor de interval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 : separación mínima entre electrodos,  en     m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4038480"/>
            <a:ext cx="535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Desviación estandar         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015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02960" y="4648320"/>
            <a:ext cx="72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    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– 2.5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0.96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5334120"/>
            <a:ext cx="7924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soportada para descarga de retorn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e reduce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en 15% para tomar en cuenta  la tensión      instantánea de fase con polaridad  opue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0400" y="574560"/>
            <a:ext cx="51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imulación de los esfuerzos climát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48680" y="202248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luvia, presión, temperatura, contaminación, etc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so de los intervalos de air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l voltaje de descarga de los intervalos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umenta al aumentar la densidad del aire o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hume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ara humedades superiores a 80% el voltaje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scarga se hace errático debido a la condens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659240" y="72720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actores de corrección : Norma CEI 60-1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81480" y="2022480"/>
            <a:ext cx="70099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diciones atmosféricas de referencia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mperatura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20 °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resión            b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1.013*10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Pascal a 0 °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Humedad        h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= 11 gr de agua por m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Hay un factor de corrección por densidad de air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otro por humeda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Para un país templado sólo vale la pena por altur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(densidad del aire) ~ 0.5% por 100 m  (la influenc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otros factores es  &lt;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±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4%)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4000" y="650880"/>
            <a:ext cx="34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b) Caso de los aislador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isladores bajo lluv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67080" y="955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91840" y="103176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orma CEI 60-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3360" y="2022480"/>
            <a:ext cx="75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Tensión media de contorneo y tensión soportada 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recuencia industrial : la norma recomienda un ensay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ero es poco representativo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gasto = 1 a 2 mm de agua  por minut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de contorneo varía con la conductividad 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gasto de la lluv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La tensión media de descarga aumenta en forma men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que lineal con el número de aisladores tipo disco en ser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 Se supone que  U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= Umed – 4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57080" y="727200"/>
            <a:ext cx="64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contorneo con esfuerzos tempor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transitorios de frente lento y de frente rápi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58880" y="2327400"/>
            <a:ext cx="71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i se diseñan los aisladores para soportar un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aminación mínima con frecuencia industrial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o se presentan problemas con este tipo de esfuerz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4000" y="87948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orneo de aisladores bajo contam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3800" y="2362320"/>
            <a:ext cx="719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n la actualidad se conocen bien las causas de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orneo de aisladores contaminad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Contaminación severa : zonas costeras e industri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5760" y="236232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6688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3" name="coro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6019920" cy="30052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enómeno de contorneo de aisladores contaminad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656720" y="72720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sayo de aisladores con contaminación artific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27760" y="2098800"/>
            <a:ext cx="7437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étodo de la neblina salina : contaminante líqui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étodo de kieselguhr : contaminante sólido se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humedecido durante el ensay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étodo de metilcelulosa :contaminante sólido húme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Medida de severidad de la contaminación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eblina salina, kg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sal por m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de agu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taminante sólido, conductividad superfic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puede determinar la severidad de la contam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rtificial equivalente a un lugar determinado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431720" y="955800"/>
            <a:ext cx="67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contorneo de aisladores contaminad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32040" y="2133720"/>
            <a:ext cx="821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termina la tensión media de contorneo y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soportada de frecuencia industr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ha verificado experimentalmente que el fact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fundamental es la longitud de la línea de fu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e debe conocer además la severidad de la contamin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l lugar ( determinada experimentalmente o de Tab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e página siguient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Existe una tensión de contorneo por unidad de línea de fuga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792760" y="19810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6560" y="1338120"/>
            <a:ext cx="6994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La coordinación de aislamiento requiere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onocimiento de los esfuerzos eléctr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( tensiones y sobretensiones 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onocimiento del voltaje soportado por l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aislamient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onocimiento de los aparatos de protecció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( pararrayos y chisperos 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6688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0" name="msotw9_temp0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6008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297800" y="1143000"/>
            <a:ext cx="730224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Esfuerzos eléctricos aplicados en la red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Los esfuerzos tienen orígenes muy variad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lasificación según duraciones decrecient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y Tensiones soportadas crecient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 Unicode MS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Clases de tensión y sobretensión según norm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EI 71-1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87840" y="1219320"/>
            <a:ext cx="73083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-Baja frecuencia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)Tensión permanente (a frecuencia industrial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b)Sobretensión temporal ( amortiguada 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ébilmente amortiguada, de frecuencia igual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uperior y a veces inferior a la industrial )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437840" y="1214280"/>
            <a:ext cx="669888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Transitoria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obretensión de frente lento ( de maniobra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 general unidireccio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2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&lt; Tp &lt; 50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                     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2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20 m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obretensión de frente rápido ( de rayo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 general unidireccio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0.1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&lt;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2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                           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 3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-Sobretensión de frente muy rápi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En general unidireccional ( SS/EE GIS )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f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&lt; 0.1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                          duración total &lt; 3 m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oscilaciones de frecuencia    30kHz &lt; f &lt; 100 MH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85560" y="2352600"/>
            <a:ext cx="702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Sobretensión combinad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( temporal , de frente lento, de frente rápido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de frente muy rápido 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0840" y="762120"/>
            <a:ext cx="916308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)Tensión normalizada de corta duración a frecuenc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ndustrial : tensión sinusoidal de frecuencia entre 48 Hz 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62 Hz, duración 60 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b)Tensión normalizada de impulso tipo maniobra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impulso de 2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 por 250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)Tensión normalizada de impulso tipo rayo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Tensión de impulso de 1.2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por 50 </a:t>
            </a:r>
            <a:r>
              <a:rPr b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s (ver CEI 60-1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)Tensión normalizada de impulso tipo maniobra combinad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os ondas de impulso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</a:t>
            </a:r>
            <a:r>
              <a:rPr b="1" lang="es-CL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y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,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n tiempos de frente y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la mayores que los de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que alcance el frente en el mism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instante que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. Su valor de cresta es mod(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+ mod(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6000" y="494352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+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 y U</a:t>
            </a:r>
            <a:r>
              <a:rPr b="1" lang="es-CL" sz="2400" spc="-1" strike="noStrike" baseline="30000">
                <a:solidFill>
                  <a:srgbClr val="003366"/>
                </a:solidFill>
                <a:latin typeface="Times New Roman"/>
              </a:rPr>
              <a:t>-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4480" y="57913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5:07:12Z</dcterms:created>
  <dc:creator>Nelson Morales</dc:creator>
  <dc:description/>
  <dc:language>en-US</dc:language>
  <cp:lastModifiedBy>Nelson Morales</cp:lastModifiedBy>
  <dcterms:modified xsi:type="dcterms:W3CDTF">2005-09-07T16:45:14Z</dcterms:modified>
  <cp:revision>19</cp:revision>
  <dc:subject/>
  <dc:title>Presentación de PowerPoint</dc:title>
</cp:coreProperties>
</file>