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C04-0F01-4F61-A83E-3212EE0D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A6A-66BC-47B5-B9A2-A5E74AC4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61C-B300-4388-A1F9-69799584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942-244B-4014-9FEE-1FF8374D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7209-2ABF-487C-AEE8-0D5A4E84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6EE-6449-4C5F-AB66-640BCF3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4F79-F601-4C7C-BE5B-B962FC9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F953-9DDC-4621-9C0F-BCEC191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5BA8-AA57-4D20-9175-F16A83C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D053-E4F8-4666-BC06-614FF3A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8AE-5561-47F6-84DF-8B4FBCC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271-7F75-43E5-9957-A8DC2A6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3DB-658C-4301-933A-F30ABBC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474F-C23D-48C9-B914-142D07B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E93C-EE57-4FDF-B5DE-63C864CC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F0F-9391-4EF9-A472-BEFE1710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5F8D-B4E7-4AEE-B464-333C8F31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B2D-1DCE-44C3-B47B-014F26D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6FA-BC8C-4B69-A575-79F3B924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444-D860-4BFD-BA4D-1F1A97C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F13-A998-4C7D-98A8-2E3E855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4CA-E9F2-4815-801F-B54DB70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CC8-1B76-4188-A0B7-0EDB9E7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CD6-CD85-4F9D-BCF3-1B883C1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Arial Unicode MS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Arial Unicode M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Arial Unicode MS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5347-D076-4516-9F27-4545831D2AB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ECA-5ECD-4D9B-83FC-31564BB4B80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oordinación de Aislami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3048120"/>
            <a:ext cx="3962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Relator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fraín Asenjo Sil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Ingeniero civil Electrici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Agosto 200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36640" y="600120"/>
            <a:ext cx="61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iseño del aislamiento ante los divers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tipos de sobretensiones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0040" y="2251080"/>
            <a:ext cx="681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specificación y diseño de las aislaciones extern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la red ( intervalos de aire y líneas de fug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) : Problema del diseñador de la red 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iseño de la aislación interna : Problema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structor del equipo (el diseñador de la r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pecifica la aislación del equipo y especifica l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de recepción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85800" y="523800"/>
            <a:ext cx="63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iseño del aislamiento externo de líne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y  subesta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58520" y="2174760"/>
            <a:ext cx="685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eño de intervalos de aire y líneas de fug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ámetros que definen las aislaciones exter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alores mínimos admisibles d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m : Intervalo de aire conductor-ma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f   : Línea de fuga de aisl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g  : Intervalo de aire conductor-cable de guard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c  : Intervalo de aire entre conductore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94600" y="2022480"/>
            <a:ext cx="7638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imero se determinan los intervalos mínim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uego se escogen los aisladores (esfuerzos dieléctricos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limátic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debe considerar separadamente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los aisl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denas de aisladores limpias : descarga el interva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denas sucias y en presencia de humedad : la ten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 depende del aislador y contaminación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04800" y="574560"/>
            <a:ext cx="583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agnitudes características de las 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s por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69880" y="258300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04080" y="2098800"/>
            <a:ext cx="664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o se puede determinar teóricamente la ten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 por un intervalo de aire o aislad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recurrir a fórmulas empíricas obtenid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ediante ensayos de laborator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os ensayos se deben simular los esfuerz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léctricos  y climáticos (Publicación CEI 60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657800" y="574560"/>
            <a:ext cx="708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media de descarga con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un intervalo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0160" y="2590920"/>
            <a:ext cx="73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ste ensayo es posible por tratarse de una aisl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utorregener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realiza un ensayo de tensión de descarga disrupti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segur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l método consiste en aplicar una tensión sinusoid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amplitud creciente hasta producir la descarga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tervalo, midiendo la tensión de descarga Ui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92760" y="220968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medida de Ui se repite  n   veces y se calcula su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alor medio Umed y su desviación estandar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85800" y="3165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0760" y="3352680"/>
            <a:ext cx="73936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mo las medidas no están relacionadas directam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la 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ta se obtiene castigan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uertemente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o usual es suponer :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Umed – 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30840" y="5638680"/>
            <a:ext cx="7593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l ensayo es rápido pero la obtención de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es obje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realizar un ensayo mas realista es impractic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890360" y="95580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maniobra y de 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1120" y="2174760"/>
            <a:ext cx="7139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simulan en laboratorio utilizando generadore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mpulso ( o transformadore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os impulsos se caracterizan por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Valor de crest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iempo de frente convencional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, o de cresta Tc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iempo de cola conven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62720" y="72720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rácter aleatorio de la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tensión de impuls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4560" y="2514600"/>
            <a:ext cx="737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descarga es un fenómeno aleator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or tratarse de aislamientos autorregenerables 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uede obtener experimentalmente la curv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obabilidad acumulativa de descarga P(U) en fun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l valor de cresta U del impuls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titu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622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msotw9_temp0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648320" cy="2901960"/>
          </a:xfrm>
          <a:prstGeom prst="rect">
            <a:avLst/>
          </a:prstGeom>
          <a:ln w="0">
            <a:noFill/>
          </a:ln>
        </p:spPr>
      </p:pic>
      <p:pic>
        <p:nvPicPr>
          <p:cNvPr id="324" name="msotw9_temp0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60199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286000" y="685800"/>
          <a:ext cx="4757760" cy="53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85800"/>
                    <a:ext cx="475776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6960" y="2276640"/>
            <a:ext cx="686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Determinar el aislamiento óptimo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Consecuencias de la fa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Graduación de los aislamient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Orden de riesgo de falla ( aislamiento n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utorregenerable, aislamiento autorregenera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en una SS/EE, en una línea, etc. 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19240" y="2286000"/>
            <a:ext cx="7598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ocido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puede obtener la tensión soport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como la correspondiente a una probabilidad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scarga muy baja, por ejemplo menor que 1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uponiendo que la distribución es Gaussiana result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de descarga se puede definir como la qu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esenta una probabilidad de descarga mayor que 9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resulta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desc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+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61760" y="8794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maniob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09440" y="2098800"/>
            <a:ext cx="809496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s ondas de maniobra tienen formas divers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no se puede definir una onda tip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) Sobretensiones de maniobra fase-tier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o la soportada) por un intervalo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re depende del tiempo de cresta y de la polari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considerar la onda mas seve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aplicaciones corrientes se aplic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2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25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21472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msotw9_temp0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59960" y="955800"/>
            <a:ext cx="51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bretensiones de maniobra fase-fa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209680"/>
            <a:ext cx="81532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utilizan dos generadores de impulso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1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gt;&gt;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Ambas crestas simultáne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aplica al electrodo con mayor gradiente de voltaj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s amplitudes relativas se caracterizan por coeficiente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21320" y="48769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648320"/>
            <a:ext cx="217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od(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89480" y="5105520"/>
            <a:ext cx="294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od(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) + mod(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76600" y="48769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-----------------------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9000" y="586728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Resultado depende de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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usa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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  0.39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890720" y="95580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2438280"/>
            <a:ext cx="7391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 experiencia indica que basta usar un impulso con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1.2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08280" y="476568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 polaridad se elige con el mismo criterio usa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los impulsos de mani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61040" y="676440"/>
            <a:ext cx="68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Voltaje soportado por los intervalos de ai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35200" y="255600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han realizado muchos ensayos y estudios pa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clarar el fenómeno y obtener fórmulas físic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ero han resultado infructuos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or el momento sólo se dispone de fórmul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mpíricas basadas en muchos datos experi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38440" y="90504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Factores que influyen en el voltaje soportado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79680" y="2174760"/>
            <a:ext cx="675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aturaleza y forma de onda de la ten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figuración geométrica del intervalo : forma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mensiones, disposición de electrodo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racterísticas del medio : presión, temperatura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luvia, viento, neblina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661760" y="676440"/>
            <a:ext cx="65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Influencia de las características del medi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2400" y="2133720"/>
            <a:ext cx="7346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o vale la pena tomar en cuenta factores climát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mo lluvia, neblina, humedad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° Para un país templado la influencia de estos fact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 inferior a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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4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° Como los ensayos son convencionales una preci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ayor sería ilusor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ólo vale la pena corregir por altura   ~ 0.5 % p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da 100 m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38080" y="828720"/>
            <a:ext cx="68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Voltaje soportado con frecuencia industrial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60680" y="2403360"/>
            <a:ext cx="379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media de descarg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med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-----------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42840" y="3470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1+ 8 / 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9520" y="28605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3.400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19360" y="3165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V cr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85320" y="4156200"/>
            <a:ext cx="6429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coeficiente que depende de la geometría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: distancia mas corta entre electrodos  (en  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35240" y="220968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ispersión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3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4280" y="3352680"/>
            <a:ext cx="7326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ácticamente independiente de intervalo y dista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med-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88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43400" y="4689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2040" y="5410080"/>
            <a:ext cx="732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castiga fuertemente Umed por no estar relacion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rectamente co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37960" y="2362320"/>
            <a:ext cx="731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Esfuerzos eléctricos no soportables económicament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aceptan fallas en los puntos menos crít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os puntos mas críticos se instalan dispositivo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84360" y="879480"/>
            <a:ext cx="59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oltaje soportado con impulso de maniob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71160" y="2133720"/>
            <a:ext cx="75524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mpulsos de maniobra de duración críti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----------      kV de cr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 : separación mínima entre electrodos, en   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20040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1 + 8 / 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26668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3.4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47480" y="5029200"/>
            <a:ext cx="624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esviación estandar  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5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90880" y="5638680"/>
            <a:ext cx="781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–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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0.88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84360" y="95580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oltaje soportado con impulso de r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62280" y="2133720"/>
            <a:ext cx="7976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3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  = 360 + 150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(kV cresta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: separación mínima entre electrodos,  en     m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4038480"/>
            <a:ext cx="535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esviación estandar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15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02960" y="4648320"/>
            <a:ext cx="72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–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96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5334120"/>
            <a:ext cx="7924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para descarga de retor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reduce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en 15% para tomar en cuenta  la tensión      instantánea de fase con polaridad  opu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0400" y="574560"/>
            <a:ext cx="51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imulación de los esfuerzos climát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48680" y="20224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luvia, presión, temperatura, contaminación, etc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so de los intervalos de air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l voltaje de descarga de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umenta al aumentar la densidad del aire o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hume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a humedades superiores a 80% el voltaje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scarga se hace errático debido a la condens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659240" y="72720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actores de corrección : Norma CEI 60-1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81480" y="2022480"/>
            <a:ext cx="70099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diciones atmosféricas de referenci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mperatura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20 °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esión            b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1.013*10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Pascal a 0 °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Humedad        h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11 gr de agua por m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Hay un factor de corrección por densidad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otro por hume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a un país templado sólo vale la pena por altu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densidad del aire) ~ 0.5% por 100 m  (la influe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otros factores es  &lt;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4%)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4000" y="650880"/>
            <a:ext cx="34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 Caso de los aisl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bajo lluv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7080" y="955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1840" y="10317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rma CEI 60-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3360" y="2022480"/>
            <a:ext cx="75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media de contorneo y tensión soportada 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recuencia industrial : la norma recomienda un ens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ero es poco representativo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gasto = 1 a 2 mm de agua  por minu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de contorneo varía con la conductividad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gasto de la lluv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media de descarga aumenta en forma me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que lineal con el número de aisladores tipo disco en ser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Se supone que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med – 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57080" y="727200"/>
            <a:ext cx="64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contorneo con esfuerzos tempor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transitorios de frente lento y de frente ráp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58880" y="2327400"/>
            <a:ext cx="71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i se diseñan los aisladores para soportar un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aminación mínima con frecuencia industrial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 se presentan problemas con este tipo de esfuerz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4000" y="87948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orneo de aisladores bajo contam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3800" y="2362320"/>
            <a:ext cx="719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a actualidad se conocen bien las causas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taminación severa : zonas costeras e industri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5760" y="236232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6688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coro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6019920" cy="3005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enómeno de 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56720" y="72720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 de aisladores con contaminación artific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27760" y="2098800"/>
            <a:ext cx="743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la neblina salina : contaminante líqu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kieselguhr : contaminante sólido se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humedecido durante el ens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metilcelulosa :contaminante sólido húme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edida de severidad de la contaminación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eblina salina, kg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sal por m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de agu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aminante sólido, conductividad superfic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puede determinar la severidad de la contam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rtificial equivalente a un lugar determinado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1720" y="95580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32040" y="2133720"/>
            <a:ext cx="821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termina la tensión media de contorneo y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soportada de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ha verificado experimentalmente que el fact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undamental es la longitud de la línea de fu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conocer además la severidad de la contamin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l lugar ( determinada experimentalmente o de Tab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página siguient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xiste una tensión de contorneo por unidad de línea de fuga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792760" y="1981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6560" y="1338120"/>
            <a:ext cx="6994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La coordinación de aislamiento requiere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nocimiento de los esfuerzos eléctr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tensiones y sobretensiones 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onocimiento del voltaje soportado por l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aislamien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onocimiento de los aparatos de protecció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pararrayos y chisperos 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6688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0" name="msotw9_temp0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6008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7800" y="1143000"/>
            <a:ext cx="73022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Esfuerzos eléctricos aplicados en la red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Los esfuerzos tienen orígenes muy vari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lasificación según duraciones decrecie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y Tensiones soportadas crecie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lases de tensión y sobretensión según norm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EI 71-1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87840" y="1219320"/>
            <a:ext cx="73083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Baja frecuencia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)Tensión permanente (a frecuencia industrial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Sobretensión temporal ( amortiguada 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ébilmente amortiguada, de frecuencia igual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uperior y a veces inferior a la industrial )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437840" y="1214280"/>
            <a:ext cx="669888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Transitoria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lento ( de maniobra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2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&lt; Tp &lt; 50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20 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rápido ( de rayo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0.1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&lt;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2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 3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muy ráp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( SS/EE GIS )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f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0.1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 duración total &lt; 3 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oscilaciones de frecuencia    30kHz &lt; f &lt; 100 M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85560" y="2352600"/>
            <a:ext cx="702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Sobretensión combinad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temporal , de frente lento, de frente rápido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e frente muy rápido 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0840" y="762120"/>
            <a:ext cx="91630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)Tensión normalizada de corta duración a frecue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dustrial : tensión sinusoidal de frecuencia entre 48 Hz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62 Hz, duración 60 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Tensión normalizada de impulso tipo maniobr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impulso de 2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por 25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)Tensión normalizada de impulso tipo rayo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impulso de 1.2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por 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(ver CEI 60-1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)Tensión normalizada de impulso tipo maniobra combin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os ondas de impulso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,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tiempos de frente y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la mayores que los de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que alcance el frente en el mism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stante que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. Su valor de cresta es mod(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+ mod(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6000" y="494352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y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57913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07:12Z</dcterms:created>
  <dc:creator>Nelson Morales</dc:creator>
  <dc:description/>
  <dc:language>en-US</dc:language>
  <cp:lastModifiedBy>Nelson Morales</cp:lastModifiedBy>
  <dcterms:modified xsi:type="dcterms:W3CDTF">2005-09-07T16:45:14Z</dcterms:modified>
  <cp:revision>19</cp:revision>
  <dc:subject/>
  <dc:title>Presentación de PowerPoint</dc:title>
</cp:coreProperties>
</file>