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325B-9ACC-4241-8100-50AF490E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09C-445D-406A-84CB-51456AF1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E972-E03D-4820-ADA3-2B15BF07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A6F-A7CB-49E5-924A-0917E062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610B-8E52-490C-99E7-32F979A5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6194-4F4D-40A5-8B1F-B52DB54B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806F-5279-4D2B-AD01-DA3A5706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F0CE-73A4-42F3-ACBA-1A4615DF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36B5-9C62-4171-B1E9-9713BC11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A70B-72E7-4FA1-85AF-EBDE3566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34F0-121C-4E15-A203-B7D8FBB3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C4D-EFCD-4065-B384-3C57D7D4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EB69-C8A4-451F-9A54-1CDE1755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C46E-0533-4A58-9DEA-726723A0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F1B5-9267-4656-BA0B-501BF12C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A2F6-2731-4790-980F-A46579E0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C8E5-A859-4B9E-A9F3-29C69072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71B-5BD8-4654-AE97-F471FDE9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5FE-4C0B-4FF1-984B-EEC7BB33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E0C-6D6F-45A0-B0B3-CF1A8C06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F75F-4878-4B21-855C-0E836D95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57B0-47C4-4188-89A4-9928FD52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444-BB78-4D2A-ADE9-D4B54F42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7DC-2016-4182-BB8C-0BD942C1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27FA-CE04-4607-BB7E-7EA13BE597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82B3-125A-4E02-BB58-D1195EAC2B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00"/>
                </a:solidFill>
                <a:latin typeface="Arial"/>
              </a:rPr>
              <a:t>CONCEPTOS  BASICOS  DWD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563640" y="5734080"/>
            <a:ext cx="52880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EL 65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Arial"/>
              </a:rPr>
              <a:t>BANDAS  C y 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Banda C :  1529,16 nm – 1560,61 n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Banda L :   1570,42 nm – 1603,57 n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5184720" cy="65246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012000" y="1599840"/>
            <a:ext cx="267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BANDA C P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40 </a:t>
            </a:r>
            <a:r>
              <a:rPr b="1" lang="es-MX" sz="2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f = 100 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4913640" cy="6192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12000" y="1599840"/>
            <a:ext cx="267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BANDA C IMP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40 </a:t>
            </a:r>
            <a:r>
              <a:rPr b="1" lang="es-MX" sz="2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f = 100 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24000" y="1916280"/>
          <a:ext cx="860400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16280"/>
                    <a:ext cx="860400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119600" y="692280"/>
            <a:ext cx="71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DIAGRAMA  GENERAL DE UN  SISTEMA DWD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PUNTOS DE REFERENCIA EN UN SISTEMA DWD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Arial"/>
              </a:rPr>
              <a:t>n </a:t>
            </a: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, R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s-MX" sz="2400" spc="-1" strike="noStrike" baseline="-25000">
                <a:solidFill>
                  <a:srgbClr val="ffff00"/>
                </a:solidFill>
                <a:latin typeface="Arial"/>
              </a:rPr>
              <a:t>n 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MPI-S, MPI-R, S</a:t>
            </a: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s-MX" sz="24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, R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 :  son puntos de referencia para especificar niveles de potencia, razón Señal/Ru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S” :  Se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R” : Receive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MPI-S : Multiplexer Interface, Se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MPI-R : Multiplexer Interface, Rece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PONENTES DE UN SISTEMA DWD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Transponde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Multiplexor Óp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Demultiplexor Óp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Amplificador Óptico (Booster o Preamplificad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003640" y="2924280"/>
            <a:ext cx="289080" cy="100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684880" y="35100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TRANSPONDE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625760" cy="2120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4360" y="3573360"/>
            <a:ext cx="914400" cy="8208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611280" y="5516640"/>
            <a:ext cx="914400" cy="4683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70520" y="33336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ADM STM-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3080" y="3141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9800" y="508464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9640" y="630864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LADO 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5580000" y="3068640"/>
            <a:ext cx="1266840" cy="1728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276720" y="1628640"/>
            <a:ext cx="143964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cc"/>
                </a:solidFill>
                <a:latin typeface="Arial"/>
              </a:rPr>
              <a:t>O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68360" y="2131920"/>
            <a:ext cx="1008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6"/>
          <a:stretch/>
        </p:blipFill>
        <p:spPr>
          <a:xfrm>
            <a:off x="2340000" y="981000"/>
            <a:ext cx="719280" cy="100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269440" y="213192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2,5 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3571920"/>
            <a:ext cx="143964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cc"/>
                </a:solidFill>
                <a:latin typeface="Arial"/>
              </a:rPr>
              <a:t>O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68360" y="4075200"/>
            <a:ext cx="10083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2340000" y="2924280"/>
            <a:ext cx="719280" cy="1008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270160" y="40752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600 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8"/>
          <a:stretch/>
        </p:blipFill>
        <p:spPr>
          <a:xfrm>
            <a:off x="2268360" y="4724280"/>
            <a:ext cx="790920" cy="1008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276720" y="5373720"/>
            <a:ext cx="143964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cc"/>
                </a:solidFill>
                <a:latin typeface="Arial"/>
              </a:rPr>
              <a:t>O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79640" y="5877000"/>
            <a:ext cx="1230120" cy="1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96720" y="58770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1 G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9"/>
          <a:stretch/>
        </p:blipFill>
        <p:spPr>
          <a:xfrm>
            <a:off x="5003640" y="981000"/>
            <a:ext cx="289080" cy="1008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716360" y="2133720"/>
            <a:ext cx="863640" cy="13665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4005360"/>
            <a:ext cx="863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716360" y="4292280"/>
            <a:ext cx="863640" cy="1584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0"/>
          <a:stretch/>
        </p:blipFill>
        <p:spPr>
          <a:xfrm>
            <a:off x="5003640" y="5229360"/>
            <a:ext cx="289080" cy="100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5705640" y="2440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M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49600" y="900000"/>
            <a:ext cx="40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s-MX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70480" y="5229360"/>
            <a:ext cx="40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s-MX" sz="2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26120" y="2492280"/>
            <a:ext cx="40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s-MX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32720" y="3860640"/>
            <a:ext cx="2160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1"/>
          <a:stretch/>
        </p:blipFill>
        <p:spPr>
          <a:xfrm>
            <a:off x="7236000" y="2781360"/>
            <a:ext cx="288720" cy="1008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2"/>
          <a:stretch/>
        </p:blipFill>
        <p:spPr>
          <a:xfrm>
            <a:off x="7524720" y="2781360"/>
            <a:ext cx="289080" cy="1008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3"/>
          <a:stretch/>
        </p:blipFill>
        <p:spPr>
          <a:xfrm>
            <a:off x="7812000" y="2781360"/>
            <a:ext cx="289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TRANSPONDE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Adapta la señal cliente a la Grilla de Frecuencias G 694.1 del I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Disminuye el ancho espec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Mejora la tolerancia a la dispersión cromá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Efectúa corrección de errores (F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En Recepción efectúa Regeneración 3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TRANSPONDE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80000" y="2852640"/>
            <a:ext cx="1726920" cy="1009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74920" y="2133720"/>
            <a:ext cx="1368360" cy="2028600"/>
          </a:xfrm>
          <a:custGeom>
            <a:avLst/>
            <a:gdLst/>
            <a:ahLst/>
            <a:rect l="l" t="t" r="r" b="b"/>
            <a:pathLst>
              <a:path w="1134" h="1278">
                <a:moveTo>
                  <a:pt x="0" y="1112"/>
                </a:moveTo>
                <a:cubicBezTo>
                  <a:pt x="49" y="1123"/>
                  <a:pt x="99" y="1134"/>
                  <a:pt x="182" y="975"/>
                </a:cubicBezTo>
                <a:cubicBezTo>
                  <a:pt x="265" y="816"/>
                  <a:pt x="423" y="295"/>
                  <a:pt x="499" y="159"/>
                </a:cubicBezTo>
                <a:cubicBezTo>
                  <a:pt x="575" y="23"/>
                  <a:pt x="583" y="0"/>
                  <a:pt x="636" y="159"/>
                </a:cubicBezTo>
                <a:cubicBezTo>
                  <a:pt x="689" y="318"/>
                  <a:pt x="749" y="946"/>
                  <a:pt x="817" y="1112"/>
                </a:cubicBezTo>
                <a:cubicBezTo>
                  <a:pt x="885" y="1278"/>
                  <a:pt x="991" y="1142"/>
                  <a:pt x="1044" y="1157"/>
                </a:cubicBezTo>
                <a:cubicBezTo>
                  <a:pt x="1097" y="1172"/>
                  <a:pt x="1115" y="1187"/>
                  <a:pt x="1134" y="1202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46920" y="1989000"/>
            <a:ext cx="576360" cy="2028960"/>
          </a:xfrm>
          <a:custGeom>
            <a:avLst/>
            <a:gdLst/>
            <a:ahLst/>
            <a:rect l="l" t="t" r="r" b="b"/>
            <a:pathLst>
              <a:path w="1134" h="1278">
                <a:moveTo>
                  <a:pt x="0" y="1112"/>
                </a:moveTo>
                <a:cubicBezTo>
                  <a:pt x="49" y="1123"/>
                  <a:pt x="99" y="1134"/>
                  <a:pt x="182" y="975"/>
                </a:cubicBezTo>
                <a:cubicBezTo>
                  <a:pt x="265" y="816"/>
                  <a:pt x="423" y="295"/>
                  <a:pt x="499" y="159"/>
                </a:cubicBezTo>
                <a:cubicBezTo>
                  <a:pt x="575" y="23"/>
                  <a:pt x="583" y="0"/>
                  <a:pt x="636" y="159"/>
                </a:cubicBezTo>
                <a:cubicBezTo>
                  <a:pt x="689" y="318"/>
                  <a:pt x="749" y="946"/>
                  <a:pt x="817" y="1112"/>
                </a:cubicBezTo>
                <a:cubicBezTo>
                  <a:pt x="885" y="1278"/>
                  <a:pt x="991" y="1142"/>
                  <a:pt x="1044" y="1157"/>
                </a:cubicBezTo>
                <a:cubicBezTo>
                  <a:pt x="1097" y="1172"/>
                  <a:pt x="1115" y="1187"/>
                  <a:pt x="1134" y="1202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4560" y="3357720"/>
            <a:ext cx="8654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55120" y="474516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LADO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651640" y="3357720"/>
            <a:ext cx="865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37080" y="47260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LADO DWD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95640" y="1989000"/>
            <a:ext cx="0" cy="22320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30200" y="350208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410920" y="350208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-111600" y="328464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Symbol"/>
                <a:ea typeface="Symbol"/>
              </a:rPr>
              <a:t></a:t>
            </a: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116000" y="220500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76360" y="2205000"/>
            <a:ext cx="0" cy="129528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3440" y="2637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20 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61640" y="42400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1310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236000" y="1916280"/>
            <a:ext cx="0" cy="22334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30360" y="41688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1552,5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739280" y="2997360"/>
            <a:ext cx="15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Symbol"/>
                <a:ea typeface="Symbol"/>
              </a:rPr>
              <a:t>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04000" y="3357720"/>
            <a:ext cx="289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380000" y="335772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588000" y="2060640"/>
            <a:ext cx="10796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77080" y="2060640"/>
            <a:ext cx="0" cy="129708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14160" y="2421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20 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554840" y="450720"/>
            <a:ext cx="61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DISPERSION  MAXIMA  ADMI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8080" y="1744560"/>
            <a:ext cx="7525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Interfaz STM-16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estándar  L-16.2 :    D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 =  1600 ps/n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6040" y="3429000"/>
            <a:ext cx="80427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Transponded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Long Haul STM-16 :  D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Arial"/>
              </a:rPr>
              <a:t>max </a:t>
            </a: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 =  12800 ps/n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3708360" y="3068640"/>
            <a:ext cx="864720" cy="1008000"/>
            <a:chOff x="3708360" y="3068640"/>
            <a:chExt cx="864720" cy="100800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3708360" y="3068640"/>
              <a:ext cx="2887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3997080" y="3068640"/>
              <a:ext cx="28836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4284360" y="3068640"/>
              <a:ext cx="288720" cy="10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1763640" y="4221000"/>
            <a:ext cx="482760" cy="1008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1763640" y="2997360"/>
            <a:ext cx="482760" cy="100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1763640" y="2133720"/>
            <a:ext cx="482760" cy="100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92000" y="27756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Arial"/>
              </a:rPr>
              <a:t>CONCEPTOS BASICOS DE DWD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nse </a:t>
            </a:r>
            <a:r>
              <a:rPr b="1" lang="es-MX" sz="32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velength </a:t>
            </a:r>
            <a:r>
              <a:rPr b="1" lang="es-MX" sz="32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vision </a:t>
            </a:r>
            <a:r>
              <a:rPr b="1" lang="es-MX" sz="3200" spc="-1" strike="noStrike">
                <a:solidFill>
                  <a:srgbClr val="d60093"/>
                </a:solidFill>
                <a:latin typeface="Arial"/>
              </a:rPr>
              <a:t>M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ultiplex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2781360"/>
            <a:ext cx="647640" cy="5032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3645000"/>
            <a:ext cx="647640" cy="5032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4869000"/>
            <a:ext cx="647640" cy="5032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1762560" y="3717000"/>
            <a:ext cx="2736720" cy="576360"/>
          </a:xfrm>
          <a:prstGeom prst="triangle">
            <a:avLst>
              <a:gd name="adj" fmla="val 48593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3068640"/>
            <a:ext cx="1295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47640" y="3933720"/>
            <a:ext cx="1295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47640" y="5157720"/>
            <a:ext cx="1295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3933720"/>
            <a:ext cx="2592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59280" y="3645000"/>
            <a:ext cx="289080" cy="288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71200" y="2708280"/>
            <a:ext cx="37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s-MX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30840" y="2708280"/>
            <a:ext cx="37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s-MX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91200" y="2708280"/>
            <a:ext cx="37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s-MX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4931640" y="3572280"/>
            <a:ext cx="2809800" cy="649080"/>
          </a:xfrm>
          <a:prstGeom prst="triangle">
            <a:avLst>
              <a:gd name="adj" fmla="val 48593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6877080" y="2060640"/>
            <a:ext cx="482400" cy="100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596360" y="2708280"/>
            <a:ext cx="647640" cy="5032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59640" y="2997360"/>
            <a:ext cx="93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6877080" y="3141720"/>
            <a:ext cx="482400" cy="100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596360" y="3789360"/>
            <a:ext cx="647640" cy="5032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4078440"/>
            <a:ext cx="93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0"/>
          <a:stretch/>
        </p:blipFill>
        <p:spPr>
          <a:xfrm>
            <a:off x="6877080" y="4221000"/>
            <a:ext cx="482400" cy="1008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596360" y="4869000"/>
            <a:ext cx="647640" cy="5032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5157720"/>
            <a:ext cx="93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752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REGENERACION 3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Re – ti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Re – sha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Re – 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Son específicos para cada velocidad (STM-16, STM-6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AMPLIFICADOR OPTICO DE LINEA (OL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Se usan como Booster en Transmisión o como Pre-amplificador en recep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Hay dos tipos :  EDFA y Ra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En la Red F.O. de  ENTEL los Raman no fueron us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ERBIUM DOPED FIBER AMPLIFIER (EDF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922320" y="3568680"/>
            <a:ext cx="878040" cy="723960"/>
            <a:chOff x="922320" y="3568680"/>
            <a:chExt cx="878040" cy="723960"/>
          </a:xfrm>
        </p:grpSpPr>
        <p:sp>
          <p:nvSpPr>
            <p:cNvPr id="307" name=""/>
            <p:cNvSpPr/>
            <p:nvPr/>
          </p:nvSpPr>
          <p:spPr>
            <a:xfrm>
              <a:off x="1105200" y="3873240"/>
              <a:ext cx="146520" cy="1526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68840" y="3873240"/>
              <a:ext cx="219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1178640" y="3682800"/>
              <a:ext cx="0" cy="190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78640" y="4025880"/>
              <a:ext cx="0" cy="114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9525200">
              <a:off x="1361160" y="3796920"/>
              <a:ext cx="292680" cy="1908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22320" y="3568680"/>
              <a:ext cx="878040" cy="72396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909800" y="2637000"/>
            <a:ext cx="1149480" cy="414000"/>
            <a:chOff x="1909800" y="2637000"/>
            <a:chExt cx="1149480" cy="414000"/>
          </a:xfrm>
        </p:grpSpPr>
        <p:grpSp>
          <p:nvGrpSpPr>
            <p:cNvPr id="314" name=""/>
            <p:cNvGrpSpPr/>
            <p:nvPr/>
          </p:nvGrpSpPr>
          <p:grpSpPr>
            <a:xfrm>
              <a:off x="1949040" y="2749320"/>
              <a:ext cx="1031040" cy="75600"/>
              <a:chOff x="1949040" y="2749320"/>
              <a:chExt cx="1031040" cy="75600"/>
            </a:xfrm>
          </p:grpSpPr>
          <p:sp>
            <p:nvSpPr>
              <p:cNvPr id="315" name=""/>
              <p:cNvSpPr/>
              <p:nvPr/>
            </p:nvSpPr>
            <p:spPr>
              <a:xfrm>
                <a:off x="1949040" y="2749680"/>
                <a:ext cx="2376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86640" y="2749680"/>
                <a:ext cx="118800" cy="752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305800" y="2824920"/>
                <a:ext cx="3168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2622960" y="2749320"/>
                <a:ext cx="79560" cy="752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702520" y="2749680"/>
                <a:ext cx="27756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949040" y="2862720"/>
              <a:ext cx="1031040" cy="75600"/>
              <a:chOff x="1949040" y="2862720"/>
              <a:chExt cx="1031040" cy="75600"/>
            </a:xfrm>
          </p:grpSpPr>
          <p:sp>
            <p:nvSpPr>
              <p:cNvPr id="321" name=""/>
              <p:cNvSpPr/>
              <p:nvPr/>
            </p:nvSpPr>
            <p:spPr>
              <a:xfrm flipH="1">
                <a:off x="2742480" y="2938320"/>
                <a:ext cx="2376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flipV="1">
                <a:off x="2623680" y="2862720"/>
                <a:ext cx="118800" cy="756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2306520" y="2862720"/>
                <a:ext cx="3168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2226600" y="2862720"/>
                <a:ext cx="79560" cy="756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949040" y="2938320"/>
                <a:ext cx="27756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1909800" y="2637000"/>
              <a:ext cx="1149480" cy="41400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 flipH="1">
            <a:off x="539640" y="2739960"/>
            <a:ext cx="137016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7280" y="2930400"/>
            <a:ext cx="722520" cy="638280"/>
          </a:xfrm>
          <a:custGeom>
            <a:avLst/>
            <a:gdLst/>
            <a:ahLst/>
            <a:rect l="l" t="t" r="r" b="b"/>
            <a:pathLst>
              <a:path w="598" h="560">
                <a:moveTo>
                  <a:pt x="8" y="560"/>
                </a:moveTo>
                <a:cubicBezTo>
                  <a:pt x="4" y="495"/>
                  <a:pt x="0" y="431"/>
                  <a:pt x="8" y="378"/>
                </a:cubicBezTo>
                <a:cubicBezTo>
                  <a:pt x="16" y="325"/>
                  <a:pt x="24" y="287"/>
                  <a:pt x="54" y="242"/>
                </a:cubicBezTo>
                <a:cubicBezTo>
                  <a:pt x="84" y="197"/>
                  <a:pt x="145" y="144"/>
                  <a:pt x="190" y="106"/>
                </a:cubicBezTo>
                <a:cubicBezTo>
                  <a:pt x="235" y="68"/>
                  <a:pt x="281" y="30"/>
                  <a:pt x="326" y="15"/>
                </a:cubicBezTo>
                <a:cubicBezTo>
                  <a:pt x="371" y="0"/>
                  <a:pt x="417" y="15"/>
                  <a:pt x="462" y="15"/>
                </a:cubicBezTo>
                <a:cubicBezTo>
                  <a:pt x="507" y="15"/>
                  <a:pt x="552" y="15"/>
                  <a:pt x="598" y="15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2565360"/>
            <a:ext cx="1149120" cy="414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59280" y="2781360"/>
            <a:ext cx="2089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92360" y="2421000"/>
            <a:ext cx="358920" cy="3585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08360" y="2421000"/>
            <a:ext cx="358920" cy="3585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88880" y="17924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Fibra de Si dopada con Erb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6280" y="4384800"/>
            <a:ext cx="31827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Laser de bomb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1" lang="es-MX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s-MX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1" lang="es-MX" sz="1800" spc="-1" strike="noStrike">
                <a:solidFill>
                  <a:srgbClr val="ffff00"/>
                </a:solidFill>
                <a:latin typeface="Symbol"/>
                <a:ea typeface="Symbol"/>
              </a:rPr>
              <a:t></a:t>
            </a:r>
            <a:r>
              <a:rPr b="1" lang="es-MX" sz="1800" spc="-1" strike="noStrike">
                <a:solidFill>
                  <a:srgbClr val="ffff00"/>
                </a:solidFill>
                <a:latin typeface="Arial"/>
              </a:rPr>
              <a:t>980 nm ó 1480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2720" y="1792440"/>
            <a:ext cx="19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Señal de ent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1530-1560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92720" y="2781360"/>
            <a:ext cx="7192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06720" y="30891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copl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46360" y="301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Aisl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300720" y="2781360"/>
            <a:ext cx="13669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220880" y="172080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Señal de sal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Arial"/>
              </a:rPr>
              <a:t>1530 -1560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CARACTERISTICAS DE LOS EDF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Ganancia es independiente de la tasa dig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Ancho de banda amplio 1525 – 1565 n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Alta ganancia y eficiencia cuán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Bajo ruido y diafon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Alto nivel de potencia de satu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Independiente de la polar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626160" cy="50040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970560" y="404640"/>
            <a:ext cx="78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RESPUESTA ESPECTRAL DE UN EDF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EDF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Arial"/>
              </a:rPr>
              <a:t>p </a:t>
            </a: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= 980 nm  bajo ruido </a:t>
            </a:r>
            <a:r>
              <a:rPr b="1" lang="es-MX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 preamplifica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s-MX" sz="3200" spc="-1" strike="noStrike" baseline="-25000">
                <a:solidFill>
                  <a:srgbClr val="ffff00"/>
                </a:solidFill>
                <a:latin typeface="Arial"/>
              </a:rPr>
              <a:t>p </a:t>
            </a: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= 1480 nm  alta potencia </a:t>
            </a:r>
            <a:r>
              <a:rPr b="1" lang="es-MX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 boo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EDFA Preamplificador  NF = 5-6 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EDFA Booster NF = 8-10 d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1403280" y="1197000"/>
          <a:ext cx="66675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197000"/>
                    <a:ext cx="66675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2273040" y="333360"/>
            <a:ext cx="49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FACTOR DE RUIDO DE UN ED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395280" y="1090440"/>
            <a:ext cx="8280360" cy="47199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402360" y="27936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DIAGRAMA DE O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Arial"/>
              </a:rPr>
              <a:t>FILTROS OPTIC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Se requieren para las funciones de Multiplexión, Demultiplexión, Ecualización de Ganancia de los Amplificadores y Filtrado de rui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Hay varias tecnologías de Filtrado Óptico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Filtros de Capa Delgada (Thin Film Filters, T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Filtros de Bragg (Fiber Bragg Gra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Arrayed Waveguide Grating (AW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Arial"/>
              </a:rPr>
              <a:t>DW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Se basa en propiedad de la F.O. de transmitir simultáneamente varias longitudes de onda (colores) sin interferir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Varias portadoras ópticas individuales (</a:t>
            </a:r>
            <a:r>
              <a:rPr b="0" lang="es-MX" sz="32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) se agrupan en una sola señal óptica multi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ada </a:t>
            </a:r>
            <a:r>
              <a:rPr b="0" lang="es-MX" sz="32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representa un canal óptico sobre el cual se transporta un servi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752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Arial"/>
              </a:rPr>
              <a:t>DW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Inicialmente WDM : pocos canales bien sepa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Hoy se transmiten muchos canales con pequeña separación (</a:t>
            </a:r>
            <a:r>
              <a:rPr b="0" lang="es-MX" sz="3200" spc="-1" strike="noStrike">
                <a:solidFill>
                  <a:srgbClr val="ffff00"/>
                </a:solidFill>
                <a:latin typeface="Symbol"/>
                <a:ea typeface="Symbol"/>
              </a:rPr>
              <a:t>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) entre ellos : WDM Densa = DWD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488000" cy="5241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832400" y="404640"/>
            <a:ext cx="70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SEÑAL  DWDM  SANTIAGO NOR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Arial"/>
              </a:rPr>
              <a:t>GRILLA DE  FRECUENCI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DWDM requiere la definición de un plan de canalización, la grilla de frecuencias o </a:t>
            </a:r>
            <a:r>
              <a:rPr b="0" lang="es-MX" sz="32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ecomendación ITU-T G 694.1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Arial"/>
              </a:rPr>
              <a:t>n 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= f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Arial"/>
              </a:rPr>
              <a:t>o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+ n</a:t>
            </a:r>
            <a:r>
              <a:rPr b="0" lang="es-MX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= frecuencia central = 193100 GH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f= 12,5 ; 25 ; 50 ; 100 GH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n =  entero (positivo, negativo, cer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534400" y="466560"/>
            <a:ext cx="336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GRILLA  G 694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000" y="1125360"/>
            <a:ext cx="8147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Espaciamiento en frecuencia const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s-MX" sz="2800" spc="-1" strike="noStrike" baseline="-25000">
                <a:solidFill>
                  <a:srgbClr val="ffff00"/>
                </a:solidFill>
                <a:latin typeface="Arial"/>
              </a:rPr>
              <a:t>n+1 </a:t>
            </a: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– f</a:t>
            </a:r>
            <a:r>
              <a:rPr b="1" lang="es-MX" sz="2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 = Cte. = </a:t>
            </a:r>
            <a:r>
              <a:rPr b="1" lang="es-MX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f = 100 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Espaciamiento en longitud de onda no es const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ffff00"/>
                </a:solidFill>
                <a:latin typeface="Symbol"/>
                <a:ea typeface="Symbol"/>
              </a:rPr>
              <a:t></a:t>
            </a:r>
            <a:r>
              <a:rPr b="1" lang="es-MX" sz="2800" spc="-1" strike="noStrike" baseline="-25000">
                <a:solidFill>
                  <a:srgbClr val="ffff00"/>
                </a:solidFill>
                <a:latin typeface="Arial"/>
              </a:rPr>
              <a:t>n+1</a:t>
            </a: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lang="es-MX" sz="2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s-MX" sz="2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 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 = 2,99792458 x 10</a:t>
            </a:r>
            <a:r>
              <a:rPr b="1" lang="es-MX" sz="2800" spc="-1" strike="noStrike" baseline="30000">
                <a:solidFill>
                  <a:srgbClr val="ffff00"/>
                </a:solidFill>
                <a:latin typeface="Arial"/>
              </a:rPr>
              <a:t>8</a:t>
            </a: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 m/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24560" y="179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427640" y="4008600"/>
                <a:ext cx="266364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0,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2268360" y="4076640"/>
            <a:ext cx="0" cy="576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0000" y="4076640"/>
            <a:ext cx="0" cy="576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752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2236680" y="1890720"/>
          <a:ext cx="4380120" cy="30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6680" y="1890720"/>
                    <a:ext cx="438012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788640" y="4459320"/>
            <a:ext cx="45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95640" y="1916280"/>
            <a:ext cx="863640" cy="0"/>
          </a:xfrm>
          <a:prstGeom prst="line">
            <a:avLst/>
          </a:prstGeom>
          <a:ln w="284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995640" y="1844640"/>
            <a:ext cx="0" cy="223200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859280" y="1773360"/>
            <a:ext cx="0" cy="2232000"/>
          </a:xfrm>
          <a:prstGeom prst="line">
            <a:avLst/>
          </a:prstGeom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28880" y="4459320"/>
            <a:ext cx="81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72880" y="101592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Symbol"/>
                <a:ea typeface="Symbol"/>
              </a:rPr>
              <a:t>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n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7:04:31Z</dcterms:created>
  <dc:creator>ENTEL</dc:creator>
  <dc:description/>
  <dc:language>en-US</dc:language>
  <cp:lastModifiedBy>cami</cp:lastModifiedBy>
  <dcterms:modified xsi:type="dcterms:W3CDTF">2008-04-13T23:23:25Z</dcterms:modified>
  <cp:revision>10</cp:revision>
  <dc:subject/>
  <dc:title>CURSO  EQUIPOS DWDM Y SDH  HUAWEI</dc:title>
</cp:coreProperties>
</file>