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085F7-F3AB-4D61-9FD5-3C9E79EDD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23098-BD9C-4373-8754-DA3D01FDB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F5989-5FB7-4424-AF1E-42C4378E5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F1013-593F-4199-9088-C471211C4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02A8F-7EFC-44AF-A02A-9DD89B305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F420A-9C10-43ED-9B67-9A4C6F666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9C112-B40A-4B65-9329-3093868DA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DFC59-CD60-47CF-9071-02E25C12C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35EB9-839C-41FA-94BE-EEC53D795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537AD-3DC3-455C-965B-FC4C204ED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A72BD-D005-4E69-9826-96F6801CB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205F2-F20C-4BD0-9D88-8BF2D2117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CB102-51B1-4740-9554-B7412F73E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2D420-F817-490C-BAE7-542BED685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3DAC9-D423-4C4F-97F6-696731A57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79B3D-FD38-4838-AAE3-6DFA7CCA1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0192E-A135-4C75-B48A-8B7EBE33C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58673-A64D-48F2-9F02-7E9B8BA0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D636-E41C-4D24-B25A-70E47A4B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CAA30-308C-4DD2-8816-F83E7F2F7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91B45-738B-442F-9185-FD094166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7E531-9DD1-44EB-9518-47FA0C7D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174B-041F-4F06-84D7-F5735466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52C3-3311-4319-83DE-EB6687207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8174-A37A-4E83-9AF4-B2DAD7AF2EC5}"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5B39-4ABD-4F4A-B23A-AAE2A9481038}"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Materiales Eléctricos</a:t>
            </a:r>
            <a:br>
              <a:rPr sz="4400"/>
            </a:br>
            <a:r>
              <a:rPr b="0" lang="es-ES" sz="4400" spc="-1" strike="noStrike">
                <a:solidFill>
                  <a:srgbClr val="b7e7ff"/>
                </a:solidFill>
                <a:latin typeface="Arial"/>
              </a:rPr>
              <a:t>“Polietileno”</a:t>
            </a:r>
            <a:endParaRPr b="0" lang="en-US" sz="4400" spc="-1" strike="noStrike">
              <a:solidFill>
                <a:srgbClr val="b7e7ff"/>
              </a:solidFill>
              <a:latin typeface="Arial"/>
            </a:endParaRPr>
          </a:p>
        </p:txBody>
      </p:sp>
      <p:sp>
        <p:nvSpPr>
          <p:cNvPr id="83" name="PlaceHolder 2"/>
          <p:cNvSpPr>
            <a:spLocks noGrp="1"/>
          </p:cNvSpPr>
          <p:nvPr>
            <p:ph type="subTitle"/>
          </p:nvPr>
        </p:nvSpPr>
        <p:spPr>
          <a:xfrm>
            <a:off x="2556000" y="4508280"/>
            <a:ext cx="6400800" cy="177804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57C Taller de Diseño en Sistemas de Potencia I</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ofesor: Alberto Botteselle D.</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milo Garay B.</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elipe Ramos G.</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Jueves 12 de Junio de 2008</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s como Aislante</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ubo Conduit de Polietileno</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 diseñada para una larga duración libre de problemas en telecomunicaciones, fibra óptica y cableado eléctrico de baja tensión.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abricado de polietileno de alta densidad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se Fractura</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requiere pegamento ni termofusión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celente Flexibilidad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se recomienda su utilización oculto e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chos o en instalaciones visibl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2"/>
          <a:stretch/>
        </p:blipFill>
        <p:spPr>
          <a:xfrm>
            <a:off x="6156360" y="3500280"/>
            <a:ext cx="1903320" cy="23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s como Aislante</a:t>
            </a:r>
            <a:endParaRPr b="0" lang="en-US" sz="32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bles de polietileno Reticulado XLPE</a:t>
            </a:r>
            <a:endParaRPr b="0" lang="en-US" sz="24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Muy usados en Media y Alta Tension(hasta 500KV) .Fabricados con Tecnologia de cable extruido,Pueden incorporar fibra optica, cuentan con certificacion ISO9001 y 14001 y </a:t>
            </a:r>
            <a:r>
              <a:rPr b="0" lang="es-ES" sz="1600" spc="-1" strike="noStrike">
                <a:solidFill>
                  <a:srgbClr val="ffffff"/>
                </a:solidFill>
                <a:latin typeface="Arial"/>
              </a:rPr>
              <a:t>la temperatura máxima de operación es 90 ºC.</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4" name="" descr=""/>
          <p:cNvPicPr/>
          <p:nvPr/>
        </p:nvPicPr>
        <p:blipFill>
          <a:blip r:embed="rId2"/>
          <a:stretch/>
        </p:blipFill>
        <p:spPr>
          <a:xfrm>
            <a:off x="1042920" y="4076640"/>
            <a:ext cx="2160720" cy="2124000"/>
          </a:xfrm>
          <a:prstGeom prst="rect">
            <a:avLst/>
          </a:prstGeom>
          <a:ln w="0">
            <a:noFill/>
          </a:ln>
        </p:spPr>
      </p:pic>
      <p:pic>
        <p:nvPicPr>
          <p:cNvPr id="115" name="" descr=""/>
          <p:cNvPicPr/>
          <p:nvPr/>
        </p:nvPicPr>
        <p:blipFill>
          <a:blip r:embed="rId3"/>
          <a:stretch/>
        </p:blipFill>
        <p:spPr>
          <a:xfrm>
            <a:off x="3924360" y="3933720"/>
            <a:ext cx="4194000" cy="23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Origen del Material</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olietileno es un producto químicamente Inerte que proviene de la polimerización </a:t>
            </a:r>
            <a:r>
              <a:rPr b="0" lang="es-ES_tradnl" sz="1800" spc="-1" strike="noStrike">
                <a:solidFill>
                  <a:srgbClr val="ffffff"/>
                </a:solidFill>
                <a:latin typeface="Arial"/>
              </a:rPr>
              <a:t>por adición del etileno CH</a:t>
            </a:r>
            <a:r>
              <a:rPr b="0" lang="es-ES_tradnl" sz="1800" spc="-1" strike="noStrike" baseline="-25000">
                <a:solidFill>
                  <a:srgbClr val="ffffff"/>
                </a:solidFill>
                <a:latin typeface="Arial"/>
              </a:rPr>
              <a:t>2</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s productos tienen en común la estructura química fundamental </a:t>
            </a:r>
            <a:r>
              <a:rPr b="0" lang="es-ES_tradnl" sz="1800" spc="-1" strike="noStrike">
                <a:solidFill>
                  <a:srgbClr val="ffffff"/>
                </a:solidFill>
                <a:latin typeface="Arial"/>
              </a:rPr>
              <a:t>(CH</a:t>
            </a:r>
            <a:r>
              <a:rPr b="0" lang="es-ES_tradnl" sz="1800" spc="-1" strike="noStrike" baseline="-25000">
                <a:solidFill>
                  <a:srgbClr val="ffffff"/>
                </a:solidFill>
                <a:latin typeface="Arial"/>
              </a:rPr>
              <a:t>2</a:t>
            </a:r>
            <a:r>
              <a:rPr b="0" lang="es-ES_tradnl" sz="1800" spc="-1" strike="noStrike">
                <a:solidFill>
                  <a:srgbClr val="ffffff"/>
                </a:solidFill>
                <a:latin typeface="Arial"/>
              </a:rPr>
              <a:t>)</a:t>
            </a:r>
            <a:r>
              <a:rPr b="0" lang="es-ES_tradnl" sz="1800" spc="-1" strike="noStrike" baseline="-25000">
                <a:solidFill>
                  <a:srgbClr val="ffffff"/>
                </a:solidFill>
                <a:latin typeface="Arial"/>
              </a:rPr>
              <a:t>n</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aumentar la ramificación de la cadena, disminuye la densidad del polietileno y su grado de cristalinidad</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aquí pueden obtenerse productos con propiedades físicas muy variadas.</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tipo de polímero se creó para usarlo como aislamiento eléctrico, pero después ha encontrado muchas aplicaciones en otros camp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 name="" descr=""/>
          <p:cNvPicPr/>
          <p:nvPr/>
        </p:nvPicPr>
        <p:blipFill>
          <a:blip r:embed="rId2"/>
          <a:stretch/>
        </p:blipFill>
        <p:spPr>
          <a:xfrm>
            <a:off x="1547640" y="4292640"/>
            <a:ext cx="1905120" cy="1819080"/>
          </a:xfrm>
          <a:prstGeom prst="rect">
            <a:avLst/>
          </a:prstGeom>
          <a:ln w="0">
            <a:noFill/>
          </a:ln>
        </p:spPr>
      </p:pic>
      <p:pic>
        <p:nvPicPr>
          <p:cNvPr id="87" name="Imagen 17" descr=""/>
          <p:cNvPicPr/>
          <p:nvPr/>
        </p:nvPicPr>
        <p:blipFill>
          <a:blip r:embed="rId3"/>
          <a:stretch/>
        </p:blipFill>
        <p:spPr>
          <a:xfrm>
            <a:off x="4356000" y="4581360"/>
            <a:ext cx="4194360" cy="119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7e7ff"/>
                </a:solidFill>
                <a:latin typeface="Arial"/>
              </a:rPr>
              <a:t>Tipos de Polietileno</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HMWPE (Ultra High Molecular Weight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MWPE (High Molecular Weight Polyethylen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DPE (High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DXLPE (High Density Cross-Linked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X (Cross-Linked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DPE (Medium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DPE (Low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LDPE (Linear Low Density P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LDPE (Very Low Density P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7e7ff"/>
                </a:solidFill>
                <a:latin typeface="Arial"/>
              </a:rPr>
              <a:t>Tipos de Polietileno</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ETILENO DE BAJA DENSIDAD (LDPE)</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ETILENO LINEAL DE BAJA DENSIDAD (LLDPE)</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ETILENO DE ALTA DENSIDAD (HDPE)</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HDPE abarca el intervalo de densidades de 0.941 a 0.967 g/cm3 por el uso de copolímeros que añaden ramificaciones laterales, reduciendo así la densidad.</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Propiedades del material</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deben principalmente a tres propiedades moleculares básicas: </a:t>
            </a:r>
            <a:r>
              <a:rPr b="1" lang="es-ES" sz="1800" spc="-1" strike="noStrike">
                <a:solidFill>
                  <a:srgbClr val="ffffff"/>
                </a:solidFill>
                <a:latin typeface="Arial"/>
              </a:rPr>
              <a:t>densidad, peso molecular promedio y distribución del peso molecular.</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s propiedades básicas a su vez dependen del tamaño, estructura y uniformidad de la molécula de polietileno.</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condiciones de operación pueden alterar la orientación (alineamiento) de las moléculas y por lo tanto afectar las propiedades de dicha resina.</a:t>
            </a:r>
            <a:endParaRPr b="0" lang="en-US" sz="1800" spc="-1" strike="noStrike">
              <a:solidFill>
                <a:srgbClr val="ffffff"/>
              </a:solidFill>
              <a:latin typeface="Arial"/>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olietileno es insoluble en agua y sólo absorbe ésta en un grado muy limitado. La absorción de agua aumenta con la temperatur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95" name="" descr=""/>
          <p:cNvPicPr/>
          <p:nvPr/>
        </p:nvPicPr>
        <p:blipFill>
          <a:blip r:embed="rId2"/>
          <a:stretch/>
        </p:blipFill>
        <p:spPr>
          <a:xfrm>
            <a:off x="2268360" y="476280"/>
            <a:ext cx="4824720" cy="59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Propiedades eléctricas</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tiene una conductividad eléctrica pequeña, baja permitividad y una resistencia dieléctrica elevada. </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ropiedades eléctricas no son especialmente sensibles a la humedad en virtud de la absorción muy pequeña de agua por el polietilen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 descr=""/>
          <p:cNvPicPr/>
          <p:nvPr/>
        </p:nvPicPr>
        <p:blipFill>
          <a:blip r:embed="rId2"/>
          <a:stretch/>
        </p:blipFill>
        <p:spPr>
          <a:xfrm>
            <a:off x="2050920" y="4076640"/>
            <a:ext cx="554544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DPE:</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Bolsas de todo tipo: supermercados, boutiques, panificación, congelados, industriales, etc.</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Películas para agro.</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Base para pañales desechable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ntenedores herméticos doméstico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uberías para riego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1" name="" descr=""/>
          <p:cNvPicPr/>
          <p:nvPr/>
        </p:nvPicPr>
        <p:blipFill>
          <a:blip r:embed="rId2"/>
          <a:stretch/>
        </p:blipFill>
        <p:spPr>
          <a:xfrm>
            <a:off x="6588000" y="1557360"/>
            <a:ext cx="2021040" cy="2135160"/>
          </a:xfrm>
          <a:prstGeom prst="rect">
            <a:avLst/>
          </a:prstGeom>
          <a:ln w="0">
            <a:noFill/>
          </a:ln>
        </p:spPr>
      </p:pic>
      <p:pic>
        <p:nvPicPr>
          <p:cNvPr id="102" name="" descr=""/>
          <p:cNvPicPr/>
          <p:nvPr/>
        </p:nvPicPr>
        <p:blipFill>
          <a:blip r:embed="rId3"/>
          <a:stretch/>
        </p:blipFill>
        <p:spPr>
          <a:xfrm>
            <a:off x="4716360" y="3068640"/>
            <a:ext cx="1959120" cy="1959120"/>
          </a:xfrm>
          <a:prstGeom prst="rect">
            <a:avLst/>
          </a:prstGeom>
          <a:ln w="0">
            <a:noFill/>
          </a:ln>
        </p:spPr>
      </p:pic>
      <p:pic>
        <p:nvPicPr>
          <p:cNvPr id="103" name="" descr=""/>
          <p:cNvPicPr/>
          <p:nvPr/>
        </p:nvPicPr>
        <p:blipFill>
          <a:blip r:embed="rId4"/>
          <a:stretch/>
        </p:blipFill>
        <p:spPr>
          <a:xfrm>
            <a:off x="6300720" y="4221000"/>
            <a:ext cx="2521080" cy="19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Aplicaciones del Polietileno</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DPE:</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Envases para: detergentes, lejía, aceites automotor, shampoo, lácteo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Envases para pintura, helados, aceites.</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uberías para gas, telefonía, agua potable, minería, láminas de drenaje y uso sanitario.</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ambién se usa para recubrir lagunas, canales, fosas de neutralización, contra tanques, tanques de agua, plantas de tratamiento de aguas, lagos artificiales, canalones de láminas, etc.</a:t>
            </a:r>
            <a:endParaRPr b="0" lang="en-US" sz="16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6" name="" descr=""/>
          <p:cNvPicPr/>
          <p:nvPr/>
        </p:nvPicPr>
        <p:blipFill>
          <a:blip r:embed="rId2"/>
          <a:stretch/>
        </p:blipFill>
        <p:spPr>
          <a:xfrm>
            <a:off x="5111640" y="1676520"/>
            <a:ext cx="3265560" cy="2135160"/>
          </a:xfrm>
          <a:prstGeom prst="rect">
            <a:avLst/>
          </a:prstGeom>
          <a:ln w="0">
            <a:noFill/>
          </a:ln>
        </p:spPr>
      </p:pic>
      <p:pic>
        <p:nvPicPr>
          <p:cNvPr id="107" name="" descr=""/>
          <p:cNvPicPr/>
          <p:nvPr/>
        </p:nvPicPr>
        <p:blipFill>
          <a:blip r:embed="rId3"/>
          <a:stretch/>
        </p:blipFill>
        <p:spPr>
          <a:xfrm>
            <a:off x="6732720" y="4221000"/>
            <a:ext cx="1668240" cy="2017800"/>
          </a:xfrm>
          <a:prstGeom prst="rect">
            <a:avLst/>
          </a:prstGeom>
          <a:ln w="0">
            <a:noFill/>
          </a:ln>
        </p:spPr>
      </p:pic>
      <p:pic>
        <p:nvPicPr>
          <p:cNvPr id="108" name="" descr=""/>
          <p:cNvPicPr/>
          <p:nvPr/>
        </p:nvPicPr>
        <p:blipFill>
          <a:blip r:embed="rId4"/>
          <a:stretch/>
        </p:blipFill>
        <p:spPr>
          <a:xfrm>
            <a:off x="4716360" y="3716280"/>
            <a:ext cx="2198880" cy="167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4:54:31Z</dcterms:created>
  <dc:creator>cgaray</dc:creator>
  <dc:description/>
  <dc:language>en-US</dc:language>
  <cp:lastModifiedBy>Alberto Botteselle Doggenweiler</cp:lastModifiedBy>
  <dcterms:modified xsi:type="dcterms:W3CDTF">2008-07-12T23:10:50Z</dcterms:modified>
  <cp:revision>3</cp:revision>
  <dc:subject/>
  <dc:title>Materiales Eléctricos “Polietileno”</dc:title>
</cp:coreProperties>
</file>