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A7E8-0170-44A8-ABE5-FB38D46D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1A9-F134-4C3F-96AE-A4CAF4A6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AF67-ABC0-47F1-9085-4CEBB0B0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31F-85FC-4743-B9BA-D8E1F19B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014-67CA-44AA-B530-B463C334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78EF-8A40-4646-893D-3DACA004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ED02-1483-44B6-BAFC-F5B4BB52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1027-7FE5-4540-8670-8F203148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FA54-CDF3-4C73-8647-26723EFD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F48C-17F8-4EFC-B299-5C528CBA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137A-9F90-49FE-A8C1-DB2C1C9C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011F-0422-4CD7-94DE-E672FA7A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736A-6681-4BC5-AE8F-7D07E5122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24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0"/>
            <a:ext cx="848052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serv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1628640"/>
            <a:ext cx="31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8000"/>
                </a:solidFill>
                <a:latin typeface="Arial"/>
              </a:rPr>
              <a:t>Defini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31640" y="2781360"/>
            <a:ext cx="8244000" cy="3170880"/>
            <a:chOff x="431640" y="2781360"/>
            <a:chExt cx="8244000" cy="3170880"/>
          </a:xfrm>
        </p:grpSpPr>
        <p:sp>
          <p:nvSpPr>
            <p:cNvPr id="204" name=""/>
            <p:cNvSpPr/>
            <p:nvPr/>
          </p:nvSpPr>
          <p:spPr>
            <a:xfrm>
              <a:off x="431640" y="2781360"/>
              <a:ext cx="8244000" cy="31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El sistema es (completamente) observable en t</a:t>
              </a:r>
              <a:r>
                <a:rPr b="1" i="1" lang="es-ES_tradnl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 si existe t</a:t>
              </a:r>
              <a:r>
                <a:rPr b="1" i="1" lang="es-ES_tradnl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 &gt; t</a:t>
              </a:r>
              <a:r>
                <a:rPr b="1" i="1" lang="es-ES_tradnl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 finito, tal que para cualquier estado inicial x</a:t>
              </a:r>
              <a:r>
                <a:rPr b="1" i="1" lang="es-ES_tradnl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 = x(t</a:t>
              </a:r>
              <a:r>
                <a:rPr b="1" i="1" lang="es-ES_tradnl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), el conocimiento   de   la   entrada             y de la salida              es suficiente para conocer x</a:t>
              </a:r>
              <a:r>
                <a:rPr b="1" i="1" lang="es-ES_tradnl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232000" y="4076640"/>
                  <a:ext cx="115092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6551640" y="4078080"/>
                  <a:ext cx="1152360" cy="56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24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0"/>
            <a:ext cx="848052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serv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119700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a 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3816360" cy="1393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299736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istema es Obser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36360" y="3573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Columnas 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n l.i. 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0,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b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36360" y="4149720"/>
            <a:ext cx="89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Columnas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(s·I-A)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n l.i. en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[0,</a:t>
            </a:r>
            <a:r>
              <a:rPr b="0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obre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36360" y="4726080"/>
            <a:ext cx="918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Grammiano de Observabilida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no singul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 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276720" y="5373720"/>
                <a:ext cx="3073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/>
                            </m:sSup>
                            <m:r>
                              <m:t xml:space="preserve">τ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/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Aτ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24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0"/>
            <a:ext cx="84805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serv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98100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istema es Obser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36360" y="268452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atriz de Observabilidad                   tiene rango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36360" y="1581120"/>
            <a:ext cx="89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cada Valor Propio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A la matriz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ne rango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926640" y="3213000"/>
            <a:ext cx="1527840" cy="1566720"/>
            <a:chOff x="926640" y="3213000"/>
            <a:chExt cx="1527840" cy="1566720"/>
          </a:xfrm>
        </p:grpSpPr>
        <p:sp>
          <p:nvSpPr>
            <p:cNvPr id="224" name=""/>
            <p:cNvSpPr/>
            <p:nvPr/>
          </p:nvSpPr>
          <p:spPr>
            <a:xfrm>
              <a:off x="2379240" y="427356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79240" y="40129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79240" y="37526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79240" y="34938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79240" y="4459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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79240" y="32335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39280" y="427356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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39280" y="40129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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39280" y="37526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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39280" y="34938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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39280" y="4459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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39280" y="32335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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49480" y="380016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09240" y="4316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26640" y="3774960"/>
              <a:ext cx="162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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09320" y="43164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40760" y="431640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53040" y="4413240"/>
              <a:ext cx="35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C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64360" y="3612960"/>
              <a:ext cx="35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C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61200" y="3213000"/>
              <a:ext cx="169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33120" y="401292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527360" y="2708280"/>
            <a:ext cx="1220040" cy="421920"/>
            <a:chOff x="4527360" y="2708280"/>
            <a:chExt cx="1220040" cy="421920"/>
          </a:xfrm>
        </p:grpSpPr>
        <p:sp>
          <p:nvSpPr>
            <p:cNvPr id="246" name=""/>
            <p:cNvSpPr/>
            <p:nvPr/>
          </p:nvSpPr>
          <p:spPr>
            <a:xfrm>
              <a:off x="5614200" y="27082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25760" y="2708280"/>
              <a:ext cx="224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Verdana"/>
                </a:rPr>
                <a:t>n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72000" y="270828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02200" y="280512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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54160" y="2805120"/>
              <a:ext cx="191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27360" y="2779560"/>
              <a:ext cx="162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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123960" y="1413000"/>
            <a:ext cx="2369520" cy="766440"/>
            <a:chOff x="6123960" y="1413000"/>
            <a:chExt cx="2369520" cy="766440"/>
          </a:xfrm>
        </p:grpSpPr>
        <p:sp>
          <p:nvSpPr>
            <p:cNvPr id="253" name=""/>
            <p:cNvSpPr/>
            <p:nvPr/>
          </p:nvSpPr>
          <p:spPr>
            <a:xfrm>
              <a:off x="7669440" y="144180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55080" y="144180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60280" y="150336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19720" y="150336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41080" y="150336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37960" y="1812960"/>
              <a:ext cx="169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23800" y="1413000"/>
              <a:ext cx="185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92880" y="141300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218080" y="150336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84000" y="150336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54520" y="16002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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06840" y="1600200"/>
              <a:ext cx="191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48080" y="169416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48080" y="18590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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48080" y="14335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23960" y="169416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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23960" y="18590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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23960" y="14335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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14640" y="14130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17560" y="1413000"/>
              <a:ext cx="14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643280" y="4437000"/>
            <a:ext cx="4464360" cy="19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,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Cómo debe s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 que el sistema sea observ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804000" y="4468680"/>
            <a:ext cx="14860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24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9280" y="0"/>
            <a:ext cx="84805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eor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4000" y="1484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 el par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(A, C)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 completamente Observable ento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213372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los polo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-F·C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pueden localizarse arbitrariamente en el plano comple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3213000"/>
            <a:ext cx="7705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iseño observado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oger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 / A-F·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tiene los polos dese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04920" y="4721400"/>
            <a:ext cx="5995080" cy="1155600"/>
            <a:chOff x="304920" y="4721400"/>
            <a:chExt cx="5995080" cy="1155600"/>
          </a:xfrm>
        </p:grpSpPr>
        <p:sp>
          <p:nvSpPr>
            <p:cNvPr id="282" name=""/>
            <p:cNvSpPr/>
            <p:nvPr/>
          </p:nvSpPr>
          <p:spPr>
            <a:xfrm>
              <a:off x="304920" y="4721400"/>
              <a:ext cx="546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Si [</a:t>
              </a:r>
              <a:r>
                <a:rPr b="0" i="1" lang="es-ES_tradnl" sz="2800" spc="-1" strike="noStrike">
                  <a:solidFill>
                    <a:srgbClr val="000000"/>
                  </a:solidFill>
                  <a:latin typeface="Times New Roman"/>
                </a:rPr>
                <a:t>A-F·C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] asintóticamente esta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1764360" y="5394240"/>
                  <a:ext cx="453564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t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r>
                        <m:t xml:space="preserve">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t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24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9280" y="0"/>
            <a:ext cx="84805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iseño de Observ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4000" y="155736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general escoger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los polo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-F·C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an levemente “más rápidos” que los del sistema, es decir con parte real levemente más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3068640"/>
            <a:ext cx="8351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 polos son muy rápidos observador puede comportarse como un diferenciador, produce inestabilidades y problemas numér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 polos son muy lentos, observador no es capaz de seguir cambios del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24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9280" y="0"/>
            <a:ext cx="84805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iseño de Observ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87280" y="1916280"/>
            <a:ext cx="626436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,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uent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 que el observador tenga una convergencia el doble más rápida que 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348000" y="1947960"/>
            <a:ext cx="1486080" cy="9046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5076720" y="2060640"/>
            <a:ext cx="17049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24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0"/>
            <a:ext cx="84805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servadores de orden Reduc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58920" y="3357720"/>
            <a:ext cx="6216480" cy="1494360"/>
            <a:chOff x="1258920" y="3357720"/>
            <a:chExt cx="6216480" cy="1494360"/>
          </a:xfrm>
        </p:grpSpPr>
        <p:sp>
          <p:nvSpPr>
            <p:cNvPr id="299" name=""/>
            <p:cNvSpPr/>
            <p:nvPr/>
          </p:nvSpPr>
          <p:spPr>
            <a:xfrm>
              <a:off x="1258920" y="445320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Verdana"/>
                </a:rPr>
                <a:t>M no singular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Verdana"/>
                </a:rPr>
                <a:t> G arbitra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1353960" y="3357720"/>
              <a:ext cx="6121440" cy="749160"/>
              <a:chOff x="1353960" y="3357720"/>
              <a:chExt cx="6121440" cy="749160"/>
            </a:xfrm>
          </p:grpSpPr>
          <mc:AlternateContent>
            <mc:Choice xmlns:a14="http://schemas.microsoft.com/office/drawing/2010/main" Requires="a14">
              <p:sp>
                <p:nvSpPr>
                  <p:cNvPr id="301" name=""/>
                  <p:cNvSpPr txBox="1"/>
                  <p:nvPr/>
                </p:nvSpPr>
                <p:spPr>
                  <a:xfrm>
                    <a:off x="1353960" y="3357720"/>
                    <a:ext cx="6121440" cy="74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G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ℜ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ℜ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ℜ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2" name=""/>
              <p:cNvSpPr/>
              <p:nvPr/>
            </p:nvSpPr>
            <p:spPr>
              <a:xfrm>
                <a:off x="1944720" y="36813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2050920" y="998640"/>
            <a:ext cx="4703400" cy="1703160"/>
            <a:chOff x="2050920" y="998640"/>
            <a:chExt cx="4703400" cy="1703160"/>
          </a:xfrm>
        </p:grpSpPr>
        <p:grpSp>
          <p:nvGrpSpPr>
            <p:cNvPr id="304" name=""/>
            <p:cNvGrpSpPr/>
            <p:nvPr/>
          </p:nvGrpSpPr>
          <p:grpSpPr>
            <a:xfrm>
              <a:off x="2151000" y="1392120"/>
              <a:ext cx="4603320" cy="1309680"/>
              <a:chOff x="2151000" y="1392120"/>
              <a:chExt cx="4603320" cy="1309680"/>
            </a:xfrm>
          </p:grpSpPr>
          <p:sp>
            <p:nvSpPr>
              <p:cNvPr id="305" name=""/>
              <p:cNvSpPr/>
              <p:nvPr/>
            </p:nvSpPr>
            <p:spPr>
              <a:xfrm>
                <a:off x="2362320" y="143208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590920" y="143208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405240" y="143208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632400" y="143208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95960" y="143208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24560" y="143208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619960" y="1392120"/>
                <a:ext cx="1548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012000" y="1392120"/>
                <a:ext cx="1548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57640" y="187488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586240" y="187488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375000" y="187488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603600" y="187488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124600" y="187488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926320" y="187488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74840" y="227484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556000" y="227484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960640" y="2357280"/>
                <a:ext cx="169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p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309040" y="2357280"/>
                <a:ext cx="169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57840" y="2357280"/>
                <a:ext cx="1209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r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761440" y="1957320"/>
                <a:ext cx="1530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221080" y="1957320"/>
                <a:ext cx="1987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83360" y="195732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14280" y="1957320"/>
                <a:ext cx="3481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CX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465640" y="195732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184120" y="1957320"/>
                <a:ext cx="166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441480" y="15145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27960" y="151452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446080" y="15145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503960" y="151452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022280" y="1514520"/>
                <a:ext cx="3816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BU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513600" y="151452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026520" y="1514520"/>
                <a:ext cx="3636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AX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470320" y="151452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181960" y="15145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637680" y="167148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850360" y="167148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702160" y="2357280"/>
                <a:ext cx="2124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488200" y="1957320"/>
                <a:ext cx="2124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732040" y="1957320"/>
                <a:ext cx="2124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161040" y="1514520"/>
                <a:ext cx="2124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93680" y="1514520"/>
                <a:ext cx="156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35280" y="1514520"/>
                <a:ext cx="2124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151000" y="1432080"/>
                <a:ext cx="18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2050920" y="99864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908000" y="5229360"/>
            <a:ext cx="5752800" cy="862560"/>
            <a:chOff x="1908000" y="5229360"/>
            <a:chExt cx="5752800" cy="862560"/>
          </a:xfrm>
        </p:grpSpPr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1908000" y="5276880"/>
                  <a:ext cx="286992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X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W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X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X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"/>
            <p:cNvSpPr/>
            <p:nvPr/>
          </p:nvSpPr>
          <p:spPr>
            <a:xfrm>
              <a:off x="4174920" y="5600520"/>
              <a:ext cx="590400" cy="1800"/>
            </a:xfrm>
            <a:custGeom>
              <a:avLst/>
              <a:gdLst/>
              <a:ahLst/>
              <a:rect l="l" t="t" r="r" b="b"/>
              <a:pathLst>
                <a:path w="372" h="1">
                  <a:moveTo>
                    <a:pt x="0" y="0"/>
                  </a:moveTo>
                  <a:lnTo>
                    <a:pt x="372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98840" y="5229360"/>
              <a:ext cx="23619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Verdana"/>
                </a:rPr>
                <a:t>Y conoci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Verdana"/>
                </a:rPr>
                <a:t>W desconoci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324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9280" y="0"/>
            <a:ext cx="84805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servadores de orden Reduc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012680" y="1557360"/>
            <a:ext cx="6349680" cy="1463760"/>
            <a:chOff x="1012680" y="1557360"/>
            <a:chExt cx="6349680" cy="1463760"/>
          </a:xfrm>
        </p:grpSpPr>
        <p:sp>
          <p:nvSpPr>
            <p:cNvPr id="357" name=""/>
            <p:cNvSpPr/>
            <p:nvPr/>
          </p:nvSpPr>
          <p:spPr>
            <a:xfrm>
              <a:off x="1012680" y="1557360"/>
              <a:ext cx="35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Verdana"/>
                </a:rPr>
                <a:t>Sistema transformad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5826240" y="2716200"/>
                  <a:ext cx="10285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B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59" name=""/>
            <p:cNvGrpSpPr/>
            <p:nvPr/>
          </p:nvGrpSpPr>
          <p:grpSpPr>
            <a:xfrm>
              <a:off x="1177920" y="2120760"/>
              <a:ext cx="6184440" cy="549360"/>
              <a:chOff x="1177920" y="2120760"/>
              <a:chExt cx="6184440" cy="549360"/>
            </a:xfrm>
          </p:grpSpPr>
          <p:sp>
            <p:nvSpPr>
              <p:cNvPr id="360" name=""/>
              <p:cNvSpPr/>
              <p:nvPr/>
            </p:nvSpPr>
            <p:spPr>
              <a:xfrm>
                <a:off x="1177920" y="2287440"/>
                <a:ext cx="2048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722600" y="2287440"/>
                <a:ext cx="20952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95480" y="2287440"/>
                <a:ext cx="2030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266920" y="217476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495520" y="217476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816280" y="2287440"/>
                <a:ext cx="2030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295800" y="217476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524400" y="217476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989520" y="2287440"/>
                <a:ext cx="2030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254840" y="2135160"/>
                <a:ext cx="1548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646880" y="2135160"/>
                <a:ext cx="1548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992840" y="2287440"/>
                <a:ext cx="20448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27680" y="2287440"/>
                <a:ext cx="20808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245720" y="216072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74000" y="241452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486680" y="241452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440040" y="2257560"/>
                <a:ext cx="6879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MAM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14440" y="2257560"/>
                <a:ext cx="1850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465160" y="2257560"/>
                <a:ext cx="770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,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081040" y="225756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364280" y="225756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077720" y="225756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627000" y="2257560"/>
                <a:ext cx="770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,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405600" y="225756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15440" y="2257560"/>
                <a:ext cx="2019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U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897280" y="2257560"/>
                <a:ext cx="1807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76720" y="225756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083680" y="225756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09360" y="2257560"/>
                <a:ext cx="1850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266120" y="225756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149600" y="21607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81920" y="2257560"/>
                <a:ext cx="2124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97360" y="2257560"/>
                <a:ext cx="2124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657160" y="2257560"/>
                <a:ext cx="156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7120" y="2257560"/>
                <a:ext cx="2124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236600" y="2120760"/>
                <a:ext cx="180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1116000" y="164772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116000" y="2997360"/>
            <a:ext cx="6438960" cy="1492200"/>
            <a:chOff x="1116000" y="2997360"/>
            <a:chExt cx="6438960" cy="1492200"/>
          </a:xfrm>
        </p:grpSpPr>
        <p:sp>
          <p:nvSpPr>
            <p:cNvPr id="398" name=""/>
            <p:cNvSpPr/>
            <p:nvPr/>
          </p:nvSpPr>
          <p:spPr>
            <a:xfrm>
              <a:off x="1116000" y="299736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1168920" y="3421080"/>
              <a:ext cx="6386040" cy="1068480"/>
              <a:chOff x="1168920" y="3421080"/>
              <a:chExt cx="6386040" cy="1068480"/>
            </a:xfrm>
          </p:grpSpPr>
          <p:sp>
            <p:nvSpPr>
              <p:cNvPr id="400" name=""/>
              <p:cNvSpPr/>
              <p:nvPr/>
            </p:nvSpPr>
            <p:spPr>
              <a:xfrm>
                <a:off x="1350360" y="346104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578960" y="346104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679120" y="346104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07720" y="346104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087080" y="346104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15680" y="346104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198400" y="346104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425560" y="346104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150960" y="3421080"/>
                <a:ext cx="1548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543000" y="3421080"/>
                <a:ext cx="1548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442520" y="39402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671120" y="39402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777400" y="39402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004560" y="39402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191840" y="39402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419000" y="39402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317560" y="39402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546160" y="39402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62280" y="3900600"/>
                <a:ext cx="1548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54320" y="3900600"/>
                <a:ext cx="1548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438320" y="417996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597000" y="417996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993560" y="417996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627000" y="417996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2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314080" y="417996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2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133760" y="370080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86040" y="370080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882680" y="370080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522240" y="370080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215800" y="370080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174800" y="4023000"/>
                <a:ext cx="2581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W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457320" y="402300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091920" y="4023000"/>
                <a:ext cx="2581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W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640480" y="4023000"/>
                <a:ext cx="770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,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419080" y="402300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127840" y="4023000"/>
                <a:ext cx="2019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U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92680" y="4023000"/>
                <a:ext cx="1807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291920" y="402300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920400" y="4023000"/>
                <a:ext cx="2581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W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398040" y="4023000"/>
                <a:ext cx="1850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877480" y="402300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94520" y="4023000"/>
                <a:ext cx="166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085120" y="4023000"/>
                <a:ext cx="1850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542600" y="402300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70720" y="4023000"/>
                <a:ext cx="2581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W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960240" y="3543480"/>
                <a:ext cx="166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44560" y="354348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969520" y="3543480"/>
                <a:ext cx="166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519880" y="3543480"/>
                <a:ext cx="770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,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298480" y="354348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007240" y="3543480"/>
                <a:ext cx="2019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U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687920" y="3543480"/>
                <a:ext cx="1807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87160" y="354348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815640" y="3543480"/>
                <a:ext cx="2581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W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301200" y="3543480"/>
                <a:ext cx="1850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779200" y="354348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496240" y="3543480"/>
                <a:ext cx="166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993320" y="3543480"/>
                <a:ext cx="1850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450440" y="354348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68920" y="3543480"/>
                <a:ext cx="166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885000" y="4023000"/>
                <a:ext cx="2124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566960" y="4023000"/>
                <a:ext cx="156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52520" y="4023000"/>
                <a:ext cx="156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801800" y="4023000"/>
                <a:ext cx="2124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72240" y="3543480"/>
                <a:ext cx="2124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462200" y="3543480"/>
                <a:ext cx="156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053880" y="3543480"/>
                <a:ext cx="156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711440" y="3543480"/>
                <a:ext cx="2124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55680" y="3940200"/>
                <a:ext cx="144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209600" y="3461040"/>
                <a:ext cx="14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1116000" y="350208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794880" y="5829480"/>
            <a:ext cx="3868560" cy="559440"/>
            <a:chOff x="794880" y="5829480"/>
            <a:chExt cx="3868560" cy="559440"/>
          </a:xfrm>
        </p:grpSpPr>
        <p:sp>
          <p:nvSpPr>
            <p:cNvPr id="472" name=""/>
            <p:cNvSpPr/>
            <p:nvPr/>
          </p:nvSpPr>
          <p:spPr>
            <a:xfrm>
              <a:off x="1066320" y="5865840"/>
              <a:ext cx="154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58360" y="5865840"/>
              <a:ext cx="154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794400" y="58294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77160" y="58294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34560" y="589104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7480" y="589104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66400" y="589104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40920" y="61452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99600" y="61452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10040" y="5987880"/>
              <a:ext cx="14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16240" y="5987880"/>
              <a:ext cx="77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877400" y="5987880"/>
              <a:ext cx="258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36800" y="59310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159920" y="5987880"/>
              <a:ext cx="116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4880" y="5987880"/>
              <a:ext cx="258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53920" y="59310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90920" y="58910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34880" y="5891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79840" y="598788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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331800" y="5987880"/>
              <a:ext cx="191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87600" y="598788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34920" y="4365720"/>
            <a:ext cx="9121320" cy="997560"/>
            <a:chOff x="34920" y="4365720"/>
            <a:chExt cx="9121320" cy="997560"/>
          </a:xfrm>
        </p:grpSpPr>
        <p:grpSp>
          <p:nvGrpSpPr>
            <p:cNvPr id="494" name=""/>
            <p:cNvGrpSpPr/>
            <p:nvPr/>
          </p:nvGrpSpPr>
          <p:grpSpPr>
            <a:xfrm>
              <a:off x="56520" y="4797360"/>
              <a:ext cx="9099720" cy="565920"/>
              <a:chOff x="56520" y="4797360"/>
              <a:chExt cx="9099720" cy="565920"/>
            </a:xfrm>
          </p:grpSpPr>
          <p:sp>
            <p:nvSpPr>
              <p:cNvPr id="495" name=""/>
              <p:cNvSpPr/>
              <p:nvPr/>
            </p:nvSpPr>
            <p:spPr>
              <a:xfrm>
                <a:off x="320040" y="48798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2880" y="48798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920880" y="4846680"/>
                <a:ext cx="148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478600" y="4846680"/>
                <a:ext cx="148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883600" y="48798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106440" y="48798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163040" y="48798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385880" y="48798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261400" y="48798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483880" y="48798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336360" y="48690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59200" y="48690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606800" y="48690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829640" y="48690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685000" y="48690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07840" y="486900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970960" y="4797360"/>
                <a:ext cx="16848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987760" y="4797360"/>
                <a:ext cx="16848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379720" y="510840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156440" y="510840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944240" y="511956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712680" y="511956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2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197440" y="511956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245240" y="511956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2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782920" y="495144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502120" y="4951440"/>
                <a:ext cx="2019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U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190000" y="4951440"/>
                <a:ext cx="1807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04360" y="495144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428960" y="4951440"/>
                <a:ext cx="166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938640" y="4951440"/>
                <a:ext cx="1850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434280" y="495144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161040" y="4951440"/>
                <a:ext cx="166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49280" y="4951440"/>
                <a:ext cx="1468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F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359680" y="496260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75280" y="4962600"/>
                <a:ext cx="2019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U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750920" y="4962600"/>
                <a:ext cx="1807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260600" y="496260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986640" y="4962600"/>
                <a:ext cx="166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490200" y="4962600"/>
                <a:ext cx="1850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981520" y="496260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619720" y="4962600"/>
                <a:ext cx="2581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W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677320" y="4905360"/>
                <a:ext cx="1350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ˆ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823040" y="4962600"/>
                <a:ext cx="3315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F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022760" y="4962600"/>
                <a:ext cx="1850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7960" y="496260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6520" y="4962600"/>
                <a:ext cx="2581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W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13760" y="4905360"/>
                <a:ext cx="1350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ˆ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005320" y="4951440"/>
                <a:ext cx="89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737400" y="4951440"/>
                <a:ext cx="89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626440" y="4951440"/>
                <a:ext cx="156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530240" y="4962600"/>
                <a:ext cx="156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249360" y="4962600"/>
                <a:ext cx="156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629000" y="4962600"/>
                <a:ext cx="89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69600" y="4962600"/>
                <a:ext cx="2124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34920" y="436572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84720" y="4383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324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79280" y="0"/>
            <a:ext cx="84805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servadores de orden Reduc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55640" y="1484280"/>
            <a:ext cx="5257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i (C, A) es c.o.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 (A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22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) es c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755640" y="2276640"/>
            <a:ext cx="4343400" cy="1234440"/>
            <a:chOff x="755640" y="2276640"/>
            <a:chExt cx="4343400" cy="1234440"/>
          </a:xfrm>
        </p:grpSpPr>
        <p:sp>
          <p:nvSpPr>
            <p:cNvPr id="556" name=""/>
            <p:cNvSpPr/>
            <p:nvPr/>
          </p:nvSpPr>
          <p:spPr>
            <a:xfrm>
              <a:off x="755640" y="227664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Verdana"/>
                </a:rPr>
                <a:t>evitar diferenciación de Y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2692440" y="3117600"/>
                  <a:ext cx="238752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=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FY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8" name=""/>
          <p:cNvGrpSpPr/>
          <p:nvPr/>
        </p:nvGrpSpPr>
        <p:grpSpPr>
          <a:xfrm>
            <a:off x="826920" y="3357720"/>
            <a:ext cx="5899680" cy="1387440"/>
            <a:chOff x="826920" y="3357720"/>
            <a:chExt cx="5899680" cy="1387440"/>
          </a:xfrm>
        </p:grpSpPr>
        <p:grpSp>
          <p:nvGrpSpPr>
            <p:cNvPr id="559" name=""/>
            <p:cNvGrpSpPr/>
            <p:nvPr/>
          </p:nvGrpSpPr>
          <p:grpSpPr>
            <a:xfrm>
              <a:off x="859320" y="3790800"/>
              <a:ext cx="5867280" cy="954360"/>
              <a:chOff x="859320" y="3790800"/>
              <a:chExt cx="5867280" cy="954360"/>
            </a:xfrm>
          </p:grpSpPr>
          <p:sp>
            <p:nvSpPr>
              <p:cNvPr id="560" name=""/>
              <p:cNvSpPr/>
              <p:nvPr/>
            </p:nvSpPr>
            <p:spPr>
              <a:xfrm>
                <a:off x="1017000" y="382212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245600" y="382212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35480" y="3790800"/>
                <a:ext cx="148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232440" y="3790800"/>
                <a:ext cx="148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522240" y="382212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750840" y="382212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118400" y="3790800"/>
                <a:ext cx="148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716800" y="3790800"/>
                <a:ext cx="148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193800" y="382212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422400" y="382212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06920" y="4228560"/>
                <a:ext cx="148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486600" y="4228560"/>
                <a:ext cx="148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09520" y="426204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038120" y="426204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05680" y="4228560"/>
                <a:ext cx="148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656680" y="4228560"/>
                <a:ext cx="148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961960" y="426204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190560" y="426204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063840" y="434592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772600" y="4345920"/>
                <a:ext cx="2019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U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52320" y="4345920"/>
                <a:ext cx="3268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FB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487760" y="4345920"/>
                <a:ext cx="1807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909600" y="434592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626640" y="4345920"/>
                <a:ext cx="166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822400" y="4345920"/>
                <a:ext cx="3315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F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009160" y="4345920"/>
                <a:ext cx="1850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293880" y="390636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849640" y="3906360"/>
                <a:ext cx="313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FY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043600" y="3906360"/>
                <a:ext cx="3315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F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222080" y="3906360"/>
                <a:ext cx="1850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623760" y="390636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65640" y="3906360"/>
                <a:ext cx="1548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Z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58880" y="3906360"/>
                <a:ext cx="3315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F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737720" y="3906360"/>
                <a:ext cx="1850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117080" y="3906360"/>
                <a:ext cx="116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59320" y="3906360"/>
                <a:ext cx="1548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Z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508000" y="450144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689000" y="450144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206520" y="450144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238120" y="450144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2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427360" y="406332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449600" y="406332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2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943000" y="406332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964880" y="406332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2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949640" y="4345920"/>
                <a:ext cx="89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184280" y="4345920"/>
                <a:ext cx="156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620800" y="4345920"/>
                <a:ext cx="89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687320" y="4345920"/>
                <a:ext cx="156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570360" y="3906360"/>
                <a:ext cx="156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843080" y="3906360"/>
                <a:ext cx="89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898800" y="3906360"/>
                <a:ext cx="156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358720" y="3906360"/>
                <a:ext cx="89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78080" y="3906360"/>
                <a:ext cx="2124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2080" y="3823560"/>
                <a:ext cx="18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826920" y="335772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324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79280" y="0"/>
            <a:ext cx="84805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servadores de orden Reduc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1835280" y="4005360"/>
                <a:ext cx="430524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ℜ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ℜ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ℜ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ℜ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19" name=""/>
          <p:cNvGrpSpPr/>
          <p:nvPr/>
        </p:nvGrpSpPr>
        <p:grpSpPr>
          <a:xfrm>
            <a:off x="1498680" y="1844640"/>
            <a:ext cx="6078960" cy="1496880"/>
            <a:chOff x="1498680" y="1844640"/>
            <a:chExt cx="6078960" cy="1496880"/>
          </a:xfrm>
        </p:grpSpPr>
        <p:sp>
          <p:nvSpPr>
            <p:cNvPr id="620" name=""/>
            <p:cNvSpPr/>
            <p:nvPr/>
          </p:nvSpPr>
          <p:spPr>
            <a:xfrm>
              <a:off x="1791720" y="184464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025000" y="184464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602800" y="184464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832840" y="184464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80200" y="184464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13840" y="184464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932480" y="230652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62880" y="230652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69200" y="230652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01040" y="230652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780360" y="230652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012200" y="230652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932480" y="274464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162880" y="274464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559960" y="2712960"/>
              <a:ext cx="14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186080" y="2712960"/>
              <a:ext cx="14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04840" y="274464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935960" y="274464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281280" y="2706840"/>
              <a:ext cx="154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679800" y="2706840"/>
              <a:ext cx="154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496280" y="311940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84960" y="298620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19600" y="29862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043680" y="298620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73000" y="298620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90880" y="2986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95840" y="2986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93080" y="298620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93080" y="254628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090200" y="2828880"/>
              <a:ext cx="15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77040" y="2828880"/>
              <a:ext cx="116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848560" y="2828880"/>
              <a:ext cx="15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31720" y="2828880"/>
              <a:ext cx="77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806360" y="2828880"/>
              <a:ext cx="116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61320" y="2828880"/>
              <a:ext cx="333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00280" y="2828880"/>
              <a:ext cx="331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F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62560" y="2828880"/>
              <a:ext cx="185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034360" y="2828880"/>
              <a:ext cx="116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498680" y="2828880"/>
              <a:ext cx="15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82240" y="2389320"/>
              <a:ext cx="116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04960" y="2389320"/>
              <a:ext cx="258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970720" y="2389320"/>
              <a:ext cx="116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91640" y="2389320"/>
              <a:ext cx="258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52120" y="2332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34360" y="2389320"/>
              <a:ext cx="116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98680" y="2389320"/>
              <a:ext cx="15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82800" y="1927080"/>
              <a:ext cx="116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30280" y="1927080"/>
              <a:ext cx="31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F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04680" y="1927080"/>
              <a:ext cx="116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41520" y="1927080"/>
              <a:ext cx="154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93240" y="1927080"/>
              <a:ext cx="116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515600" y="1927080"/>
              <a:ext cx="258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575360" y="18702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812640" y="282888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95080" y="28288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98240" y="282888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285360" y="238932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98240" y="238932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984400" y="192708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58560" y="192708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535760" y="2792520"/>
              <a:ext cx="14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476360" y="234792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0"/>
            <a:ext cx="84805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eoría de Observ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700280"/>
            <a:ext cx="87138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imar el estado de un sistema a partir del conocimiento de la entrada u(t), salida y(t) y parámetros A, B, C y D de la planta con t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[t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38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oria de fines de los 50’s. Primeros resultados se obtienes a pricipios de los 60’s (D.Luenber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324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79280" y="0"/>
            <a:ext cx="84805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servadores de orden Reduc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826920" y="1773360"/>
            <a:ext cx="6496200" cy="4495680"/>
            <a:chOff x="826920" y="1773360"/>
            <a:chExt cx="6496200" cy="4495680"/>
          </a:xfrm>
        </p:grpSpPr>
        <p:sp>
          <p:nvSpPr>
            <p:cNvPr id="686" name=""/>
            <p:cNvSpPr/>
            <p:nvPr/>
          </p:nvSpPr>
          <p:spPr>
            <a:xfrm>
              <a:off x="3276720" y="378936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03240" y="2154240"/>
              <a:ext cx="6248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189240" y="215424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13120" y="215424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618240" y="215424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2427120" y="3068640"/>
              <a:ext cx="1523880" cy="609480"/>
              <a:chOff x="2427120" y="3068640"/>
              <a:chExt cx="1523880" cy="609480"/>
            </a:xfrm>
          </p:grpSpPr>
          <mc:AlternateContent>
            <mc:Choice xmlns:a14="http://schemas.microsoft.com/office/drawing/2010/main" Requires="a14">
              <p:sp>
                <p:nvSpPr>
                  <p:cNvPr id="692" name=""/>
                  <p:cNvSpPr txBox="1"/>
                  <p:nvPr/>
                </p:nvSpPr>
                <p:spPr>
                  <a:xfrm>
                    <a:off x="2427120" y="3201840"/>
                    <a:ext cx="1498680" cy="36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93" name=""/>
              <p:cNvSpPr/>
              <p:nvPr/>
            </p:nvSpPr>
            <p:spPr>
              <a:xfrm>
                <a:off x="2427120" y="3068640"/>
                <a:ext cx="15238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4255920" y="3068640"/>
              <a:ext cx="838080" cy="533520"/>
              <a:chOff x="4255920" y="3068640"/>
              <a:chExt cx="838080" cy="533520"/>
            </a:xfrm>
          </p:grpSpPr>
          <mc:AlternateContent>
            <mc:Choice xmlns:a14="http://schemas.microsoft.com/office/drawing/2010/main" Requires="a14">
              <p:sp>
                <p:nvSpPr>
                  <p:cNvPr id="695" name=""/>
                  <p:cNvSpPr txBox="1"/>
                  <p:nvPr/>
                </p:nvSpPr>
                <p:spPr>
                  <a:xfrm>
                    <a:off x="4630680" y="3214800"/>
                    <a:ext cx="203040" cy="254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96" name=""/>
              <p:cNvSpPr/>
              <p:nvPr/>
            </p:nvSpPr>
            <p:spPr>
              <a:xfrm>
                <a:off x="4255920" y="3068640"/>
                <a:ext cx="838080" cy="533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6161040" y="3068640"/>
              <a:ext cx="914400" cy="533520"/>
              <a:chOff x="6161040" y="3068640"/>
              <a:chExt cx="914400" cy="533520"/>
            </a:xfrm>
          </p:grpSpPr>
          <mc:AlternateContent>
            <mc:Choice xmlns:a14="http://schemas.microsoft.com/office/drawing/2010/main" Requires="a14">
              <p:sp>
                <p:nvSpPr>
                  <p:cNvPr id="698" name=""/>
                  <p:cNvSpPr txBox="1"/>
                  <p:nvPr/>
                </p:nvSpPr>
                <p:spPr>
                  <a:xfrm>
                    <a:off x="6459480" y="3202200"/>
                    <a:ext cx="380880" cy="36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99" name=""/>
              <p:cNvSpPr/>
              <p:nvPr/>
            </p:nvSpPr>
            <p:spPr>
              <a:xfrm>
                <a:off x="6161040" y="3068640"/>
                <a:ext cx="914400" cy="533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>
              <a:off x="3189240" y="36781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036960" y="4592520"/>
              <a:ext cx="304560" cy="30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341520" y="47451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3" name=""/>
                <p:cNvSpPr txBox="1"/>
                <p:nvPr/>
              </p:nvSpPr>
              <p:spPr>
                <a:xfrm>
                  <a:off x="3817800" y="4497480"/>
                  <a:ext cx="36828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704" name=""/>
            <p:cNvSpPr/>
            <p:nvPr/>
          </p:nvSpPr>
          <p:spPr>
            <a:xfrm>
              <a:off x="3722760" y="4440240"/>
              <a:ext cx="457200" cy="685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60840" y="4592520"/>
              <a:ext cx="304920" cy="30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79960" y="47451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713120" y="360216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865760" y="47451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5475240" y="4516560"/>
              <a:ext cx="609480" cy="533160"/>
              <a:chOff x="5475240" y="4516560"/>
              <a:chExt cx="609480" cy="533160"/>
            </a:xfrm>
          </p:grpSpPr>
          <mc:AlternateContent>
            <mc:Choice xmlns:a14="http://schemas.microsoft.com/office/drawing/2010/main" Requires="a14">
              <p:sp>
                <p:nvSpPr>
                  <p:cNvPr id="710" name=""/>
                  <p:cNvSpPr txBox="1"/>
                  <p:nvPr/>
                </p:nvSpPr>
                <p:spPr>
                  <a:xfrm>
                    <a:off x="5621040" y="4573440"/>
                    <a:ext cx="393840" cy="36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11" name=""/>
              <p:cNvSpPr/>
              <p:nvPr/>
            </p:nvSpPr>
            <p:spPr>
              <a:xfrm>
                <a:off x="5475240" y="4516560"/>
                <a:ext cx="609480" cy="533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>
              <a:off x="6465960" y="4592520"/>
              <a:ext cx="304560" cy="30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84720" y="47451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618240" y="360216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70520" y="4745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1284120" y="4440240"/>
              <a:ext cx="1295280" cy="609480"/>
              <a:chOff x="1284120" y="4440240"/>
              <a:chExt cx="1295280" cy="609480"/>
            </a:xfrm>
          </p:grpSpPr>
          <mc:AlternateContent>
            <mc:Choice xmlns:a14="http://schemas.microsoft.com/office/drawing/2010/main" Requires="a14">
              <p:sp>
                <p:nvSpPr>
                  <p:cNvPr id="717" name=""/>
                  <p:cNvSpPr txBox="1"/>
                  <p:nvPr/>
                </p:nvSpPr>
                <p:spPr>
                  <a:xfrm>
                    <a:off x="1334880" y="4573440"/>
                    <a:ext cx="1181160" cy="36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18" name=""/>
              <p:cNvSpPr/>
              <p:nvPr/>
            </p:nvSpPr>
            <p:spPr>
              <a:xfrm>
                <a:off x="1284120" y="4440240"/>
                <a:ext cx="12952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2579760" y="4745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26920" y="4745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3417840" y="5659560"/>
              <a:ext cx="1600200" cy="609480"/>
              <a:chOff x="3417840" y="5659560"/>
              <a:chExt cx="1600200" cy="609480"/>
            </a:xfrm>
          </p:grpSpPr>
          <mc:AlternateContent>
            <mc:Choice xmlns:a14="http://schemas.microsoft.com/office/drawing/2010/main" Requires="a14">
              <p:sp>
                <p:nvSpPr>
                  <p:cNvPr id="722" name=""/>
                  <p:cNvSpPr txBox="1"/>
                  <p:nvPr/>
                </p:nvSpPr>
                <p:spPr>
                  <a:xfrm>
                    <a:off x="3462120" y="5792760"/>
                    <a:ext cx="1523880" cy="36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23" name=""/>
              <p:cNvSpPr/>
              <p:nvPr/>
            </p:nvSpPr>
            <p:spPr>
              <a:xfrm>
                <a:off x="3417840" y="5659560"/>
                <a:ext cx="160020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"/>
            <p:cNvSpPr/>
            <p:nvPr/>
          </p:nvSpPr>
          <p:spPr>
            <a:xfrm flipV="1">
              <a:off x="3189240" y="48970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189240" y="60404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246640" y="474516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5017680" y="60404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8" name=""/>
                <p:cNvSpPr txBox="1"/>
                <p:nvPr/>
              </p:nvSpPr>
              <p:spPr>
                <a:xfrm>
                  <a:off x="979560" y="1773360"/>
                  <a:ext cx="24120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9" name=""/>
                <p:cNvSpPr txBox="1"/>
                <p:nvPr/>
              </p:nvSpPr>
              <p:spPr>
                <a:xfrm>
                  <a:off x="826920" y="4363920"/>
                  <a:ext cx="22860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0" name=""/>
                <p:cNvSpPr txBox="1"/>
                <p:nvPr/>
              </p:nvSpPr>
              <p:spPr>
                <a:xfrm>
                  <a:off x="2808360" y="4440240"/>
                  <a:ext cx="19044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1" name=""/>
                <p:cNvSpPr txBox="1"/>
                <p:nvPr/>
              </p:nvSpPr>
              <p:spPr>
                <a:xfrm>
                  <a:off x="2808360" y="4897440"/>
                  <a:ext cx="19044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2" name=""/>
                <p:cNvSpPr txBox="1"/>
                <p:nvPr/>
              </p:nvSpPr>
              <p:spPr>
                <a:xfrm>
                  <a:off x="3341520" y="4973760"/>
                  <a:ext cx="19080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3" name=""/>
                <p:cNvSpPr txBox="1"/>
                <p:nvPr/>
              </p:nvSpPr>
              <p:spPr>
                <a:xfrm>
                  <a:off x="4319640" y="4351320"/>
                  <a:ext cx="20304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4" name=""/>
                <p:cNvSpPr txBox="1"/>
                <p:nvPr/>
              </p:nvSpPr>
              <p:spPr>
                <a:xfrm>
                  <a:off x="6770520" y="4440240"/>
                  <a:ext cx="19080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5" name=""/>
                <p:cNvSpPr txBox="1"/>
                <p:nvPr/>
              </p:nvSpPr>
              <p:spPr>
                <a:xfrm>
                  <a:off x="6237360" y="4973760"/>
                  <a:ext cx="19044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6" name=""/>
                <p:cNvSpPr txBox="1"/>
                <p:nvPr/>
              </p:nvSpPr>
              <p:spPr>
                <a:xfrm>
                  <a:off x="4827600" y="4440240"/>
                  <a:ext cx="19044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7" name=""/>
                <p:cNvSpPr txBox="1"/>
                <p:nvPr/>
              </p:nvSpPr>
              <p:spPr>
                <a:xfrm>
                  <a:off x="4332240" y="4897440"/>
                  <a:ext cx="19044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8" name=""/>
                <p:cNvSpPr txBox="1"/>
                <p:nvPr/>
              </p:nvSpPr>
              <p:spPr>
                <a:xfrm>
                  <a:off x="5087880" y="4218120"/>
                  <a:ext cx="2667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9" name=""/>
                <p:cNvSpPr txBox="1"/>
                <p:nvPr/>
              </p:nvSpPr>
              <p:spPr>
                <a:xfrm>
                  <a:off x="7068960" y="4821120"/>
                  <a:ext cx="2541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740" name=""/>
            <p:cNvGrpSpPr/>
            <p:nvPr/>
          </p:nvGrpSpPr>
          <p:grpSpPr>
            <a:xfrm>
              <a:off x="3471840" y="4216320"/>
              <a:ext cx="198000" cy="549360"/>
              <a:chOff x="3471840" y="4216320"/>
              <a:chExt cx="198000" cy="549360"/>
            </a:xfrm>
          </p:grpSpPr>
          <p:sp>
            <p:nvSpPr>
              <p:cNvPr id="741" name=""/>
              <p:cNvSpPr/>
              <p:nvPr/>
            </p:nvSpPr>
            <p:spPr>
              <a:xfrm>
                <a:off x="3515040" y="4299120"/>
                <a:ext cx="1548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Verdana"/>
                  </a:rPr>
                  <a:t>Z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471840" y="4216320"/>
                <a:ext cx="144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0"/>
            <a:ext cx="84805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eoría de Observ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4149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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800" spc="-1" strike="noStrike" baseline="30000">
                <a:solidFill>
                  <a:srgbClr val="000000"/>
                </a:solidFill>
                <a:latin typeface="Times New Roman"/>
              </a:rPr>
              <a:t>nx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4149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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800" spc="-1" strike="noStrike" baseline="30000">
                <a:solidFill>
                  <a:srgbClr val="000000"/>
                </a:solidFill>
                <a:latin typeface="Times New Roman"/>
              </a:rPr>
              <a:t>nx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41497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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800" spc="-1" strike="noStrike" baseline="30000">
                <a:solidFill>
                  <a:srgbClr val="000000"/>
                </a:solidFill>
                <a:latin typeface="Times New Roman"/>
              </a:rPr>
              <a:t>rx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24000" y="1484280"/>
            <a:ext cx="3527640" cy="2095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335640" y="4149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</a:t>
            </a:r>
            <a:r>
              <a:rPr b="1" i="1" lang="es-ES_tradnl" sz="2800" spc="-1" strike="noStrike" baseline="30000">
                <a:solidFill>
                  <a:srgbClr val="000000"/>
                </a:solidFill>
                <a:latin typeface="Times New Roman"/>
              </a:rPr>
              <a:t>rx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458136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stantes conoc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5229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y(t), u(t)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onocida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5805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x(t)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sconocida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55736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0"/>
            <a:ext cx="84805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eoría de Observ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55736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2852640"/>
            <a:ext cx="16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x(t</a:t>
            </a:r>
            <a:r>
              <a:rPr b="0" i="1" lang="es-E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)= x</a:t>
            </a:r>
            <a:r>
              <a:rPr b="0" i="1" lang="es-E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908000" y="1484280"/>
            <a:ext cx="3529080" cy="2055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12000" y="27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48360" y="27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357336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lculando el error en la estimación de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492360" y="4149720"/>
            <a:ext cx="2881440" cy="591840"/>
            <a:chOff x="3492360" y="4149720"/>
            <a:chExt cx="2881440" cy="591840"/>
          </a:xfrm>
        </p:grpSpPr>
        <p:sp>
          <p:nvSpPr>
            <p:cNvPr id="73" name=""/>
            <p:cNvSpPr/>
            <p:nvPr/>
          </p:nvSpPr>
          <p:spPr>
            <a:xfrm>
              <a:off x="3492360" y="4221000"/>
              <a:ext cx="28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</a:rPr>
                <a:t>e(t)=x(t)- x(t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13080" y="414972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796000" y="5589720"/>
            <a:ext cx="28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=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-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04000" y="55180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4941720"/>
            <a:ext cx="76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riv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419640" y="5300640"/>
            <a:ext cx="2881080" cy="807840"/>
            <a:chOff x="3419640" y="5300640"/>
            <a:chExt cx="2881080" cy="807840"/>
          </a:xfrm>
        </p:grpSpPr>
        <p:grpSp>
          <p:nvGrpSpPr>
            <p:cNvPr id="79" name=""/>
            <p:cNvGrpSpPr/>
            <p:nvPr/>
          </p:nvGrpSpPr>
          <p:grpSpPr>
            <a:xfrm>
              <a:off x="3419640" y="5516640"/>
              <a:ext cx="2881080" cy="591840"/>
              <a:chOff x="3419640" y="5516640"/>
              <a:chExt cx="2881080" cy="591840"/>
            </a:xfrm>
          </p:grpSpPr>
          <p:sp>
            <p:nvSpPr>
              <p:cNvPr id="80" name=""/>
              <p:cNvSpPr/>
              <p:nvPr/>
            </p:nvSpPr>
            <p:spPr>
              <a:xfrm>
                <a:off x="3419640" y="5587920"/>
                <a:ext cx="28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2800" spc="-1" strike="noStrike">
                    <a:solidFill>
                      <a:srgbClr val="000000"/>
                    </a:solidFill>
                    <a:latin typeface="Times New Roman"/>
                  </a:rPr>
                  <a:t>e(t)=x(t)- x(t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140000" y="5516640"/>
                <a:ext cx="36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^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490920" y="54291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40360" y="530064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59280" y="54291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4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0"/>
            <a:ext cx="84805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eoría de Observ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07664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convergencia es limita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19280" y="1643040"/>
            <a:ext cx="5564160" cy="550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>
            <a:off x="3708360" y="1412640"/>
            <a:ext cx="792360" cy="93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084720" y="1412640"/>
            <a:ext cx="792360" cy="93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685880" y="2421000"/>
            <a:ext cx="3102120" cy="568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619280" y="3213000"/>
            <a:ext cx="2019240" cy="60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539640" y="4869000"/>
            <a:ext cx="3567240" cy="784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788000" y="4797360"/>
            <a:ext cx="43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demás la velocidad de convergencia está definida por  los valores propio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4643280" y="3068640"/>
            <a:ext cx="15670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4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0"/>
            <a:ext cx="84805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servador (de estado completo) de Luenber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3500280"/>
            <a:ext cx="76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lculando el error en la estimación de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203640" y="4149720"/>
            <a:ext cx="2881080" cy="591840"/>
            <a:chOff x="3203640" y="4149720"/>
            <a:chExt cx="2881080" cy="591840"/>
          </a:xfrm>
        </p:grpSpPr>
        <p:sp>
          <p:nvSpPr>
            <p:cNvPr id="102" name=""/>
            <p:cNvSpPr/>
            <p:nvPr/>
          </p:nvSpPr>
          <p:spPr>
            <a:xfrm>
              <a:off x="3203640" y="4221000"/>
              <a:ext cx="28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</a:rPr>
                <a:t>e(t)=x(t)- x(t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24000" y="4149720"/>
              <a:ext cx="36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506920" y="5589720"/>
            <a:ext cx="28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=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-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5180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494172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riv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130560" y="5300640"/>
            <a:ext cx="2881080" cy="807840"/>
            <a:chOff x="3130560" y="5300640"/>
            <a:chExt cx="2881080" cy="807840"/>
          </a:xfrm>
        </p:grpSpPr>
        <p:grpSp>
          <p:nvGrpSpPr>
            <p:cNvPr id="108" name=""/>
            <p:cNvGrpSpPr/>
            <p:nvPr/>
          </p:nvGrpSpPr>
          <p:grpSpPr>
            <a:xfrm>
              <a:off x="3130560" y="5516640"/>
              <a:ext cx="2881080" cy="591840"/>
              <a:chOff x="3130560" y="5516640"/>
              <a:chExt cx="2881080" cy="591840"/>
            </a:xfrm>
          </p:grpSpPr>
          <p:sp>
            <p:nvSpPr>
              <p:cNvPr id="109" name=""/>
              <p:cNvSpPr/>
              <p:nvPr/>
            </p:nvSpPr>
            <p:spPr>
              <a:xfrm>
                <a:off x="3130560" y="5587920"/>
                <a:ext cx="28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2800" spc="-1" strike="noStrike">
                    <a:solidFill>
                      <a:srgbClr val="000000"/>
                    </a:solidFill>
                    <a:latin typeface="Times New Roman"/>
                  </a:rPr>
                  <a:t>e(t)=x(t)- x(t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850920" y="5516640"/>
                <a:ext cx="36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^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3201840" y="54291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51280" y="530064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0200" y="54291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68360" y="1749600"/>
            <a:ext cx="424836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6238800" cy="542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4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58136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emplaz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482920" y="1773000"/>
            <a:ext cx="647640" cy="4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867280" y="1773000"/>
            <a:ext cx="648000" cy="4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148360" y="2349360"/>
            <a:ext cx="3362400" cy="5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39640" y="3213000"/>
            <a:ext cx="5505480" cy="457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3276720" y="3211200"/>
            <a:ext cx="647640" cy="4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219640" y="3212640"/>
            <a:ext cx="647640" cy="4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5364000" y="3860640"/>
            <a:ext cx="2390760" cy="5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126" name=""/>
          <p:cNvCxnSpPr>
            <a:stCxn id="125" idx="3"/>
          </p:cNvCxnSpPr>
          <p:nvPr/>
        </p:nvCxnSpPr>
        <p:spPr>
          <a:xfrm flipH="1" flipV="1">
            <a:off x="7596000" y="2924280"/>
            <a:ext cx="159120" cy="1232280"/>
          </a:xfrm>
          <a:prstGeom prst="curvedConnector5">
            <a:avLst>
              <a:gd name="adj1" fmla="val -383900"/>
              <a:gd name="adj2" fmla="val 30011"/>
              <a:gd name="adj3" fmla="val -3839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268360" y="5229360"/>
            <a:ext cx="2562480" cy="52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179280" y="0"/>
            <a:ext cx="84805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servador (de estado completo) de Luenber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5724360" y="5229360"/>
            <a:ext cx="156708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4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0"/>
            <a:ext cx="84805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servador (de estado completo) de Luenber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403280" y="1700280"/>
            <a:ext cx="6264360" cy="4263840"/>
            <a:chOff x="1403280" y="1700280"/>
            <a:chExt cx="6264360" cy="4263840"/>
          </a:xfrm>
        </p:grpSpPr>
        <p:sp>
          <p:nvSpPr>
            <p:cNvPr id="134" name=""/>
            <p:cNvSpPr/>
            <p:nvPr/>
          </p:nvSpPr>
          <p:spPr>
            <a:xfrm>
              <a:off x="1403280" y="2492280"/>
              <a:ext cx="151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16360" y="1844640"/>
              <a:ext cx="2952720" cy="122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Verdana"/>
                </a:rPr>
                <a:t>x = A·x+B·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Verdana"/>
                </a:rPr>
                <a:t>Y = C·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7280" y="2492280"/>
              <a:ext cx="180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6443640" y="2133720"/>
                  <a:ext cx="24120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38" name=""/>
            <p:cNvGrpSpPr/>
            <p:nvPr/>
          </p:nvGrpSpPr>
          <p:grpSpPr>
            <a:xfrm>
              <a:off x="2336760" y="4440240"/>
              <a:ext cx="608040" cy="533520"/>
              <a:chOff x="2336760" y="4440240"/>
              <a:chExt cx="608040" cy="533520"/>
            </a:xfrm>
          </p:grpSpPr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2535120" y="4594320"/>
                    <a:ext cx="216000" cy="241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0" name=""/>
              <p:cNvSpPr/>
              <p:nvPr/>
            </p:nvSpPr>
            <p:spPr>
              <a:xfrm>
                <a:off x="2336760" y="4440240"/>
                <a:ext cx="608040" cy="533520"/>
              </a:xfrm>
              <a:prstGeom prst="rect">
                <a:avLst/>
              </a:prstGeom>
              <a:noFill/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471920" y="5506920"/>
              <a:ext cx="609840" cy="457200"/>
              <a:chOff x="4471920" y="5506920"/>
              <a:chExt cx="609840" cy="457200"/>
            </a:xfrm>
          </p:grpSpPr>
          <mc:AlternateContent>
            <mc:Choice xmlns:a14="http://schemas.microsoft.com/office/drawing/2010/main" Requires="a14">
              <p:sp>
                <p:nvSpPr>
                  <p:cNvPr id="142" name=""/>
                  <p:cNvSpPr txBox="1"/>
                  <p:nvPr/>
                </p:nvSpPr>
                <p:spPr>
                  <a:xfrm>
                    <a:off x="4656240" y="5614920"/>
                    <a:ext cx="241200" cy="241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3" name=""/>
              <p:cNvSpPr/>
              <p:nvPr/>
            </p:nvSpPr>
            <p:spPr>
              <a:xfrm>
                <a:off x="4471920" y="5506920"/>
                <a:ext cx="609840" cy="457200"/>
              </a:xfrm>
              <a:prstGeom prst="rect">
                <a:avLst/>
              </a:prstGeom>
              <a:noFill/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919840" y="4440240"/>
              <a:ext cx="609480" cy="457200"/>
              <a:chOff x="5919840" y="4440240"/>
              <a:chExt cx="609480" cy="457200"/>
            </a:xfrm>
          </p:grpSpPr>
          <mc:AlternateContent>
            <mc:Choice xmlns:a14="http://schemas.microsoft.com/office/drawing/2010/main" Requires="a14">
              <p:sp>
                <p:nvSpPr>
                  <p:cNvPr id="145" name=""/>
                  <p:cNvSpPr txBox="1"/>
                  <p:nvPr/>
                </p:nvSpPr>
                <p:spPr>
                  <a:xfrm>
                    <a:off x="6084720" y="4567320"/>
                    <a:ext cx="216000" cy="253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6" name=""/>
              <p:cNvSpPr/>
              <p:nvPr/>
            </p:nvSpPr>
            <p:spPr>
              <a:xfrm>
                <a:off x="5919840" y="4440240"/>
                <a:ext cx="609480" cy="457200"/>
              </a:xfrm>
              <a:prstGeom prst="rect">
                <a:avLst/>
              </a:prstGeom>
              <a:noFill/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471920" y="3602160"/>
              <a:ext cx="609480" cy="457200"/>
              <a:chOff x="4471920" y="3602160"/>
              <a:chExt cx="609480" cy="457200"/>
            </a:xfrm>
          </p:grpSpPr>
          <mc:AlternateContent>
            <mc:Choice xmlns:a14="http://schemas.microsoft.com/office/drawing/2010/main" Requires="a14">
              <p:sp>
                <p:nvSpPr>
                  <p:cNvPr id="148" name=""/>
                  <p:cNvSpPr txBox="1"/>
                  <p:nvPr/>
                </p:nvSpPr>
                <p:spPr>
                  <a:xfrm>
                    <a:off x="4668840" y="3704040"/>
                    <a:ext cx="190440" cy="241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9" name=""/>
              <p:cNvSpPr/>
              <p:nvPr/>
            </p:nvSpPr>
            <p:spPr>
              <a:xfrm>
                <a:off x="4471920" y="3602160"/>
                <a:ext cx="609480" cy="457200"/>
              </a:xfrm>
              <a:prstGeom prst="rect">
                <a:avLst/>
              </a:prstGeom>
              <a:noFill/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395960" y="4363920"/>
              <a:ext cx="761760" cy="609480"/>
              <a:chOff x="4395960" y="4363920"/>
              <a:chExt cx="761760" cy="609480"/>
            </a:xfrm>
          </p:grpSpPr>
          <mc:AlternateContent>
            <mc:Choice xmlns:a14="http://schemas.microsoft.com/office/drawing/2010/main" Requires="a14">
              <p:sp>
                <p:nvSpPr>
                  <p:cNvPr id="151" name=""/>
                  <p:cNvSpPr txBox="1"/>
                  <p:nvPr/>
                </p:nvSpPr>
                <p:spPr>
                  <a:xfrm>
                    <a:off x="4674960" y="4414680"/>
                    <a:ext cx="355320" cy="507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2" name=""/>
              <p:cNvSpPr/>
              <p:nvPr/>
            </p:nvSpPr>
            <p:spPr>
              <a:xfrm>
                <a:off x="4395960" y="4363920"/>
                <a:ext cx="761760" cy="609480"/>
              </a:xfrm>
              <a:prstGeom prst="rect">
                <a:avLst/>
              </a:prstGeom>
              <a:noFill/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6910560" y="3678120"/>
              <a:ext cx="228600" cy="22860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20000" y="2492280"/>
              <a:ext cx="0" cy="11527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081760" y="3830760"/>
              <a:ext cx="18288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81560" y="4594320"/>
              <a:ext cx="228600" cy="22860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557520" y="3830760"/>
              <a:ext cx="9144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57520" y="3830760"/>
              <a:ext cx="0" cy="7617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48040" y="4670280"/>
              <a:ext cx="5335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63640" y="2492280"/>
              <a:ext cx="0" cy="22320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63640" y="4724280"/>
              <a:ext cx="576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10160" y="4668840"/>
              <a:ext cx="6858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57720" y="4668840"/>
              <a:ext cx="7621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38960" y="4668840"/>
              <a:ext cx="0" cy="10666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081760" y="5735520"/>
              <a:ext cx="4572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557520" y="5735520"/>
              <a:ext cx="9144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57520" y="4807080"/>
              <a:ext cx="1800" cy="928440"/>
            </a:xfrm>
            <a:custGeom>
              <a:avLst/>
              <a:gdLst/>
              <a:ahLst/>
              <a:rect l="l" t="t" r="r" b="b"/>
              <a:pathLst>
                <a:path w="1" h="585">
                  <a:moveTo>
                    <a:pt x="0" y="585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29320" y="4668840"/>
              <a:ext cx="10670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062840" y="3906360"/>
              <a:ext cx="0" cy="7621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3252960" y="4897440"/>
                  <a:ext cx="19044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3176640" y="4363920"/>
                  <a:ext cx="19044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3633840" y="4268880"/>
                  <a:ext cx="190440" cy="7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7215120" y="3983040"/>
                  <a:ext cx="190440" cy="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7215120" y="3297240"/>
                  <a:ext cx="19044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5386320" y="4287960"/>
                  <a:ext cx="2412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6681960" y="4287960"/>
                  <a:ext cx="2412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Y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77" name=""/>
            <p:cNvGrpSpPr/>
            <p:nvPr/>
          </p:nvGrpSpPr>
          <p:grpSpPr>
            <a:xfrm>
              <a:off x="1705680" y="2133720"/>
              <a:ext cx="192600" cy="305280"/>
              <a:chOff x="1705680" y="2133720"/>
              <a:chExt cx="192600" cy="305280"/>
            </a:xfrm>
          </p:grpSpPr>
          <p:sp>
            <p:nvSpPr>
              <p:cNvPr id="178" name=""/>
              <p:cNvSpPr/>
              <p:nvPr/>
            </p:nvSpPr>
            <p:spPr>
              <a:xfrm>
                <a:off x="1705680" y="2133720"/>
                <a:ext cx="192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3132000" y="1700280"/>
              <a:ext cx="35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3972600" y="4143240"/>
              <a:ext cx="169920" cy="549360"/>
              <a:chOff x="3972600" y="4143240"/>
              <a:chExt cx="169920" cy="549360"/>
            </a:xfrm>
          </p:grpSpPr>
          <p:sp>
            <p:nvSpPr>
              <p:cNvPr id="181" name=""/>
              <p:cNvSpPr/>
              <p:nvPr/>
            </p:nvSpPr>
            <p:spPr>
              <a:xfrm>
                <a:off x="3972600" y="43117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Verdana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991320" y="424980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Verdana"/>
                  </a:rPr>
                  <a:t>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16520" y="4143240"/>
                <a:ext cx="144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925800" y="3867120"/>
              <a:ext cx="35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Times New Roman"/>
                </a:rPr>
                <a:t>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284720" y="3500280"/>
            <a:ext cx="934920" cy="649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698920" y="2173320"/>
            <a:ext cx="3240000" cy="662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179280" y="0"/>
            <a:ext cx="84805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servador (de estado completo) de Luenber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95640" y="1814400"/>
            <a:ext cx="0" cy="3589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59280" y="1814400"/>
            <a:ext cx="0" cy="3589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95640" y="1814400"/>
            <a:ext cx="13683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66520" y="157320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arámetros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356000" y="2822040"/>
            <a:ext cx="0" cy="358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0920" y="3181320"/>
            <a:ext cx="86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73440" y="2894040"/>
            <a:ext cx="24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arámetros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bserv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00000" y="41832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¿De qué depende que podamos 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señar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” un 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uen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” observad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5661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De su </a:t>
            </a:r>
            <a:r>
              <a:rPr b="1" i="1" lang="es-ES" sz="3600" spc="-1" strike="noStrike">
                <a:solidFill>
                  <a:srgbClr val="000000"/>
                </a:solidFill>
                <a:latin typeface="Arial"/>
              </a:rPr>
              <a:t>Observa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9-25T11:21:19Z</dcterms:modified>
  <cp:revision>55</cp:revision>
  <dc:subject/>
  <dc:title>EL32D</dc:title>
</cp:coreProperties>
</file>