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543-A33A-40BB-896E-BF5B7A0D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F75-2843-4274-A1CC-83E6C7E6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2C6-3F0F-4F87-A494-E87B62DA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FDE-E189-4D39-B6ED-72CBE7AA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1E8-4564-4651-B65D-A45DE655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AD5-1A74-4A18-9B49-7E90512B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2AA-63B6-4A5D-82D5-DC4C9D9F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90A-1DE2-409D-80E4-FDBA3A99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A98-D558-44D5-98D9-003ABFED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6EE-C50F-47CF-88FF-A8A45AA8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722-2ED2-486F-B7E1-523EAC0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0B6-AA56-4F98-924F-1E1EC67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BB64-9DFD-4A6B-BA89-95DFD67012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581280" cy="20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bajo en Cl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50864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1156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1280" y="587700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601992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44640"/>
            <a:ext cx="7848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btener el modelo fenomenológico del siguiente sistema en tiempo disc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4003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9800" y="5516640"/>
            <a:ext cx="17272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3280" y="32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= 0, T, 2T, …nT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060640"/>
            <a:ext cx="74167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iendo los mismos supuestos que en el caso de tiemp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: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9178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:    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ida:   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n)=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06064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es de Conservación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-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(n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37162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ordenando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= h(n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-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)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44500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en hoja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ación Empír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773360"/>
            <a:ext cx="8569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enomenología desconocidas (Caja Neg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esconocida en parte (modelos gri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no lin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plificar fenóme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268280"/>
            <a:ext cx="856908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paramétricos E/S (entrada/salida) de tiempo discreto Lineales en los 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orma gene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637160"/>
            <a:ext cx="91440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01:31:42Z</dcterms:modified>
  <cp:revision>30</cp:revision>
  <dc:subject/>
  <dc:title>EL63A-Taller de Proyecto en Control II</dc:title>
</cp:coreProperties>
</file>