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media/image1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E0CC5-D918-4754-A281-1524804230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0F905-BF85-43E3-8468-8DFA18456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56E8C-B531-4E4E-9E54-22C500C9E3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BB4AF-AEE2-4233-9F08-E062183450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7C500-44B2-4C61-9000-13C87AA2E3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731-2D18-405C-80F5-66521C435B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36F40-BDBF-4753-A37A-72B594921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FDE0B-E313-4A56-BE35-0320EC0177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FB9C0-5AF6-443A-8551-BD3BDFA8D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23257-DF07-4B25-A48D-B67113D37A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EBDE1-BFE1-4DEB-BB70-865C5E9E3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10978-E887-401F-BDD0-11D1EA5210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C5077-DAFC-4307-85AF-D84560E9C63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388620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s-CL" sz="5400" spc="-1" strike="noStrike">
                <a:solidFill>
                  <a:srgbClr val="000000"/>
                </a:solidFill>
                <a:latin typeface="Times New Roman"/>
              </a:rPr>
              <a:t>EI2A1</a:t>
            </a: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1" lang="es-CL" sz="4000" spc="-1" strike="noStrike">
                <a:solidFill>
                  <a:srgbClr val="000000"/>
                </a:solidFill>
                <a:latin typeface="Times New Roman"/>
              </a:rPr>
              <a:t>Sección 05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ALLER DE PROYECTOS DE INGENIERI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203640" y="2425680"/>
            <a:ext cx="2738520" cy="1946160"/>
            <a:chOff x="3203640" y="2425680"/>
            <a:chExt cx="2738520" cy="1946160"/>
          </a:xfrm>
        </p:grpSpPr>
        <p:sp>
          <p:nvSpPr>
            <p:cNvPr id="44" name=""/>
            <p:cNvSpPr/>
            <p:nvPr/>
          </p:nvSpPr>
          <p:spPr>
            <a:xfrm>
              <a:off x="3203640" y="242568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203640" y="2425680"/>
              <a:ext cx="2738520" cy="194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0" i="1" lang="es-ES" sz="12400" spc="-1" strike="noStrike">
                  <a:solidFill>
                    <a:srgbClr val="000000"/>
                  </a:solidFill>
                  <a:latin typeface="Verdana"/>
                </a:rPr>
                <a:t> </a:t>
              </a:r>
              <a:r>
                <a:rPr b="0" i="1" lang="es-ES" sz="700" spc="-1" strike="noStrike">
                  <a:solidFill>
                    <a:srgbClr val="000000"/>
                  </a:solidFill>
                  <a:latin typeface="Verdana"/>
                </a:rPr>
                <a:t>                                                             </a:t>
              </a:r>
              <a:endParaRPr b="0" lang="en-US" sz="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46" name="image" descr="Escudo de la Universidad"/>
          <p:cNvPicPr/>
          <p:nvPr/>
        </p:nvPicPr>
        <p:blipFill>
          <a:blip r:embed="rId1"/>
          <a:stretch/>
        </p:blipFill>
        <p:spPr>
          <a:xfrm>
            <a:off x="4038480" y="1905120"/>
            <a:ext cx="1978200" cy="1977840"/>
          </a:xfrm>
          <a:prstGeom prst="rect">
            <a:avLst/>
          </a:prstGeom>
          <a:ln w="0">
            <a:noFill/>
          </a:ln>
        </p:spPr>
      </p:pic>
    </p:spTree>
  </p:cSld>
  <p:transition advTm="10000">
    <p:blinds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7960" y="1752120"/>
            <a:ext cx="380988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de Transporte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8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eroportuari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uevo Aeropuerto IX Región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9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Portu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 V Región 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rofundización sitios 2 y 3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uerto de Valparaís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0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Concesiones Viales del MOP .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amino Internacion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ta 60 Ch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( V Región 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Camino Miner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nlace Mina Verdún – Planta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atemu en la V Regió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84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58880" y="903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1839960" y="-165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7" name="Aeropuerto-de-Berlin-Alemania_10472" descr="Aeropuerto de Berlín. Alemania"/>
          <p:cNvPicPr/>
          <p:nvPr/>
        </p:nvPicPr>
        <p:blipFill>
          <a:blip r:embed="rId1"/>
          <a:stretch/>
        </p:blipFill>
        <p:spPr>
          <a:xfrm>
            <a:off x="838080" y="1981080"/>
            <a:ext cx="36576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647960" y="1904760"/>
            <a:ext cx="380988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000000"/>
                </a:solidFill>
                <a:latin typeface="Times New Roman"/>
              </a:rPr>
              <a:t>Proyectos Vario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2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leoductos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Con-Con / Lo Venecia V Reg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3.- 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Gasoductos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Quintero - Quillota V Regió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nergía Eléctric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Sub-Estación de Poder Malloa (VI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15.-</a:t>
            </a:r>
            <a:r>
              <a:rPr b="0" lang="es-CL" sz="2000" spc="-1" strike="noStrike" u="sng">
                <a:solidFill>
                  <a:srgbClr val="000000"/>
                </a:solidFill>
                <a:uFillTx/>
                <a:latin typeface="Times New Roman"/>
              </a:rPr>
              <a:t> OTROS   </a:t>
            </a: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                     Propuestos por el GRUPO y aceptados por los Profesor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3681360" y="26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" descr=""/>
          <p:cNvPicPr/>
          <p:nvPr/>
        </p:nvPicPr>
        <p:blipFill>
          <a:blip r:embed="rId1"/>
          <a:stretch/>
        </p:blipFill>
        <p:spPr>
          <a:xfrm>
            <a:off x="685800" y="1981080"/>
            <a:ext cx="380988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u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648320" y="2057040"/>
            <a:ext cx="3657600" cy="38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      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troducción al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Proyecto de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200" spc="-1" strike="noStrike">
                <a:solidFill>
                  <a:srgbClr val="000000"/>
                </a:solidFill>
                <a:latin typeface="Times New Roman"/>
              </a:rPr>
              <a:t>Ingeniería Civil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PROFESORE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Jaime Téllez Téllez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000" spc="-1" strike="noStrike">
                <a:solidFill>
                  <a:srgbClr val="000000"/>
                </a:solidFill>
                <a:latin typeface="Times New Roman"/>
              </a:rPr>
              <a:t>Maximiliano Correa Hidalg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" descr=""/>
          <p:cNvPicPr/>
          <p:nvPr/>
        </p:nvPicPr>
        <p:blipFill>
          <a:blip r:embed="rId1"/>
          <a:stretch/>
        </p:blipFill>
        <p:spPr>
          <a:xfrm>
            <a:off x="685800" y="2610000"/>
            <a:ext cx="3809880" cy="2857320"/>
          </a:xfrm>
          <a:prstGeom prst="rect">
            <a:avLst/>
          </a:prstGeom>
          <a:ln w="0">
            <a:noFill/>
          </a:ln>
        </p:spPr>
      </p:pic>
    </p:spTree>
  </p:cSld>
  <p:transition advTm="15000">
    <p:blinds dir="ver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24280" y="1828800"/>
            <a:ext cx="4114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OBJETIVO :    </a:t>
            </a:r>
            <a:r>
              <a:rPr b="0" lang="es-CL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eguir el acercamiento de los   alumnos   del   curso   al entendimiento de lo que es un proyecto  de  Ingeniería  Civil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Identificando el  problema, analizando   sus   variables causales, generando ideas para  solucionarlo,estudiando las fases necesarias hasta ponerlo en marcha y planteando un anteproyecto de diseño en alguno de sus compone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8580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685440" y="1981080"/>
            <a:ext cx="3809880" cy="4114800"/>
          </a:xfrm>
          <a:prstGeom prst="rect">
            <a:avLst/>
          </a:prstGeom>
          <a:ln w="0">
            <a:noFill/>
          </a:ln>
        </p:spPr>
      </p:pic>
      <p:pic>
        <p:nvPicPr>
          <p:cNvPr id="54" name="pingui_neras_i_magd" descr="Pingüineras isla MAgdalena"/>
          <p:cNvPicPr/>
          <p:nvPr/>
        </p:nvPicPr>
        <p:blipFill>
          <a:blip r:embed="rId2"/>
          <a:stretch/>
        </p:blipFill>
        <p:spPr>
          <a:xfrm>
            <a:off x="685800" y="1981080"/>
            <a:ext cx="3886200" cy="4114800"/>
          </a:xfrm>
          <a:prstGeom prst="rect">
            <a:avLst/>
          </a:prstGeom>
          <a:ln w="0">
            <a:noFill/>
          </a:ln>
        </p:spPr>
      </p:pic>
    </p:spTree>
  </p:cSld>
  <p:transition advTm="19000"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647960" y="2209680"/>
            <a:ext cx="3809880" cy="381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DESCRIP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l curso se desarrollará en base al trabajo en grupo de los  alumnos  reunidos  en torno  a  problemas  reales distintos,  elegidos  por  los mismos  grupos  dentro  de una amplia gama de temas preestablecidos.   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1400" y="28926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773280" y="1131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I-Regata-Internacional-de-Remo-Ciudad-de-Malaga-Andalucia_6434" descr="I Regata Internacional de Remo Ciudad de Málaga. Andalucía"/>
          <p:cNvPicPr/>
          <p:nvPr/>
        </p:nvPicPr>
        <p:blipFill>
          <a:blip r:embed="rId1"/>
          <a:stretch/>
        </p:blipFill>
        <p:spPr>
          <a:xfrm>
            <a:off x="685800" y="3276720"/>
            <a:ext cx="3809880" cy="2428920"/>
          </a:xfrm>
          <a:prstGeom prst="rect">
            <a:avLst/>
          </a:prstGeom>
          <a:ln w="0">
            <a:noFill/>
          </a:ln>
        </p:spPr>
      </p:pic>
    </p:spTree>
  </p:cSld>
  <p:transition advTm="15000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1640" y="2514600"/>
            <a:ext cx="44197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Se trabajará fundamentalment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en  la  etapa  de  Anteproyecto,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 una visión complementaria hacia las etapas de Estudios Básicos, Proyecto   de   Ingeniería   de Detalle, Evaluación, Licitación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onstrucción, Puesta en Marcha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Operación, Mantenimiento y Evaluación ex/post.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052800" y="2109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768240" y="1006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AVE--Tren-de-alta-velocidad--Estacion-de-Santa-Ana-Antequera--provincia-de-Malaga_9510" descr="AVE (Tren de alta velocidad). Estación de Santa Ana. Antequera, provincia de Málaga"/>
          <p:cNvPicPr/>
          <p:nvPr/>
        </p:nvPicPr>
        <p:blipFill>
          <a:blip r:embed="rId1"/>
          <a:stretch/>
        </p:blipFill>
        <p:spPr>
          <a:xfrm>
            <a:off x="685800" y="2971800"/>
            <a:ext cx="3809880" cy="256212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horz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647960" y="2362320"/>
            <a:ext cx="4267080" cy="3657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eriódicamente habrá exposic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  todos  los  grupos,  acerca  del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desarrollo de sus respectivos temas,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las  que  se  efectuarán  en  sesion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plenarias de participación general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CUPO MAXIMO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24 alumnos  ( 6 a 8 grupos )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HORARIO: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2400" spc="-1" strike="noStrike">
                <a:solidFill>
                  <a:srgbClr val="000000"/>
                </a:solidFill>
                <a:latin typeface="Times New Roman"/>
              </a:rPr>
              <a:t> 2.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6800" y="793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Alhambra-desde-el-Albaicin_15305" descr="Alhambra desde el Albaicín"/>
          <p:cNvPicPr/>
          <p:nvPr/>
        </p:nvPicPr>
        <p:blipFill>
          <a:blip r:embed="rId1"/>
          <a:stretch/>
        </p:blipFill>
        <p:spPr>
          <a:xfrm>
            <a:off x="685800" y="2895480"/>
            <a:ext cx="3809880" cy="2789280"/>
          </a:xfrm>
          <a:prstGeom prst="rect">
            <a:avLst/>
          </a:prstGeom>
          <a:ln w="0">
            <a:noFill/>
          </a:ln>
        </p:spPr>
      </p:pic>
    </p:spTree>
  </p:cSld>
  <p:transition advTm="15000">
    <p:checker dir="ver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5105520" y="2057400"/>
            <a:ext cx="358128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EVALUACIÓ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Cada grupo debe realizar 3 entregas,  las  que  deberán ser presentadas y defendidas oralmente frente  al  curso  por  uno  de sus integrante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90000"/>
              </a:lnSpc>
              <a:spcBef>
                <a:spcPts val="524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100" spc="-1" strike="noStrike">
                <a:solidFill>
                  <a:srgbClr val="000000"/>
                </a:solidFill>
                <a:latin typeface="Times New Roman"/>
              </a:rPr>
              <a:t>Además, se exige un informe  final del Seminario, en formato digital, para poder divulgarlo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3238560" y="2428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758880" y="6112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" name="Coliseo-En-Roma-Italia_8999" descr="Coliseo. En Roma. Italia"/>
          <p:cNvPicPr/>
          <p:nvPr/>
        </p:nvPicPr>
        <p:blipFill>
          <a:blip r:embed="rId1"/>
          <a:stretch/>
        </p:blipFill>
        <p:spPr>
          <a:xfrm>
            <a:off x="685800" y="2548080"/>
            <a:ext cx="4267080" cy="3471840"/>
          </a:xfrm>
          <a:prstGeom prst="rect">
            <a:avLst/>
          </a:prstGeom>
          <a:ln w="0">
            <a:noFill/>
          </a:ln>
        </p:spPr>
      </p:pic>
    </p:spTree>
  </p:cSld>
  <p:transition advTm="15000">
    <p:cover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523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39621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Urban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1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Vialidad Urbana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(SERVI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Habilitación Corredor Vicuñ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ackenna y Concha y Toro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2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Estacionamiento Subterráneo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laza Lo Castillo de Vitacu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3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Ferroviari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Metro Maipú, tramo Quinta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Normal – Nueva Lo Prado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4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odoviario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Intercambio Modal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Quinta Normal (Metropolitano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938240" y="16812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Tunel-de-la-Alcazaba-Malaga_8091" descr="Túnel de la Alcazaba. Málaga"/>
          <p:cNvPicPr/>
          <p:nvPr/>
        </p:nvPicPr>
        <p:blipFill>
          <a:blip r:embed="rId1"/>
          <a:stretch/>
        </p:blipFill>
        <p:spPr>
          <a:xfrm>
            <a:off x="685800" y="2514600"/>
            <a:ext cx="3809880" cy="32004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UNIVERSIDAD DE CHILE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Facultad de Ciencias Físicas y Matemáticas</a:t>
            </a:r>
            <a:br>
              <a:rPr sz="2400"/>
            </a:br>
            <a:r>
              <a:rPr b="1" lang="es-CL" sz="2400" spc="-1" strike="noStrike">
                <a:solidFill>
                  <a:srgbClr val="000000"/>
                </a:solidFill>
                <a:latin typeface="Times New Roman"/>
              </a:rPr>
              <a:t>Departamento de Ingeniería Civil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800" spc="-1" strike="noStrike">
                <a:solidFill>
                  <a:srgbClr val="000000"/>
                </a:solidFill>
                <a:latin typeface="Times New Roman"/>
              </a:rPr>
              <a:t>Temas Sanitarios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5.-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 Aguas Servid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Parque Industrial San Antonio ( V )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6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Aguas Lluvias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rbanización Parque Tecnológico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U de Chile - Valle Lo Aguirre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7.- </a:t>
            </a:r>
            <a:r>
              <a:rPr b="0" lang="es-CL" sz="1800" spc="-1" strike="noStrike" u="sng">
                <a:solidFill>
                  <a:srgbClr val="000000"/>
                </a:solidFill>
                <a:uFillTx/>
                <a:latin typeface="Times New Roman"/>
              </a:rPr>
              <a:t>Residuos Sólido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Estación de Transferencia de R.S.    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Cerro Los Cóndores ( R.M.).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73280" y="9144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Desalobradora-de-El-Atabal-Malaga-Andalucia-Espana_5850" descr="Desalobradora de El Atabal. Málaga. Andalucía. España"/>
          <p:cNvPicPr/>
          <p:nvPr/>
        </p:nvPicPr>
        <p:blipFill>
          <a:blip r:embed="rId1"/>
          <a:stretch/>
        </p:blipFill>
        <p:spPr>
          <a:xfrm>
            <a:off x="685800" y="2708280"/>
            <a:ext cx="3809880" cy="3159000"/>
          </a:xfrm>
          <a:prstGeom prst="rect">
            <a:avLst/>
          </a:prstGeom>
          <a:ln w="0">
            <a:noFill/>
          </a:ln>
        </p:spPr>
      </p:pic>
    </p:spTree>
  </p:cSld>
  <p:transition advTm="19000">
    <p:cover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08T20:07:53Z</dcterms:created>
  <dc:creator>jgtellez</dc:creator>
  <dc:description/>
  <dc:language>en-US</dc:language>
  <cp:lastModifiedBy>jgtellez</cp:lastModifiedBy>
  <dcterms:modified xsi:type="dcterms:W3CDTF">2007-12-19T17:48:53Z</dcterms:modified>
  <cp:revision>227</cp:revision>
  <dc:subject/>
  <dc:title>Presentación de PowerPoint</dc:title>
</cp:coreProperties>
</file>