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9D02-AC99-44D7-9BFE-CE118598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27F7-48A8-4CBC-AF3E-22BDC57D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B4A9-BF3E-4CC0-B4D5-169D8AF7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A82C-BE9A-41A6-B625-D3FBCFA8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368C-172C-461B-A903-9260CDAA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6E59-C287-4B97-A859-660A1C27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D12-D3D2-4A1E-8F91-DF29A115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D375-A37B-4EF1-B789-8ECB8A41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FA3C-3263-4866-8770-78B5EE0E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E19-B04A-48E1-A54A-4BB65FF1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BCA7-7383-4CE9-875D-1B1D535D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FBD9-714C-42FB-920D-6EE77698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E965-4893-481F-882A-2C93BE955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3886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CL" sz="5400" spc="-1" strike="noStrike">
                <a:solidFill>
                  <a:srgbClr val="000000"/>
                </a:solidFill>
                <a:latin typeface="Times New Roman"/>
              </a:rPr>
              <a:t>EI2A1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CL" sz="4000" spc="-1" strike="noStrike">
                <a:solidFill>
                  <a:srgbClr val="000000"/>
                </a:solidFill>
                <a:latin typeface="Times New Roman"/>
              </a:rPr>
              <a:t>Sección 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TALLER DE PROYECTOS DE INGENI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3640" y="2425680"/>
            <a:ext cx="2738520" cy="1946160"/>
            <a:chOff x="3203640" y="2425680"/>
            <a:chExt cx="2738520" cy="1946160"/>
          </a:xfrm>
        </p:grpSpPr>
        <p:sp>
          <p:nvSpPr>
            <p:cNvPr id="44" name=""/>
            <p:cNvSpPr/>
            <p:nvPr/>
          </p:nvSpPr>
          <p:spPr>
            <a:xfrm>
              <a:off x="3203640" y="2425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203640" y="2425680"/>
              <a:ext cx="2738520" cy="19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7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i="1" lang="es-ES" sz="124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i="1" lang="es-ES" sz="7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          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" name="image" descr="Escudo de la Universidad"/>
          <p:cNvPicPr/>
          <p:nvPr/>
        </p:nvPicPr>
        <p:blipFill>
          <a:blip r:embed="rId1"/>
          <a:stretch/>
        </p:blipFill>
        <p:spPr>
          <a:xfrm>
            <a:off x="4038480" y="1905120"/>
            <a:ext cx="1978200" cy="1977840"/>
          </a:xfrm>
          <a:prstGeom prst="rect">
            <a:avLst/>
          </a:prstGeom>
          <a:ln w="0">
            <a:noFill/>
          </a:ln>
        </p:spPr>
      </p:pic>
    </p:spTree>
  </p:cSld>
  <p:transition advTm="10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Tema de Transpor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8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eroportuario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uevo Aeropuerto IX Reg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9.-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 Portuario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( V Región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fundización sitios 2 y 3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erto de Valparaís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0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cesiones Viales del MOP 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ino Internac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ta 60 Ch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 V Región 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1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ino M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nlace Mina Verdún – Planta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temu en la V Reg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8880" y="90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39960" y="-16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Aeropuerto-de-Berlin-Alemania_10472" descr="Aeropuerto de Berlín. Alemania"/>
          <p:cNvPicPr/>
          <p:nvPr/>
        </p:nvPicPr>
        <p:blipFill>
          <a:blip r:embed="rId1"/>
          <a:stretch/>
        </p:blipFill>
        <p:spPr>
          <a:xfrm>
            <a:off x="838080" y="1981080"/>
            <a:ext cx="3657600" cy="4114800"/>
          </a:xfrm>
          <a:prstGeom prst="rect">
            <a:avLst/>
          </a:prstGeom>
          <a:ln w="0">
            <a:noFill/>
          </a:ln>
        </p:spPr>
      </p:pic>
    </p:spTree>
  </p:cSld>
  <p:transition advTm="19000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Proyectos Var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2.-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Oleoducto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-Con / Lo Venecia V R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3.-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Gasoduct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intero - Quillota V Reg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4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nergía Eléctrica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b-Estación de Poder Malloa (V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5.-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OTROS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               Propuestos por el GRUPO y aceptados por los Profeso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8136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 advTm="19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365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TEMA     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Introducción al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Proyecto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Ingeniería Civ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PROFES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Jaime Téllez Téll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aximiliano Correa Hidal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advTm="1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24280" y="18288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OBJETIVO :   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Conseguir el acercamiento de los   alumnos   del   curso   al entendimiento de lo que es un proyecto  de  Ingeniería  Civil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Identificando el  problema, analizando   sus   variables causales, generando ideas para  solucionarlo,estudiando las fases necesarias hasta ponerlo en marcha y planteando un anteproyecto de diseño en alguno de sus component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4" name="pingui_neras_i_magd" descr="Pingüineras isla MAgdalena"/>
          <p:cNvPicPr/>
          <p:nvPr/>
        </p:nvPicPr>
        <p:blipFill>
          <a:blip r:embed="rId2"/>
          <a:stretch/>
        </p:blipFill>
        <p:spPr>
          <a:xfrm>
            <a:off x="685800" y="1981080"/>
            <a:ext cx="3886200" cy="4114800"/>
          </a:xfrm>
          <a:prstGeom prst="rect">
            <a:avLst/>
          </a:prstGeom>
          <a:ln w="0">
            <a:noFill/>
          </a:ln>
        </p:spPr>
      </p:pic>
    </p:spTree>
  </p:cSld>
  <p:transition advTm="19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DESCRIP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El curso se desarrollará en base al trabajo en grupo de los  alumnos  reunidos  en torno  a  problemas  reales distintos,  elegidos  por  los mismos  grupos  dentro  de una amplia gama de temas preestablecidos.  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140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328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-Regata-Internacional-de-Remo-Ciudad-de-Malaga-Andalucia_6434" descr="I Regata Internacional de Remo Ciudad de Málaga. Andalucía"/>
          <p:cNvPicPr/>
          <p:nvPr/>
        </p:nvPicPr>
        <p:blipFill>
          <a:blip r:embed="rId1"/>
          <a:stretch/>
        </p:blipFill>
        <p:spPr>
          <a:xfrm>
            <a:off x="685800" y="3276720"/>
            <a:ext cx="3809880" cy="2428920"/>
          </a:xfrm>
          <a:prstGeom prst="rect">
            <a:avLst/>
          </a:prstGeom>
          <a:ln w="0">
            <a:noFill/>
          </a:ln>
        </p:spPr>
      </p:pic>
    </p:spTree>
  </p:cSld>
  <p:transition advTm="1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1640" y="2514600"/>
            <a:ext cx="4419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Se trabajará fundamentalmen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en  la  etapa  de  Anteproyecto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con una visión complementaria hacia las etapas de Estudios Básicos, Proyecto   de   Ingeniería   de Detalle, Evaluación, Licitación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Construcción, Puesta en Marcha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Operación, Mantenimiento y Evaluación ex/post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5280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8240" y="10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VE--Tren-de-alta-velocidad--Estacion-de-Santa-Ana-Antequera--provincia-de-Malaga_9510" descr="AVE (Tren de alta velocidad). Estación de Santa Ana. Antequera, provincia de Málaga"/>
          <p:cNvPicPr/>
          <p:nvPr/>
        </p:nvPicPr>
        <p:blipFill>
          <a:blip r:embed="rId1"/>
          <a:stretch/>
        </p:blipFill>
        <p:spPr>
          <a:xfrm>
            <a:off x="685800" y="2971800"/>
            <a:ext cx="3809880" cy="2562120"/>
          </a:xfrm>
          <a:prstGeom prst="rect">
            <a:avLst/>
          </a:prstGeom>
          <a:ln w="0">
            <a:noFill/>
          </a:ln>
        </p:spPr>
      </p:pic>
    </p:spTree>
  </p:cSld>
  <p:transition advTm="1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7960" y="2362320"/>
            <a:ext cx="4267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Periódicamente habrá exposicion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de  todos  los  grupos,  acerca  d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desarrollo de sus respectivos temas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las  que  se  efectuarán  en  sesion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plenarias de participación general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UPO MAXIM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4 alumnos  ( 6 a 8 grupos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ORARIO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6800" y="79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Alhambra-desde-el-Albaicin_15305" descr="Alhambra desde el Albaicín"/>
          <p:cNvPicPr/>
          <p:nvPr/>
        </p:nvPicPr>
        <p:blipFill>
          <a:blip r:embed="rId1"/>
          <a:stretch/>
        </p:blipFill>
        <p:spPr>
          <a:xfrm>
            <a:off x="685800" y="2895480"/>
            <a:ext cx="3809880" cy="2789280"/>
          </a:xfrm>
          <a:prstGeom prst="rect">
            <a:avLst/>
          </a:prstGeom>
          <a:ln w="0">
            <a:noFill/>
          </a:ln>
        </p:spPr>
      </p:pic>
    </p:spTree>
  </p:cSld>
  <p:transition advTm="15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05520" y="2057400"/>
            <a:ext cx="358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EVALU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Cada grupo debe realizar 3 entregas,  las  que  deberán ser presentadas y defendidas oralmente frente  al  curso  por  uno  de sus integrant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Además, se exige un informe  final del Seminario, en formato digital, para poder divulgarlo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8880" y="61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oliseo-En-Roma-Italia_8999" descr="Coliseo. En Roma. Italia"/>
          <p:cNvPicPr/>
          <p:nvPr/>
        </p:nvPicPr>
        <p:blipFill>
          <a:blip r:embed="rId1"/>
          <a:stretch/>
        </p:blipFill>
        <p:spPr>
          <a:xfrm>
            <a:off x="685800" y="2548080"/>
            <a:ext cx="4267080" cy="347184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Temas Urban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alidad Urbana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(SERVI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Habilitación Corredor Vicuñ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ckenna y Concha y To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2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stacionamiento Subterráne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laza Lo Castillo de Vitac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3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Ferrovi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etro Maipú, tramo Quint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rmal – Nueva Lo Pra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4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odoviario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ación de Intercambio Mod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Quinta Normal (Metropolitan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382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328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Tunel-de-la-Alcazaba-Malaga_8091" descr="Túnel de la Alcazaba. Málaga"/>
          <p:cNvPicPr/>
          <p:nvPr/>
        </p:nvPicPr>
        <p:blipFill>
          <a:blip r:embed="rId1"/>
          <a:stretch/>
        </p:blipFill>
        <p:spPr>
          <a:xfrm>
            <a:off x="685800" y="251460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p:transition advTm="19000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Temas Sanitari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5.-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 Aguas Servidas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que Industrial San Antonio ( V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6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uas Lluvias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rbanización Parque Tecnológico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 de Chile - Valle Lo Aguir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7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iduos Sól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ación de Transferencia de R.S.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erro Los Cóndores ( R.M.).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328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Desalobradora-de-El-Atabal-Malaga-Andalucia-Espana_5850" descr="Desalobradora de El Atabal. Málaga. Andalucía. España"/>
          <p:cNvPicPr/>
          <p:nvPr/>
        </p:nvPicPr>
        <p:blipFill>
          <a:blip r:embed="rId1"/>
          <a:stretch/>
        </p:blipFill>
        <p:spPr>
          <a:xfrm>
            <a:off x="685800" y="2708280"/>
            <a:ext cx="3809880" cy="3159000"/>
          </a:xfrm>
          <a:prstGeom prst="rect">
            <a:avLst/>
          </a:prstGeom>
          <a:ln w="0">
            <a:noFill/>
          </a:ln>
        </p:spPr>
      </p:pic>
    </p:spTree>
  </p:cSld>
  <p:transition advTm="19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20:07:53Z</dcterms:created>
  <dc:creator>jgtellez</dc:creator>
  <dc:description/>
  <dc:language>en-US</dc:language>
  <cp:lastModifiedBy>jgtellez</cp:lastModifiedBy>
  <dcterms:modified xsi:type="dcterms:W3CDTF">2007-12-19T17:48:53Z</dcterms:modified>
  <cp:revision>227</cp:revision>
  <dc:subject/>
  <dc:title>Presentación de PowerPoint</dc:title>
</cp:coreProperties>
</file>