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7F6-D4FE-42B3-B33D-DBF97D44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A3F-E423-4BF2-BE1B-AB07A8C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AF1-EC99-48CC-9102-F2BF80DD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206-E40B-48A9-B6B3-CB826C7A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605-E4F8-42CB-85BA-CD0B5B9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48B-9A3F-4C64-8293-E7F3D92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DDA-0A1E-42B4-8E71-C142439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1B4-61C4-4911-BE85-51BFCC91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732-9F52-4F11-91F0-3FB4A9E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32A-8EF7-42FC-9205-0855FC5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5EB-C4C0-42CD-B416-8776049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CFE-4170-4B01-A2DB-F9B021E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F3A-CD5C-4EC0-963D-B423D953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EI2A1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ección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LLER DE PROYECTOS DE INGENI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2425680"/>
            <a:ext cx="2738520" cy="1946160"/>
            <a:chOff x="3203640" y="2425680"/>
            <a:chExt cx="2738520" cy="1946160"/>
          </a:xfrm>
        </p:grpSpPr>
        <p:sp>
          <p:nvSpPr>
            <p:cNvPr id="44" name=""/>
            <p:cNvSpPr/>
            <p:nvPr/>
          </p:nvSpPr>
          <p:spPr>
            <a:xfrm>
              <a:off x="3203640" y="242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03640" y="2425680"/>
              <a:ext cx="273852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s-ES" sz="12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image" descr="Escudo de la Universidad"/>
          <p:cNvPicPr/>
          <p:nvPr/>
        </p:nvPicPr>
        <p:blipFill>
          <a:blip r:embed="rId1"/>
          <a:stretch/>
        </p:blipFill>
        <p:spPr>
          <a:xfrm>
            <a:off x="4038480" y="190512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de Trans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8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eroportuari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uevo Aeropuerto IX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9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ortu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 V Regió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fundización sitios 2 y 3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erto de Valparaí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siones Viales del MOP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no Interna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a 60 Ch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 V Región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in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lace Mina Verdún – Planta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temu en la V Reg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9960" y="-1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eropuerto-de-Berlin-Alemania_10472" descr="Aeropuerto de Berlín. Alemania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oyectos V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2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leoduc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-Con / Lo Venecia V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3.-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soduc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intero - Quillota V Reg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ía Eléctric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b-Estación de Poder Mallo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TROS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     Propuestos por el GRUPO y aceptados por los Profes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813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    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troducción 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yect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geniería Civ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ROFE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Jaime Téllez Tél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aximiliano Correa Hidal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OBJETIVO :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eguir el acercamiento de los   alumnos   del   curso   al entendimiento de lo que es un proyecto  de  Ingeniería  Civ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Identificando el  problema, analizando   sus   variables causales, generando ideas para  solucionarlo,estudiando las fases necesarias hasta ponerlo en marcha y planteando un anteproyecto de diseño en alguno de sus compone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ngui_neras_i_magd" descr="Pingüineras isla MAgdalena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ESCRIP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l curso se desarrollará en base al trabajo en grupo de los  alumnos  reunidos  en torno  a  problemas  reales distintos,  elegidos  por  los mismos  grupos  dentro  de una amplia gama de temas preestablecidos.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140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3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-Regata-Internacional-de-Remo-Ciudad-de-Malaga-Andalucia_6434" descr="I Regata Internacional de Remo Ciudad de Málaga. Andalucía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Se trabajará fundamental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n  la  etapa  de  Anteproyect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 una visión complementaria hacia las etapas de Estudios Básicos, Proyecto   de   Ingeniería   de Detalle, Evaluación, Licitació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trucción, Puesta en Marcha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Operación, Mantenimiento y Evaluación ex/pos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28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24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VE--Tren-de-alta-velocidad--Estacion-de-Santa-Ana-Antequera--provincia-de-Malaga_9510" descr="AVE (Tren de alta velocidad). Estación de Santa Ana. Antequera, provincia de Málaga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eriódicamente habrá exposi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  todos  los  grupos,  acerca  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sarrollo de sus respectivos tema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las  que  se  efectuarán  en  ses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lenarias de participación gener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PO MAXI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4 alumnos  ( 6 a 8 grupos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RARI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800" y="7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hambra-desde-el-Albaicin_15305" descr="Alhambra desde el Albaicí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78928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ada grupo debe realizar 3 entregas,  las  que  deberán ser presentadas y defendidas oralmente frente  al  curso  por  uno  de sus integra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Además, se exige un informe  final del Seminario, en formato digital, para poder divulgarl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880" y="6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liseo-En-Roma-Italia_8999" descr="Coliseo. En Roma. Italia"/>
          <p:cNvPicPr/>
          <p:nvPr/>
        </p:nvPicPr>
        <p:blipFill>
          <a:blip r:embed="rId1"/>
          <a:stretch/>
        </p:blipFill>
        <p:spPr>
          <a:xfrm>
            <a:off x="685800" y="2548080"/>
            <a:ext cx="4267080" cy="34718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Urba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lidad Urban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SERV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bilitación Corredor Vicuñ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ckenna y Concha y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cionamiento Subterráne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za Lo Castillo de Vitac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3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v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tro Maipú, tramo Quin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rmal – Nueva Lo Pr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dovi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Intercambio Mo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inta Normal (Metropolita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unel-de-la-Alcazaba-Malaga_8091" descr="Túnel de la Alcazaba. Málaga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Sanit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guas Servid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que Industrial San Antonio ( V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6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uas Lluvi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rbanización Parque Tecnológic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 de Chile - Valle Lo Agui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7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idu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Transferencia de R.S.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erro Los Cóndores ( R.M.).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esalobradora-de-El-Atabal-Malaga-Andalucia-Espana_5850" descr="Desalobradora de El Atabal. Málaga. Andalucía. España"/>
          <p:cNvPicPr/>
          <p:nvPr/>
        </p:nvPicPr>
        <p:blipFill>
          <a:blip r:embed="rId1"/>
          <a:stretch/>
        </p:blipFill>
        <p:spPr>
          <a:xfrm>
            <a:off x="685800" y="2708280"/>
            <a:ext cx="3809880" cy="31590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07:53Z</dcterms:created>
  <dc:creator>jgtellez</dc:creator>
  <dc:description/>
  <dc:language>en-US</dc:language>
  <cp:lastModifiedBy>jgtellez</cp:lastModifiedBy>
  <dcterms:modified xsi:type="dcterms:W3CDTF">2007-12-19T17:48:53Z</dcterms:modified>
  <cp:revision>227</cp:revision>
  <dc:subject/>
  <dc:title>Presentación de PowerPoint</dc:title>
</cp:coreProperties>
</file>