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B7D0-AB90-4118-B82A-0F425421E51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A2D1-0D2F-422E-A7F4-ABD85684D88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AA0-0458-40AC-81D8-43FB731C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E5D-7530-4BAC-A48D-16039E4C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8F2-36DD-444F-B52C-B7B98FB8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11C-5FFD-4E48-891F-ADAA5645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F414-55AD-413B-9482-FED36501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2057-D06F-47B6-9B0C-8BC534F5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ED3D-C0D6-414A-9D19-EDE931B8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A965-E8F7-46C0-8384-FD595527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5938-F6E2-4522-B3BA-2D02D443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D729-1A08-460A-BA06-FA342B37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C2BA-F54F-4D4C-9795-A5CEAFEB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2CA-BA23-452E-A2C5-C17A4C58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89E4-D057-48BF-97D9-B1FD9483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EE57-324F-4852-B3F9-C1B67EB2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FFF2-1475-4E3B-9000-98C0FDB0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BCEF-493D-4019-B621-F6115829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8321-E218-4382-96E6-3D1A21D9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AD8BA-1CA4-44C0-9E48-BCF67C42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664B-93B7-437F-82A6-5DC5D680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9F23E-A28E-4A64-8FE0-89727701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FFE3-87CF-4A34-979A-52A89E97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A030D-BA1F-4DAF-A0FB-A4DC57C3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96B-5205-46E0-B462-D5DD9BD7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3C6DA-627A-4617-9543-1655621B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2D9A-D06C-42E3-8115-6DE00870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08FA3-AA22-493A-86D5-254B7DF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F5335-42A1-4E94-B718-2EAD2CBF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FE36-463B-477B-86F6-4BA44E8B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03B1B-3C37-42F3-94E1-5000C101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5CC7-1C11-4476-B687-27253F1E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CAFAF-2F98-4253-9171-99C99B5D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6B7A9-6562-4900-A0CF-E586493A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8D530-165C-421B-A5AC-9AD69E23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030-47BD-493C-BA46-CC0865B6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055A1-D9EA-464C-98B4-FF47748C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B5111-2891-4988-912E-6C6B0C91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89210-CB9E-44FA-970E-C9761737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DA040-3F55-4914-A7C7-F9DBC72C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453B7-00E7-4369-B3BB-2B611207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FB3F-DF16-4BB2-BE9E-11B3CAED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0854-68AB-4355-8C51-14D9B2C4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71D33-3F24-4615-9C11-42B84C84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5BD75-17C2-4B20-A4B5-09FE870A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665-44DE-46ED-9A31-0ED7249A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FBE-BDBE-4CBC-B173-666D4538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793-7334-4701-BCFF-2C9466AE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1A1-DCA0-44FE-9533-C4B1CA78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6C5-D46A-4DDC-A08E-A55E13D0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F965-C9FE-4EAC-A4C9-017A6EAE6709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0D17-8FE3-468E-9D5F-A851D55E6D14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1DC9-8CAF-4831-942C-4BF961502616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348B-8590-499C-8F7B-EC2D3A89F0F3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Taller de Proyect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4 Conector recto"/>
          <p:cNvSpPr/>
          <p:nvPr/>
        </p:nvSpPr>
        <p:spPr>
          <a:xfrm flipH="1">
            <a:off x="5143680" y="392904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33 Conector recto"/>
          <p:cNvSpPr/>
          <p:nvPr/>
        </p:nvSpPr>
        <p:spPr>
          <a:xfrm flipH="1">
            <a:off x="5143680" y="32860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38 CuadroTexto"/>
          <p:cNvSpPr/>
          <p:nvPr/>
        </p:nvSpPr>
        <p:spPr>
          <a:xfrm>
            <a:off x="4494960" y="34290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39 CuadroTexto"/>
          <p:cNvSpPr/>
          <p:nvPr/>
        </p:nvSpPr>
        <p:spPr>
          <a:xfrm>
            <a:off x="5250960" y="34290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40 CuadroTexto"/>
          <p:cNvSpPr/>
          <p:nvPr/>
        </p:nvSpPr>
        <p:spPr>
          <a:xfrm>
            <a:off x="7104240" y="34290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0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Joh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2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Ho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id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valor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2132121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Cl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(Modificamos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               = “PHP es 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 = “Sencill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1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‘nombre’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 $i &lt; 10 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for( $i=0;  $i &lt; 10;  $i=$i++ 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 = 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true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if($i&lt;=10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i\n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perador Log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amp;&amp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||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Igual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!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Distinto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5467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 (Modificamos inicio.ph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form method=“</a:t>
            </a:r>
            <a:r>
              <a:rPr b="0" lang="es-CL" sz="2000" spc="-1" strike="noStrike">
                <a:solidFill>
                  <a:srgbClr val="ff0000"/>
                </a:solidFill>
                <a:latin typeface="Constantia"/>
              </a:rPr>
              <a:t>GET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“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text” size=“8” name=“nombre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sswo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password” size=“8” name="pass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"submit" value="CONTINUAR"&gt;&lt;/td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Reque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(La variable se envia de forma invisibl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(Las variables son visibles en la direcc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?id=Hola&amp;pass=passwo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-304920" y="4786200"/>
            <a:ext cx="9448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 y 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REQUE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 REQUE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Qué es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HP, acrónimo de "</a:t>
            </a:r>
            <a:r>
              <a:rPr b="1" lang="pt-BR" sz="2600" spc="-1" strike="noStrike">
                <a:solidFill>
                  <a:srgbClr val="000000"/>
                </a:solidFill>
                <a:latin typeface="Constantia"/>
              </a:rPr>
              <a:t>PHP: Hypertext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processor", es un lenguaje interpretado d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embebido en páginas HTML. La mayoría de su sintaxis es similar a C, Java y Perl, con solamente un par de caracteristicas PHP específicas. La meta de este lenguaje es permitir escribir a los creadores de páginas web, páginas dinámicas de una manera rápida y fác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nte: manual de 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jemplo (Agregamos el siguiente código al archivo inicio.php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nombre es &lt;?php print($_REQUEST[‘nombre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clave es &lt;?php print($_REQUEST[‘pass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cribir un arch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ile_put_contents(‘/home/user/a.txt’, “hola a todos”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r un archivo a un arreg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lineas = file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 un archivo entero en una cade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archivo = file_get_contents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(Agregamos el siguiente código al archivo inicio.php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$txt = “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Tu nombre es ”.$_REQUEST[‘nombre’].” \n Tu clave es “. $_REQUEST[‘pass’]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ile_put_contents(‘texto.txt’, $txt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**Verificar permi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hmod 777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leer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texto = file (‘texto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0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1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m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 ‘este’,  ‘es’,  ‘un’,  ‘texto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= implode(‘ ’, $va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 es un 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#es#un#texto’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 = explode(‘#’, $txt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0] = ‘este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1] = ‘es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2] = ‘un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3] = ‘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1,2,3,4,5,6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numer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$numer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d_persona’ =&gt; 304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mbre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john’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ellido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doe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llave =&gt; $dat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llave tiene valor $dat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ferenc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ttp://www.php.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785760" y="3214440"/>
            <a:ext cx="1357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09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1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16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8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25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7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0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9 Flecha curvada hacia la izquierda"/>
          <p:cNvSpPr/>
          <p:nvPr/>
        </p:nvSpPr>
        <p:spPr>
          <a:xfrm>
            <a:off x="6929280" y="4000680"/>
            <a:ext cx="285840" cy="428400"/>
          </a:xfrm>
          <a:custGeom>
            <a:avLst/>
            <a:gdLst>
              <a:gd name="textAreaLeft" fmla="*/ 38160 w 285840"/>
              <a:gd name="textAreaRight" fmla="*/ 247680 w 285840"/>
              <a:gd name="textAreaTop" fmla="*/ 80280 h 428400"/>
              <a:gd name="textAreaBottom" fmla="*/ 312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0 CuadroTexto"/>
          <p:cNvSpPr/>
          <p:nvPr/>
        </p:nvSpPr>
        <p:spPr>
          <a:xfrm>
            <a:off x="7189920" y="40006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Como Insertar Codigo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title&gt;Ejemplo PHP&lt;/title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&lt;?php print("Hola, este es un ejemplo con 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PHP!“); 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tml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Vari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be anteponer un signo ‘$’ delante del nomb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es necesaria la definición explicita del tipo de dato. Este viene dado por el contex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java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Int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numero = 1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String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frase = new String(‘hola mundo’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PHP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numero = 1;    // es un numero 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rase   = ‘hola mundo’;  //es un str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rimir una vari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4 Conector recto"/>
          <p:cNvSpPr/>
          <p:nvPr/>
        </p:nvSpPr>
        <p:spPr>
          <a:xfrm flipH="1">
            <a:off x="500076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3 Conector recto"/>
          <p:cNvSpPr/>
          <p:nvPr/>
        </p:nvSpPr>
        <p:spPr>
          <a:xfrm flipH="1">
            <a:off x="500076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8 CuadroTexto"/>
          <p:cNvSpPr/>
          <p:nvPr/>
        </p:nvSpPr>
        <p:spPr>
          <a:xfrm>
            <a:off x="449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9 CuadroTexto"/>
          <p:cNvSpPr/>
          <p:nvPr/>
        </p:nvSpPr>
        <p:spPr>
          <a:xfrm>
            <a:off x="528516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0 CuadroTexto"/>
          <p:cNvSpPr/>
          <p:nvPr/>
        </p:nvSpPr>
        <p:spPr>
          <a:xfrm>
            <a:off x="71362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8:49:00Z</dcterms:created>
  <dc:creator>Pedro</dc:creator>
  <dc:description/>
  <dc:language>en-US</dc:language>
  <cp:lastModifiedBy>Pedro</cp:lastModifiedBy>
  <dcterms:modified xsi:type="dcterms:W3CDTF">2008-04-23T01:21:47Z</dcterms:modified>
  <cp:revision>40</cp:revision>
  <dc:subject/>
  <dc:title>Guía PHP</dc:title>
</cp:coreProperties>
</file>