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2729-2F96-44ED-8F05-B9D21AC2B21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3 Marcador de número de diapositiva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1698-E1EC-43BC-8D7A-44B524C53D7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4D93-B027-4585-922D-0680CE75C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FF8B-4DEA-4AEB-8385-A2FB60E1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3FAF-4E55-4441-A894-69447D3E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FC29-6157-460D-A717-6845DC89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D84B-FAEB-45F4-ADAA-1D852B8B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427A-359F-40E8-B76B-39219663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C0FB-4C79-4ECF-9C00-A449CE38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401E-8846-4CAF-86F7-4C2D111C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CFF1-C626-486D-9A51-CDBA94A1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AFED-9272-48BA-9F15-30B10819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5B9C-68FA-4D90-A84F-4E61A175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33A5-62B2-4020-A9AD-4498758A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D2FC-A53D-4134-862C-E6ACFCEF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38B0-73B1-4A0D-A1DB-32F49CA0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A6BD-A56D-40E6-8FB6-70A27C78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4CC8-B8AC-41D3-9F70-53306930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5277-E881-45DF-AC4C-9B8591E8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ABB31-6AFE-46D4-ABB3-DFD0BE45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19083-0A5C-491B-86DC-BD0A3402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91431-D477-4E27-8B1E-DAD98E89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88D9B-EBF2-4881-BD09-CBF389D6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70269-FDDA-4043-B64B-1336DA37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45F6-CDAA-438C-A97E-459CFF3D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F74DB-FF4B-4CCC-8028-026B6CCB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EEE17-97CC-4089-BE9C-25C73FB1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1910D-B8B9-4420-BC47-FAA48838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FB99B-608E-47C8-9B4D-7B921A7E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53A32-201D-4D7C-B895-7A8D2F81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FFA43-170C-48F1-8927-DFE16CFF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A2EF8-CF8D-4069-80F4-BE5F3A47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907A4-A923-486B-9A46-553F22CF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C9A81-EDDD-44B2-9912-F7D24314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78156-5645-47CA-9F71-3697152A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99F9-C857-46AF-B7FF-9810B7DE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A82E0-D73C-48F3-9EE1-D317751B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5EB52-C3C6-4362-B39D-0E8887F5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46AAD-F977-42D4-A3C9-934112DA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BC88D-DE00-4C16-9F14-DC35B530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837DF-BB0F-4034-80CE-E296BE8D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A192B-46CE-47E1-A768-7DD48ED0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7F6B8-9F47-4656-93A7-6FE69387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D2A1A-81A2-43DF-8C44-D7B818DB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89804-4AB7-46BA-85C1-E5B73578D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8BD2-441D-4115-8556-982CD950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189-49BB-46CB-B412-A9CCE2E7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C8E6-A9A9-4AD7-A87B-4757EC3A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4EB8-0D7E-488F-B04E-8D929D32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C49D-C289-4110-A189-4C0BBA25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6937-BF49-4939-AFC4-9AE17BA80DA5}" type="slidenum">
              <a:rPr b="0" lang="es-CL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C6B1-A4C6-4904-952D-60A13CDE821B}" type="slidenum">
              <a:rPr b="0" lang="es-CL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BA44-8F20-41E1-9CDF-7E83B750F93F}" type="slidenum">
              <a:rPr b="0" lang="es-CL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6BE8-F5C0-43EB-81C8-42383656BC61}" type="slidenum">
              <a:rPr b="0" lang="es-CL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1 Título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Taller de Proyect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reglos Asociat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4 Rectángulo"/>
          <p:cNvSpPr/>
          <p:nvPr/>
        </p:nvSpPr>
        <p:spPr>
          <a:xfrm>
            <a:off x="857160" y="3929040"/>
            <a:ext cx="74296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6 Conector recto"/>
          <p:cNvSpPr/>
          <p:nvPr/>
        </p:nvSpPr>
        <p:spPr>
          <a:xfrm flipH="1">
            <a:off x="149868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10 Conector recto"/>
          <p:cNvSpPr/>
          <p:nvPr/>
        </p:nvSpPr>
        <p:spPr>
          <a:xfrm flipH="1">
            <a:off x="278460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12 Conector recto"/>
          <p:cNvSpPr/>
          <p:nvPr/>
        </p:nvSpPr>
        <p:spPr>
          <a:xfrm flipH="1">
            <a:off x="428472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4 Conector recto"/>
          <p:cNvSpPr/>
          <p:nvPr/>
        </p:nvSpPr>
        <p:spPr>
          <a:xfrm flipH="1">
            <a:off x="5143680" y="392904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16 Conector recto"/>
          <p:cNvSpPr/>
          <p:nvPr/>
        </p:nvSpPr>
        <p:spPr>
          <a:xfrm flipH="1">
            <a:off x="6571800" y="3930480"/>
            <a:ext cx="180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17 CuadroTexto"/>
          <p:cNvSpPr/>
          <p:nvPr/>
        </p:nvSpPr>
        <p:spPr>
          <a:xfrm>
            <a:off x="1045800" y="4071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18 CuadroTexto"/>
          <p:cNvSpPr/>
          <p:nvPr/>
        </p:nvSpPr>
        <p:spPr>
          <a:xfrm>
            <a:off x="1765080" y="40719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9 CuadroTexto"/>
          <p:cNvSpPr/>
          <p:nvPr/>
        </p:nvSpPr>
        <p:spPr>
          <a:xfrm>
            <a:off x="3198600" y="407196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H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20 CuadroTexto"/>
          <p:cNvSpPr/>
          <p:nvPr/>
        </p:nvSpPr>
        <p:spPr>
          <a:xfrm>
            <a:off x="4494600" y="4071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21 CuadroTexto"/>
          <p:cNvSpPr/>
          <p:nvPr/>
        </p:nvSpPr>
        <p:spPr>
          <a:xfrm>
            <a:off x="5160960" y="407196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1321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22 CuadroTexto"/>
          <p:cNvSpPr/>
          <p:nvPr/>
        </p:nvSpPr>
        <p:spPr>
          <a:xfrm>
            <a:off x="7128000" y="40719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25 Rectángulo"/>
          <p:cNvSpPr/>
          <p:nvPr/>
        </p:nvSpPr>
        <p:spPr>
          <a:xfrm>
            <a:off x="857160" y="3286080"/>
            <a:ext cx="74296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27 Conector recto"/>
          <p:cNvSpPr/>
          <p:nvPr/>
        </p:nvSpPr>
        <p:spPr>
          <a:xfrm flipH="1">
            <a:off x="149868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29 Conector recto"/>
          <p:cNvSpPr/>
          <p:nvPr/>
        </p:nvSpPr>
        <p:spPr>
          <a:xfrm flipH="1">
            <a:off x="278460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31 Conector recto"/>
          <p:cNvSpPr/>
          <p:nvPr/>
        </p:nvSpPr>
        <p:spPr>
          <a:xfrm flipH="1">
            <a:off x="428472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33 Conector recto"/>
          <p:cNvSpPr/>
          <p:nvPr/>
        </p:nvSpPr>
        <p:spPr>
          <a:xfrm flipH="1">
            <a:off x="5143680" y="32860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34 Conector recto"/>
          <p:cNvSpPr/>
          <p:nvPr/>
        </p:nvSpPr>
        <p:spPr>
          <a:xfrm flipH="1">
            <a:off x="6571800" y="3286080"/>
            <a:ext cx="180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35 CuadroTexto"/>
          <p:cNvSpPr/>
          <p:nvPr/>
        </p:nvSpPr>
        <p:spPr>
          <a:xfrm>
            <a:off x="107172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36 CuadroTexto"/>
          <p:cNvSpPr/>
          <p:nvPr/>
        </p:nvSpPr>
        <p:spPr>
          <a:xfrm>
            <a:off x="176004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37 CuadroTexto"/>
          <p:cNvSpPr/>
          <p:nvPr/>
        </p:nvSpPr>
        <p:spPr>
          <a:xfrm>
            <a:off x="320868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38 CuadroTexto"/>
          <p:cNvSpPr/>
          <p:nvPr/>
        </p:nvSpPr>
        <p:spPr>
          <a:xfrm>
            <a:off x="4494960" y="342900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39 CuadroTexto"/>
          <p:cNvSpPr/>
          <p:nvPr/>
        </p:nvSpPr>
        <p:spPr>
          <a:xfrm>
            <a:off x="5250960" y="34290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40 CuadroTexto"/>
          <p:cNvSpPr/>
          <p:nvPr/>
        </p:nvSpPr>
        <p:spPr>
          <a:xfrm>
            <a:off x="7104240" y="34290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reglos Asociat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0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1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 Joh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2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Hol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‘id’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‘valor’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 2132121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‘nombre’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 Cla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reglos Asociat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(Modificamos inicio.ph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1]               = “PHP es 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‘nombre’] = “Sencillo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datos[1]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datos[‘nombre’]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teracio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while ( $i &lt; 10 )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i++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600" spc="-1" strike="noStrike">
                <a:solidFill>
                  <a:srgbClr val="000000"/>
                </a:solidFill>
                <a:latin typeface="Constantia"/>
              </a:rPr>
              <a:t>for( $i=0;  $i &lt; 10;  $i=$i++ )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 ($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teracio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i = 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while (true)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nn-NO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nn-NO" sz="2600" spc="-1" strike="noStrike">
                <a:solidFill>
                  <a:srgbClr val="000000"/>
                </a:solidFill>
                <a:latin typeface="Constantia"/>
              </a:rPr>
              <a:t>if($i&lt;=10)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 “$i\n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se{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i++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perador Log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amp;&amp;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||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=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Menor o igu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gt;=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Mayor o igu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gt;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Mayor 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Menor 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==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Igual 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!=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Distinto 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ormul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1857240" y="2214720"/>
            <a:ext cx="54673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ormul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emplo (Modificamos inicio.php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&lt;form method=“</a:t>
            </a:r>
            <a:r>
              <a:rPr b="0" lang="es-CL" sz="2000" spc="-1" strike="noStrike">
                <a:solidFill>
                  <a:srgbClr val="ff0000"/>
                </a:solidFill>
                <a:latin typeface="Constantia"/>
              </a:rPr>
              <a:t>GET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“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Nomb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input type=“text” size=“8” name=“nombre"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asswor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input type=“password” size=“8” name="pass"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input type="submit" value="CONTINUAR"&gt;&lt;/td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ipos de Reque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ST(La variable se envia de forma invisibl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21b2c9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21b2c9"/>
                </a:solidFill>
                <a:latin typeface="Constantia"/>
              </a:rPr>
              <a:t>http://www.hola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GET(Las variables son visibles en la direcc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21b2c9"/>
                </a:solidFill>
                <a:latin typeface="Constantia"/>
              </a:rPr>
              <a:t>http://www.hola.com?id=Hola&amp;pass=passwor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21b2c9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-304920" y="4786200"/>
            <a:ext cx="94489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quest en PH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POST[‘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mbre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POST[‘pass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G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GET[‘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mbre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GET[‘pass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ST y G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REQUEST[‘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mbre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 REQUEST[‘pass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¿Qué es PHP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HP, acrónimo de "</a:t>
            </a:r>
            <a:r>
              <a:rPr b="1" lang="pt-BR" sz="2600" spc="-1" strike="noStrike">
                <a:solidFill>
                  <a:srgbClr val="000000"/>
                </a:solidFill>
                <a:latin typeface="Constantia"/>
              </a:rPr>
              <a:t>PHP: Hypertext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eprocessor", es un lenguaje interpretado de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to nivel embebido en páginas HTML. La mayoría de su sintaxis es similar a C, Java y Perl, con solamente un par de caracteristicas PHP específicas. La meta de este lenguaje es permitir escribir a los creadores de páginas web, páginas dinámicas de una manera rápida y fáci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uente: manual de 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quest en PH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jemplo (Agregamos el siguiente código al archivo inicio.php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Tu nombre es &lt;?php print($_REQUEST[‘nombre’]);?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&lt;br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Tu clave es &lt;?php print($_REQUEST[‘pass’]);?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ch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cribir un archiv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ile_put_contents(‘/home/user/a.txt’, “hola a todos”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eer un archivo a un arregl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lineas = file(‘/home/user/a.txt’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ee un archivo entero en una cade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archivo = file_get_contents(‘/home/user/a.txt’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ch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emplo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 (Agregamos el siguiente código al archivo inicio.php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$txt = “</a:t>
            </a: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Tu nombre es ”.$_REQUEST[‘nombre’].” \n Tu clave es “. $_REQUEST[‘pass’]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264600" indent="-264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file_put_contents(‘texto.txt’, $txt)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**Verificar permis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d 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hmod 777 pub_www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d pub_www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ch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 (Creamos el archivo leer.ph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texto = file (‘texto.txt’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int($texto[0]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int($texto[1]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tras funciones útiles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mplod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var = array( ‘este’,  ‘es’,  ‘un’,  ‘texto’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xt = implode(‘ ’, $va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sultado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xt -&gt; ‘este es un texto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tras funciones útiles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lod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xt -&gt; ‘este#es#un#texto’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 = explode(‘#’, $txt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sultado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[0] = ‘este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[1] = ‘es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[2] = ‘un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[3] = ‘texto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tras funciones útiles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each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var = array(1,2,3,4,5,6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oreach( $var as $numero)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 $numero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tras funciones útiles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each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var = array(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d_persona’ =&gt; 304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mbre’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=&gt; ‘john’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ellido’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=&gt; ‘doe’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oreach( $var as $llave =&gt; $dato)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 “$llave tiene valor $dato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ferenci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http://www.php.n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785760" y="3214440"/>
            <a:ext cx="1357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1 Título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Documents and Settings\Pedro\Configuración local\Archivos temporales de Internet\Content.IE5\S5A7C5YB\MPj04243890000[1].jpg"/>
          <p:cNvPicPr/>
          <p:nvPr/>
        </p:nvPicPr>
        <p:blipFill>
          <a:blip r:embed="rId2"/>
          <a:stretch/>
        </p:blipFill>
        <p:spPr>
          <a:xfrm>
            <a:off x="428760" y="3857760"/>
            <a:ext cx="1195200" cy="785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C:\Documents and Settings\Pedro\Configuración local\Archivos temporales de Internet\Content.IE5\3LN71IY7\MCj01974380000[1].wmf"/>
          <p:cNvPicPr/>
          <p:nvPr/>
        </p:nvPicPr>
        <p:blipFill>
          <a:blip r:embed="rId3"/>
          <a:stretch/>
        </p:blipFill>
        <p:spPr>
          <a:xfrm>
            <a:off x="6072120" y="3714840"/>
            <a:ext cx="857160" cy="1209600"/>
          </a:xfrm>
          <a:prstGeom prst="rect">
            <a:avLst/>
          </a:prstGeom>
          <a:ln w="0">
            <a:noFill/>
          </a:ln>
        </p:spPr>
      </p:pic>
      <p:sp>
        <p:nvSpPr>
          <p:cNvPr id="209" name="6 CuadroTexto"/>
          <p:cNvSpPr/>
          <p:nvPr/>
        </p:nvSpPr>
        <p:spPr>
          <a:xfrm>
            <a:off x="371880" y="48578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9 Conector recto de flecha"/>
          <p:cNvCxnSpPr/>
          <p:nvPr/>
        </p:nvCxnSpPr>
        <p:spPr>
          <a:xfrm>
            <a:off x="1643040" y="4000320"/>
            <a:ext cx="4448880" cy="3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1" name="10 CuadroTexto"/>
          <p:cNvSpPr/>
          <p:nvPr/>
        </p:nvSpPr>
        <p:spPr>
          <a:xfrm>
            <a:off x="3211560" y="3714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1 CuadroTexto"/>
          <p:cNvSpPr/>
          <p:nvPr/>
        </p:nvSpPr>
        <p:spPr>
          <a:xfrm>
            <a:off x="6024600" y="50007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1 Título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C:\Documents and Settings\Pedro\Configuración local\Archivos temporales de Internet\Content.IE5\S5A7C5YB\MPj04243890000[1].jpg"/>
          <p:cNvPicPr/>
          <p:nvPr/>
        </p:nvPicPr>
        <p:blipFill>
          <a:blip r:embed="rId2"/>
          <a:stretch/>
        </p:blipFill>
        <p:spPr>
          <a:xfrm>
            <a:off x="428760" y="3857760"/>
            <a:ext cx="1195200" cy="785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C:\Documents and Settings\Pedro\Configuración local\Archivos temporales de Internet\Content.IE5\3LN71IY7\MCj01974380000[1].wmf"/>
          <p:cNvPicPr/>
          <p:nvPr/>
        </p:nvPicPr>
        <p:blipFill>
          <a:blip r:embed="rId3"/>
          <a:stretch/>
        </p:blipFill>
        <p:spPr>
          <a:xfrm>
            <a:off x="6072120" y="3714840"/>
            <a:ext cx="857160" cy="1209600"/>
          </a:xfrm>
          <a:prstGeom prst="rect">
            <a:avLst/>
          </a:prstGeom>
          <a:ln w="0">
            <a:noFill/>
          </a:ln>
        </p:spPr>
      </p:pic>
      <p:sp>
        <p:nvSpPr>
          <p:cNvPr id="216" name="6 CuadroTexto"/>
          <p:cNvSpPr/>
          <p:nvPr/>
        </p:nvSpPr>
        <p:spPr>
          <a:xfrm>
            <a:off x="371880" y="48578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9 Conector recto de flecha"/>
          <p:cNvCxnSpPr/>
          <p:nvPr/>
        </p:nvCxnSpPr>
        <p:spPr>
          <a:xfrm>
            <a:off x="1643040" y="4000320"/>
            <a:ext cx="4448880" cy="3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8" name="10 CuadroTexto"/>
          <p:cNvSpPr/>
          <p:nvPr/>
        </p:nvSpPr>
        <p:spPr>
          <a:xfrm>
            <a:off x="3211560" y="3714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11 CuadroTexto"/>
          <p:cNvSpPr/>
          <p:nvPr/>
        </p:nvSpPr>
        <p:spPr>
          <a:xfrm>
            <a:off x="6024600" y="50007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12 Conector recto de flecha"/>
          <p:cNvCxnSpPr/>
          <p:nvPr/>
        </p:nvCxnSpPr>
        <p:spPr>
          <a:xfrm flipH="1" flipV="1">
            <a:off x="1571400" y="4571640"/>
            <a:ext cx="450072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1" name="13 CuadroTexto"/>
          <p:cNvSpPr/>
          <p:nvPr/>
        </p:nvSpPr>
        <p:spPr>
          <a:xfrm>
            <a:off x="2684160" y="464328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ódigo 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1 Título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Documents and Settings\Pedro\Configuración local\Archivos temporales de Internet\Content.IE5\S5A7C5YB\MPj04243890000[1].jpg"/>
          <p:cNvPicPr/>
          <p:nvPr/>
        </p:nvPicPr>
        <p:blipFill>
          <a:blip r:embed="rId2"/>
          <a:stretch/>
        </p:blipFill>
        <p:spPr>
          <a:xfrm>
            <a:off x="428760" y="3857760"/>
            <a:ext cx="1195200" cy="785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Pedro\Configuración local\Archivos temporales de Internet\Content.IE5\3LN71IY7\MCj01974380000[1].wmf"/>
          <p:cNvPicPr/>
          <p:nvPr/>
        </p:nvPicPr>
        <p:blipFill>
          <a:blip r:embed="rId3"/>
          <a:stretch/>
        </p:blipFill>
        <p:spPr>
          <a:xfrm>
            <a:off x="6072120" y="3714840"/>
            <a:ext cx="857160" cy="1209600"/>
          </a:xfrm>
          <a:prstGeom prst="rect">
            <a:avLst/>
          </a:prstGeom>
          <a:ln w="0">
            <a:noFill/>
          </a:ln>
        </p:spPr>
      </p:pic>
      <p:sp>
        <p:nvSpPr>
          <p:cNvPr id="225" name="6 CuadroTexto"/>
          <p:cNvSpPr/>
          <p:nvPr/>
        </p:nvSpPr>
        <p:spPr>
          <a:xfrm>
            <a:off x="371880" y="48578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9 Conector recto de flecha"/>
          <p:cNvCxnSpPr/>
          <p:nvPr/>
        </p:nvCxnSpPr>
        <p:spPr>
          <a:xfrm>
            <a:off x="1643040" y="4000320"/>
            <a:ext cx="4448880" cy="3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7" name="10 CuadroTexto"/>
          <p:cNvSpPr/>
          <p:nvPr/>
        </p:nvSpPr>
        <p:spPr>
          <a:xfrm>
            <a:off x="3211560" y="3714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1 CuadroTexto"/>
          <p:cNvSpPr/>
          <p:nvPr/>
        </p:nvSpPr>
        <p:spPr>
          <a:xfrm>
            <a:off x="6024600" y="50007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12 Conector recto de flecha"/>
          <p:cNvCxnSpPr/>
          <p:nvPr/>
        </p:nvCxnSpPr>
        <p:spPr>
          <a:xfrm flipH="1" flipV="1">
            <a:off x="1571400" y="4571640"/>
            <a:ext cx="450072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30" name="13 CuadroTexto"/>
          <p:cNvSpPr/>
          <p:nvPr/>
        </p:nvSpPr>
        <p:spPr>
          <a:xfrm>
            <a:off x="2684160" y="464328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ódigo 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19 Flecha curvada hacia la izquierda"/>
          <p:cNvSpPr/>
          <p:nvPr/>
        </p:nvSpPr>
        <p:spPr>
          <a:xfrm>
            <a:off x="6929280" y="4000680"/>
            <a:ext cx="285840" cy="428400"/>
          </a:xfrm>
          <a:custGeom>
            <a:avLst/>
            <a:gdLst>
              <a:gd name="textAreaLeft" fmla="*/ 38160 w 285840"/>
              <a:gd name="textAreaRight" fmla="*/ 247680 w 285840"/>
              <a:gd name="textAreaTop" fmla="*/ 80280 h 428400"/>
              <a:gd name="textAreaBottom" fmla="*/ 3124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3327084"/>
                <a:lnTo>
                  <a:pt x="5400" y="21343"/>
                </a:lnTo>
                <a:lnTo>
                  <a:pt x="0" y="18000"/>
                </a:lnTo>
                <a:lnTo>
                  <a:pt x="5400" y="14143"/>
                </a:lnTo>
                <a:lnTo>
                  <a:pt x="5400" y="15943"/>
                </a:lnTo>
                <a:arcTo wR="21600" hR="8100" stAng="3327084" swAng="-3033971"/>
                <a:lnTo>
                  <a:pt x="21060" y="9900"/>
                </a:lnTo>
                <a:arcTo wR="21600" hR="8100" stAng="-293113" swAng="-5106887"/>
                <a:close/>
              </a:path>
              <a:path fill="darkenLess"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-293113"/>
                <a:lnTo>
                  <a:pt x="21060" y="9900"/>
                </a:lnTo>
                <a:arcTo wR="21600" hR="8100" stAng="-293113" swAng="-5106887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20 CuadroTexto"/>
          <p:cNvSpPr/>
          <p:nvPr/>
        </p:nvSpPr>
        <p:spPr>
          <a:xfrm>
            <a:off x="7189920" y="400068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ódigo 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¿Como Insertar Codigo PHP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html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head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title&gt;Ejemplo PHP&lt;/title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/head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body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&lt;?php print("Hola, este es un ejemplo con 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PHP!“); 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/body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/html&gt;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Vari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be anteponer un signo ‘$’ delante del nomb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es necesaria la definición explicita del tipo de dato. Este viene dado por el contex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n java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0000"/>
                </a:solidFill>
                <a:latin typeface="Constantia"/>
              </a:rPr>
              <a:t>Int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 numero = 1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0000"/>
                </a:solidFill>
                <a:latin typeface="Constantia"/>
              </a:rPr>
              <a:t>String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 frase = new String(‘hola mundo’)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n PHP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0000"/>
                </a:solidFill>
                <a:latin typeface="Constantia"/>
              </a:rPr>
              <a:t>$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numero = 1;    // es un numero 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0000"/>
                </a:solidFill>
                <a:latin typeface="Constantia"/>
              </a:rPr>
              <a:t>$</a:t>
            </a: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frase   = ‘hola mundo’;  //es un string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mprimir una varia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exto = “Hola Mundo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texto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 (Creamos el archivo inicio.ph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exto = “Hola Mundo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texto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regl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4 Rectángulo"/>
          <p:cNvSpPr/>
          <p:nvPr/>
        </p:nvSpPr>
        <p:spPr>
          <a:xfrm>
            <a:off x="857160" y="3929040"/>
            <a:ext cx="74296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6 Conector recto"/>
          <p:cNvSpPr/>
          <p:nvPr/>
        </p:nvSpPr>
        <p:spPr>
          <a:xfrm flipH="1">
            <a:off x="149868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10 Conector recto"/>
          <p:cNvSpPr/>
          <p:nvPr/>
        </p:nvSpPr>
        <p:spPr>
          <a:xfrm flipH="1">
            <a:off x="278460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2 Conector recto"/>
          <p:cNvSpPr/>
          <p:nvPr/>
        </p:nvSpPr>
        <p:spPr>
          <a:xfrm flipH="1">
            <a:off x="428472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14 Conector recto"/>
          <p:cNvSpPr/>
          <p:nvPr/>
        </p:nvSpPr>
        <p:spPr>
          <a:xfrm flipH="1">
            <a:off x="500076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16 Conector recto"/>
          <p:cNvSpPr/>
          <p:nvPr/>
        </p:nvSpPr>
        <p:spPr>
          <a:xfrm flipH="1">
            <a:off x="6571800" y="3930480"/>
            <a:ext cx="180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17 CuadroTexto"/>
          <p:cNvSpPr/>
          <p:nvPr/>
        </p:nvSpPr>
        <p:spPr>
          <a:xfrm>
            <a:off x="1045800" y="4071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18 CuadroTexto"/>
          <p:cNvSpPr/>
          <p:nvPr/>
        </p:nvSpPr>
        <p:spPr>
          <a:xfrm>
            <a:off x="1765080" y="40719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9 CuadroTexto"/>
          <p:cNvSpPr/>
          <p:nvPr/>
        </p:nvSpPr>
        <p:spPr>
          <a:xfrm>
            <a:off x="3198600" y="407196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H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20 CuadroTexto"/>
          <p:cNvSpPr/>
          <p:nvPr/>
        </p:nvSpPr>
        <p:spPr>
          <a:xfrm>
            <a:off x="4494600" y="4071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21 CuadroTexto"/>
          <p:cNvSpPr/>
          <p:nvPr/>
        </p:nvSpPr>
        <p:spPr>
          <a:xfrm>
            <a:off x="5160960" y="407196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1321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22 CuadroTexto"/>
          <p:cNvSpPr/>
          <p:nvPr/>
        </p:nvSpPr>
        <p:spPr>
          <a:xfrm>
            <a:off x="7128000" y="40719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25 Rectángulo"/>
          <p:cNvSpPr/>
          <p:nvPr/>
        </p:nvSpPr>
        <p:spPr>
          <a:xfrm>
            <a:off x="857160" y="3286080"/>
            <a:ext cx="74296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7 Conector recto"/>
          <p:cNvSpPr/>
          <p:nvPr/>
        </p:nvSpPr>
        <p:spPr>
          <a:xfrm flipH="1">
            <a:off x="149868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29 Conector recto"/>
          <p:cNvSpPr/>
          <p:nvPr/>
        </p:nvSpPr>
        <p:spPr>
          <a:xfrm flipH="1">
            <a:off x="278460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31 Conector recto"/>
          <p:cNvSpPr/>
          <p:nvPr/>
        </p:nvSpPr>
        <p:spPr>
          <a:xfrm flipH="1">
            <a:off x="428472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33 Conector recto"/>
          <p:cNvSpPr/>
          <p:nvPr/>
        </p:nvSpPr>
        <p:spPr>
          <a:xfrm flipH="1">
            <a:off x="500076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34 Conector recto"/>
          <p:cNvSpPr/>
          <p:nvPr/>
        </p:nvSpPr>
        <p:spPr>
          <a:xfrm flipH="1">
            <a:off x="6571800" y="3286080"/>
            <a:ext cx="180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35 CuadroTexto"/>
          <p:cNvSpPr/>
          <p:nvPr/>
        </p:nvSpPr>
        <p:spPr>
          <a:xfrm>
            <a:off x="107172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36 CuadroTexto"/>
          <p:cNvSpPr/>
          <p:nvPr/>
        </p:nvSpPr>
        <p:spPr>
          <a:xfrm>
            <a:off x="176004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37 CuadroTexto"/>
          <p:cNvSpPr/>
          <p:nvPr/>
        </p:nvSpPr>
        <p:spPr>
          <a:xfrm>
            <a:off x="320868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38 CuadroTexto"/>
          <p:cNvSpPr/>
          <p:nvPr/>
        </p:nvSpPr>
        <p:spPr>
          <a:xfrm>
            <a:off x="449172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39 CuadroTexto"/>
          <p:cNvSpPr/>
          <p:nvPr/>
        </p:nvSpPr>
        <p:spPr>
          <a:xfrm>
            <a:off x="528516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40 CuadroTexto"/>
          <p:cNvSpPr/>
          <p:nvPr/>
        </p:nvSpPr>
        <p:spPr>
          <a:xfrm>
            <a:off x="713628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8:49:00Z</dcterms:created>
  <dc:creator>Pedro</dc:creator>
  <dc:description/>
  <dc:language>en-US</dc:language>
  <cp:lastModifiedBy>Pedro</cp:lastModifiedBy>
  <dcterms:modified xsi:type="dcterms:W3CDTF">2008-04-23T01:21:47Z</dcterms:modified>
  <cp:revision>40</cp:revision>
  <dc:subject/>
  <dc:title>Guía PHP</dc:title>
</cp:coreProperties>
</file>