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DA80-EFBC-4184-992A-F1902E09DAB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3 Marcador de número de diapositiva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00CF-46C9-4824-8AB9-A678A525520E}" type="slidenum">
              <a:rPr b="0" lang="es-C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A3C7-4657-4CD8-AA9D-0D012419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6C77-1386-4584-A8CC-58C1ADC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CB9-A82A-4318-A209-4B8323B1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78E-4DB8-433E-9428-73E3FC82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72D2-0E45-4369-AD73-A348C4A84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0EDC-C268-4B01-9F47-A1D149B9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A7FD8-C533-4885-B844-D5F80AC2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BFE0-8AFE-461F-9999-D060BD17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870D-3FDC-4BA7-A87C-75694E49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2EFC1-405C-4E63-ADC9-F01B1275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7F0-1A0B-4D94-97AD-395A9848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17C-B8EA-42AF-AF67-017225FF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EB509-ACFD-409D-AAB0-0450DE1E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5F35-31A3-4BB0-9C7C-E1DABE94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3074-5D37-4ECD-B387-8849E42A8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8679-3ECA-4AE3-8A4B-6E2F34E1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07337-6562-4DFC-AD14-6C2706EF0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CBF6C-B70E-40AB-9ABC-8052C6396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FB607-F5F4-4963-B1B1-E7932CCC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22F22-ABDA-4F24-8013-0430F942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3A261-B27D-460E-BF22-C9D25EF06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F6C75-D22D-454B-B87D-62DF1D13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04F-261C-4207-A599-2786436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DD91C-2312-480F-9807-99E9FB2D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BD03-7477-41A7-A89A-2D3D9CE5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72F3E-9714-402E-9DC8-4FC20361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C3BB4-D847-4098-866D-56D62108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BF8DA-8041-4279-94D7-3B2A4E6D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D84B0-DD62-4A43-A30D-82CE519D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0D1CC-98EF-4218-BB5B-8D46FFB3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826DE-F52F-4AB0-B150-94B322D0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3FD61-9811-448F-82EA-2C8849CF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115F-640E-4F05-9370-6CB8DFC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F19-59BB-4C9D-9F85-D1F610B5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B117-AAB9-45CF-AE5F-E9F0427E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7D39C-1C49-468F-BB43-38B61C08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03FF-D92C-4FB6-9B33-7CCE767E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B6212-583E-46E2-92B6-7CC79447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535DE-8893-43C3-9B92-EE867F46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3BBA1-DFBC-4EA1-8B3E-5CEBEB6A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05A5F8-8662-4E83-A498-9F6E8BE1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F696-8A35-45A3-B612-72898D2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3234A-4F6B-42E4-AA5C-E05717B9B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11D0-D815-4D74-8CC8-7710684E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99A-535D-486C-B635-40E26AE1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CDF-445C-42A8-AC7C-E022D8D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4AA-0BBF-4EE9-9F41-86DAC293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3928-D278-4D7A-8288-F38BAC0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E974-E780-4477-AA3A-63ADAFAE1510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4E18-5EA9-4DE9-B2B3-E2609B9907D1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189B-5597-4225-8D67-7DAFE61FC3B9}" type="slidenum">
              <a:rPr b="0" lang="es-CL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C8FC-3655-4784-88C3-120B86ACFBA9}" type="slidenum">
              <a:rPr b="0" lang="es-CL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jpe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1 Título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Taller de Proyecto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14 Conector recto"/>
          <p:cNvSpPr/>
          <p:nvPr/>
        </p:nvSpPr>
        <p:spPr>
          <a:xfrm flipH="1">
            <a:off x="5143680" y="392904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33 Conector recto"/>
          <p:cNvSpPr/>
          <p:nvPr/>
        </p:nvSpPr>
        <p:spPr>
          <a:xfrm flipH="1">
            <a:off x="5143680" y="32860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38 CuadroTexto"/>
          <p:cNvSpPr/>
          <p:nvPr/>
        </p:nvSpPr>
        <p:spPr>
          <a:xfrm>
            <a:off x="4494960" y="342900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39 CuadroTexto"/>
          <p:cNvSpPr/>
          <p:nvPr/>
        </p:nvSpPr>
        <p:spPr>
          <a:xfrm>
            <a:off x="5250960" y="342900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va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40 CuadroTexto"/>
          <p:cNvSpPr/>
          <p:nvPr/>
        </p:nvSpPr>
        <p:spPr>
          <a:xfrm>
            <a:off x="7104240" y="3429000"/>
            <a:ext cx="10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0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Joh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2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Hol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id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valor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2132121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 Cla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 Asoci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(Modificamos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1]               = “PHP es 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[‘nombre’] = “Sencill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1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datos[‘nombre’]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 $i &lt; 10 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for( $i=0;  $i &lt; 10;  $i=$i++ 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($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teracion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i = 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while (true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nn-NO" sz="2600" spc="-1" strike="noStrike">
                <a:solidFill>
                  <a:srgbClr val="000000"/>
                </a:solidFill>
                <a:latin typeface="Constantia"/>
              </a:rPr>
              <a:t>if($i&lt;=10)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i\n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se{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i++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perador Log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amp;&amp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||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o igu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ay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Menor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Igual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!=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#Distinto qu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tretch/>
        </p:blipFill>
        <p:spPr>
          <a:xfrm>
            <a:off x="1857240" y="2214720"/>
            <a:ext cx="546732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ormul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 (Modificamos inicio.ph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form method=“</a:t>
            </a:r>
            <a:r>
              <a:rPr b="0" lang="es-CL" sz="2000" spc="-1" strike="noStrike">
                <a:solidFill>
                  <a:srgbClr val="ff0000"/>
                </a:solidFill>
                <a:latin typeface="Constantia"/>
              </a:rPr>
              <a:t>GET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“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text” size=“8” name=“nombre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sswor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“password” size=“8” name="pass"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input type="submit" value="CONTINUAR"&gt;&lt;/td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Reque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(La variable se envia de forma invisibl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(Las variables son visibles en la direccio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http://www.hola.com?id=Hola&amp;pass=pass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21b2c9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1"/>
          <a:stretch/>
        </p:blipFill>
        <p:spPr>
          <a:xfrm>
            <a:off x="-304920" y="4786200"/>
            <a:ext cx="9448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PO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GE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ST y G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REQUEST[‘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ombre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_ REQUEST[‘pass’]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Qué es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nstantia"/>
              </a:rPr>
              <a:t>PHP, acrónimo de "</a:t>
            </a:r>
            <a:r>
              <a:rPr b="1" lang="pt-BR" sz="2600" spc="-1" strike="noStrike">
                <a:solidFill>
                  <a:srgbClr val="000000"/>
                </a:solidFill>
                <a:latin typeface="Constantia"/>
              </a:rPr>
              <a:t>PHP: Hypertext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eprocessor", es un lenguaje interpretado de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embebido en páginas HTML. La mayoría de su sintaxis es similar a C, Java y Perl, con solamente un par de caracteristicas PHP específicas. La meta de este lenguaje es permitir escribir a los creadores de páginas web, páginas dinámicas de una manera rápida y fáci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uente: manual de 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quest en PH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Ejemplo (Agregamos el siguiente código al archivo inicio.php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nombre es &lt;?php print($_REQUEST[‘nombre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Tu clave es &lt;?php print($_REQUEST[‘pass’]);?&g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cribir un archiv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le_put_contents(‘/home/user/a.txt’, “hola a todos”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r un archivo a un arreg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lineas = file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ee un archivo entero en una cade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archivo = file_get_contents(‘/home/user/a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emplo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 (Agregamos el siguiente código al archivo inicio.php)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$txt = “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Tu nombre es ”.$_REQUEST[‘nombre’].” \n Tu clave es “. $_REQUEST[‘pass’]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264600" indent="-2646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ile_put_contents(‘texto.txt’, $txt);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**Verificar permi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.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hmod 777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d pub_www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ch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leer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$texto = file (‘texto.txt’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0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int($texto[1])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Im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 ‘este’,  ‘es’,  ‘un’,  ‘texto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= implode(‘ ’, $va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 es un 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xplo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xt -&gt; ‘este#es#un#texto’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 = explode(‘#’, $txt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sultado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0] = ‘este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1] = ‘es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2] = ‘un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resultado[3] = ‘text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1,2,3,4,5,6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numer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$numero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tras funciones útiles.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oreach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var = array(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d_persona’ =&gt; 304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mbre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john’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‘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ellido’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=&gt; ‘doe’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oreach( $var as $llave =&gt; $dato)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 “$llave tiene valor $dat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ferenc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http://www.php.n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785760" y="3214440"/>
            <a:ext cx="1357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F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09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1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16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18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1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1 Título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Documents and Settings\Pedro\Configuración local\Archivos temporales de Internet\Content.IE5\S5A7C5YB\MPj04243890000[1].jpg"/>
          <p:cNvPicPr/>
          <p:nvPr/>
        </p:nvPicPr>
        <p:blipFill>
          <a:blip r:embed="rId2"/>
          <a:stretch/>
        </p:blipFill>
        <p:spPr>
          <a:xfrm>
            <a:off x="428760" y="3857760"/>
            <a:ext cx="1195200" cy="785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Pedro\Configuración local\Archivos temporales de Internet\Content.IE5\3LN71IY7\MCj01974380000[1].wmf"/>
          <p:cNvPicPr/>
          <p:nvPr/>
        </p:nvPicPr>
        <p:blipFill>
          <a:blip r:embed="rId3"/>
          <a:stretch/>
        </p:blipFill>
        <p:spPr>
          <a:xfrm>
            <a:off x="6072120" y="3714840"/>
            <a:ext cx="857160" cy="1209600"/>
          </a:xfrm>
          <a:prstGeom prst="rect">
            <a:avLst/>
          </a:prstGeom>
          <a:ln w="0">
            <a:noFill/>
          </a:ln>
        </p:spPr>
      </p:pic>
      <p:sp>
        <p:nvSpPr>
          <p:cNvPr id="225" name="6 CuadroTexto"/>
          <p:cNvSpPr/>
          <p:nvPr/>
        </p:nvSpPr>
        <p:spPr>
          <a:xfrm>
            <a:off x="371880" y="4857840"/>
            <a:ext cx="11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9 Conector recto de flecha"/>
          <p:cNvCxnSpPr/>
          <p:nvPr/>
        </p:nvCxnSpPr>
        <p:spPr>
          <a:xfrm>
            <a:off x="1643040" y="4000320"/>
            <a:ext cx="4448880" cy="3708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27" name="10 CuadroTexto"/>
          <p:cNvSpPr/>
          <p:nvPr/>
        </p:nvSpPr>
        <p:spPr>
          <a:xfrm>
            <a:off x="3211560" y="37148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U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11 CuadroTexto"/>
          <p:cNvSpPr/>
          <p:nvPr/>
        </p:nvSpPr>
        <p:spPr>
          <a:xfrm>
            <a:off x="6024600" y="500076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Serv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12 Conector recto de flecha"/>
          <p:cNvCxnSpPr/>
          <p:nvPr/>
        </p:nvCxnSpPr>
        <p:spPr>
          <a:xfrm flipH="1" flipV="1">
            <a:off x="1571400" y="4571640"/>
            <a:ext cx="4500720" cy="2160"/>
          </a:xfrm>
          <a:prstGeom prst="straightConnector1">
            <a:avLst/>
          </a:prstGeom>
          <a:ln w="9360">
            <a:solidFill>
              <a:srgbClr val="065093"/>
            </a:solidFill>
            <a:miter/>
            <a:tailEnd len="med" type="arrow" w="med"/>
          </a:ln>
        </p:spPr>
      </p:cxnSp>
      <p:sp>
        <p:nvSpPr>
          <p:cNvPr id="230" name="13 CuadroTexto"/>
          <p:cNvSpPr/>
          <p:nvPr/>
        </p:nvSpPr>
        <p:spPr>
          <a:xfrm>
            <a:off x="2684160" y="4643280"/>
            <a:ext cx="153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19 Flecha curvada hacia la izquierda"/>
          <p:cNvSpPr/>
          <p:nvPr/>
        </p:nvSpPr>
        <p:spPr>
          <a:xfrm>
            <a:off x="6929280" y="4000680"/>
            <a:ext cx="285840" cy="428400"/>
          </a:xfrm>
          <a:custGeom>
            <a:avLst/>
            <a:gdLst>
              <a:gd name="textAreaLeft" fmla="*/ 38160 w 285840"/>
              <a:gd name="textAreaRight" fmla="*/ 247680 w 285840"/>
              <a:gd name="textAreaTop" fmla="*/ 80280 h 428400"/>
              <a:gd name="textAreaBottom" fmla="*/ 3124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3327084"/>
                <a:lnTo>
                  <a:pt x="5400" y="21343"/>
                </a:lnTo>
                <a:lnTo>
                  <a:pt x="0" y="18000"/>
                </a:lnTo>
                <a:lnTo>
                  <a:pt x="5400" y="14143"/>
                </a:lnTo>
                <a:lnTo>
                  <a:pt x="5400" y="15943"/>
                </a:lnTo>
                <a:arcTo wR="21600" hR="8100" stAng="3327084" swAng="-3033971"/>
                <a:lnTo>
                  <a:pt x="21060" y="9900"/>
                </a:lnTo>
                <a:arcTo wR="21600" hR="8100" stAng="-293113" swAng="-5106887"/>
                <a:close/>
              </a:path>
              <a:path fill="darkenLess" w="21600" h="21600">
                <a:moveTo>
                  <a:pt x="0" y="0"/>
                </a:moveTo>
                <a:arcTo wR="21600" hR="8100" stAng="-5400000" swAng="5400000"/>
                <a:lnTo>
                  <a:pt x="21600" y="11700"/>
                </a:lnTo>
                <a:arcTo wR="21600" hR="8100" stAng="0" swAng="-293113"/>
                <a:lnTo>
                  <a:pt x="21060" y="9900"/>
                </a:lnTo>
                <a:arcTo wR="21600" hR="8100" stAng="-293113" swAng="-5106887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20 CuadroTexto"/>
          <p:cNvSpPr/>
          <p:nvPr/>
        </p:nvSpPr>
        <p:spPr>
          <a:xfrm>
            <a:off x="7189920" y="4000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ódigo 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¿Como Insertar Codigo PHP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tml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title&gt;Ejemplo PHP&lt;/title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ead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&lt;?php print("Hola, este es un ejemplo con 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ff0000"/>
                </a:solidFill>
                <a:latin typeface="Constantia"/>
              </a:rPr>
              <a:t>PHP!“); 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body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/html&gt;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Variab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anteponer un signo ‘$’ delante del nombr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es necesaria la definición explicita del tipo de dato. Este viene dado por el contex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java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Int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numero = 1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String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 frase = new String(‘hola mundo’);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13800" indent="-2358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n PHP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numero = 1;    // es un numero 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877680" indent="-236160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ff0000"/>
                </a:solidFill>
                <a:latin typeface="Constantia"/>
              </a:rPr>
              <a:t>$</a:t>
            </a: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frase   = ‘hola mundo’;  //es un string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mprimir una variab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jemplo (Creamos el archivo inicio.ph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texto = “Hola Mundo”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t($texto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rregl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$d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4 Rectángulo"/>
          <p:cNvSpPr/>
          <p:nvPr/>
        </p:nvSpPr>
        <p:spPr>
          <a:xfrm>
            <a:off x="857160" y="392904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6 Conector recto"/>
          <p:cNvSpPr/>
          <p:nvPr/>
        </p:nvSpPr>
        <p:spPr>
          <a:xfrm flipH="1">
            <a:off x="149868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0 Conector recto"/>
          <p:cNvSpPr/>
          <p:nvPr/>
        </p:nvSpPr>
        <p:spPr>
          <a:xfrm flipH="1">
            <a:off x="278460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2 Conector recto"/>
          <p:cNvSpPr/>
          <p:nvPr/>
        </p:nvSpPr>
        <p:spPr>
          <a:xfrm flipH="1">
            <a:off x="428472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4 Conector recto"/>
          <p:cNvSpPr/>
          <p:nvPr/>
        </p:nvSpPr>
        <p:spPr>
          <a:xfrm flipH="1">
            <a:off x="5000760" y="3930480"/>
            <a:ext cx="144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6 Conector recto"/>
          <p:cNvSpPr/>
          <p:nvPr/>
        </p:nvSpPr>
        <p:spPr>
          <a:xfrm flipH="1">
            <a:off x="6571800" y="3930480"/>
            <a:ext cx="1800" cy="6429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7 CuadroTexto"/>
          <p:cNvSpPr/>
          <p:nvPr/>
        </p:nvSpPr>
        <p:spPr>
          <a:xfrm>
            <a:off x="10458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8 CuadroTexto"/>
          <p:cNvSpPr/>
          <p:nvPr/>
        </p:nvSpPr>
        <p:spPr>
          <a:xfrm>
            <a:off x="1765080" y="407196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9 CuadroTexto"/>
          <p:cNvSpPr/>
          <p:nvPr/>
        </p:nvSpPr>
        <p:spPr>
          <a:xfrm>
            <a:off x="3198600" y="4071960"/>
            <a:ext cx="6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H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20 CuadroTexto"/>
          <p:cNvSpPr/>
          <p:nvPr/>
        </p:nvSpPr>
        <p:spPr>
          <a:xfrm>
            <a:off x="4494600" y="407196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21 CuadroTexto"/>
          <p:cNvSpPr/>
          <p:nvPr/>
        </p:nvSpPr>
        <p:spPr>
          <a:xfrm>
            <a:off x="5160960" y="407196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13212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22 CuadroTexto"/>
          <p:cNvSpPr/>
          <p:nvPr/>
        </p:nvSpPr>
        <p:spPr>
          <a:xfrm>
            <a:off x="7128000" y="4071960"/>
            <a:ext cx="7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C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25 Rectángulo"/>
          <p:cNvSpPr/>
          <p:nvPr/>
        </p:nvSpPr>
        <p:spPr>
          <a:xfrm>
            <a:off x="857160" y="3286080"/>
            <a:ext cx="74296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27 Conector recto"/>
          <p:cNvSpPr/>
          <p:nvPr/>
        </p:nvSpPr>
        <p:spPr>
          <a:xfrm flipH="1">
            <a:off x="149868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29 Conector recto"/>
          <p:cNvSpPr/>
          <p:nvPr/>
        </p:nvSpPr>
        <p:spPr>
          <a:xfrm flipH="1">
            <a:off x="278460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1 Conector recto"/>
          <p:cNvSpPr/>
          <p:nvPr/>
        </p:nvSpPr>
        <p:spPr>
          <a:xfrm flipH="1">
            <a:off x="428472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33 Conector recto"/>
          <p:cNvSpPr/>
          <p:nvPr/>
        </p:nvSpPr>
        <p:spPr>
          <a:xfrm flipH="1">
            <a:off x="5000760" y="3286080"/>
            <a:ext cx="144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34 Conector recto"/>
          <p:cNvSpPr/>
          <p:nvPr/>
        </p:nvSpPr>
        <p:spPr>
          <a:xfrm flipH="1">
            <a:off x="6571800" y="3286080"/>
            <a:ext cx="1800" cy="6444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35 CuadroTexto"/>
          <p:cNvSpPr/>
          <p:nvPr/>
        </p:nvSpPr>
        <p:spPr>
          <a:xfrm>
            <a:off x="107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36 CuadroTexto"/>
          <p:cNvSpPr/>
          <p:nvPr/>
        </p:nvSpPr>
        <p:spPr>
          <a:xfrm>
            <a:off x="176004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37 CuadroTexto"/>
          <p:cNvSpPr/>
          <p:nvPr/>
        </p:nvSpPr>
        <p:spPr>
          <a:xfrm>
            <a:off x="32086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38 CuadroTexto"/>
          <p:cNvSpPr/>
          <p:nvPr/>
        </p:nvSpPr>
        <p:spPr>
          <a:xfrm>
            <a:off x="449172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39 CuadroTexto"/>
          <p:cNvSpPr/>
          <p:nvPr/>
        </p:nvSpPr>
        <p:spPr>
          <a:xfrm>
            <a:off x="528516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40 CuadroTexto"/>
          <p:cNvSpPr/>
          <p:nvPr/>
        </p:nvSpPr>
        <p:spPr>
          <a:xfrm>
            <a:off x="7136280" y="3429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8:49:00Z</dcterms:created>
  <dc:creator>Pedro</dc:creator>
  <dc:description/>
  <dc:language>en-US</dc:language>
  <cp:lastModifiedBy>Pedro</cp:lastModifiedBy>
  <dcterms:modified xsi:type="dcterms:W3CDTF">2008-04-23T01:21:47Z</dcterms:modified>
  <cp:revision>40</cp:revision>
  <dc:subject/>
  <dc:title>Guía PHP</dc:title>
</cp:coreProperties>
</file>