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2543-24CD-466A-BB03-8922B14697D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B491-57AD-43CD-ABEE-250EEF4C1D5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4C4-6595-48FF-B28E-53073159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9C8-BF0D-4A10-BA95-66AEF943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EFB-6488-4FC6-84C5-251FFA1E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78C-83CC-41CB-AD4A-2AB302A2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1A08-5D05-42B1-8482-D5710513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8242-00E3-4182-8737-37DD4EAB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A1DE-8CBE-4567-8503-1AA53111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8C64-E17C-4C68-B343-75D507AA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1296-0DE2-43F6-BC5D-4D6AA357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4741-58A8-4079-9074-7EE94AD9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E3B1-0834-45E3-BAAF-E25695FB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B50-0BF0-4DF6-A780-DA918EF8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6589-F6DF-4709-8536-C0F482FD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6D48-0FB0-4A9A-ACFE-536D06FE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AD0A-9011-490C-A774-D6A71281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DCB8-6D10-4A15-A4E5-0BF5E3F5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E6EB-F400-4022-94C7-AF8E4F18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C8BA-EE99-4C84-BFFD-B7F58074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A8D1D-24FA-4FF5-8D2F-368BB24C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953F-38E2-4892-B759-53BAF8BE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4CD21-A6B6-4736-8807-130303FB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DAE1-805F-4B4E-85CE-84F2235C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67F-9F6C-4E83-A18D-AA79409D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D4426-EBC9-4F8B-B053-65B7CDEA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FB464-B9AC-4232-95CE-EF5722CD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4060F-B4CD-4380-B7DD-E03655FF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B3AF-2B7E-4114-978E-AA07F73F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B94E-0D57-40F0-A859-44922E63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280E-8F47-4473-8FA0-413D811C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ECBA-CA1A-44F3-A305-FC067BC4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E4157-F818-49EF-A344-160ADAED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AF7B-F115-47EB-BD5F-46784818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4DC05-DB7C-4775-8F6C-31E67AED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F80-E2D2-4860-A55A-265FB430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F4C18-2D29-4B5E-93E2-4334A732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9868-D647-46D5-8EC1-84041989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FE2F-856E-422C-BCD6-69A2C1AD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0AD38-97A3-454D-B17B-83B7079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12869-752A-47B7-B9D9-D8CF294F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E16E2-4D06-4611-B2C0-23624C73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F3E70-9B30-4411-B8B5-0FAF3951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A4504-DDF9-483F-AE95-7B886673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1A989-5B17-4044-822F-4F6E637A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46F-3814-4CCC-96C7-D75265A3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517-B300-47AA-A471-08914EC4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BFD-7175-4182-996A-A9765F71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3FE-E5E0-41D0-B30D-985D8D55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112-7B1E-41D2-B82C-F0152A8C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8CEA-4A72-4141-AA26-ABA0FF2D1612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8D63-73EF-491F-9C2F-3E80D721EF10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223D-CC1C-4D4D-83F1-62951C3B7AC6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AE90-2CDF-40F5-858D-5BD2ED25825D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Taller de Proyect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4 Conector recto"/>
          <p:cNvSpPr/>
          <p:nvPr/>
        </p:nvSpPr>
        <p:spPr>
          <a:xfrm flipH="1">
            <a:off x="5143680" y="392904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33 Conector recto"/>
          <p:cNvSpPr/>
          <p:nvPr/>
        </p:nvSpPr>
        <p:spPr>
          <a:xfrm flipH="1">
            <a:off x="5143680" y="32860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38 CuadroTexto"/>
          <p:cNvSpPr/>
          <p:nvPr/>
        </p:nvSpPr>
        <p:spPr>
          <a:xfrm>
            <a:off x="4494960" y="34290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39 CuadroTexto"/>
          <p:cNvSpPr/>
          <p:nvPr/>
        </p:nvSpPr>
        <p:spPr>
          <a:xfrm>
            <a:off x="5250960" y="34290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40 CuadroTexto"/>
          <p:cNvSpPr/>
          <p:nvPr/>
        </p:nvSpPr>
        <p:spPr>
          <a:xfrm>
            <a:off x="7104240" y="34290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0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Joh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2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Ho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id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valor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2132121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Cl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(Modificamos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               = “PHP es 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 = “Sencill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1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‘nombre’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 $i &lt; 10 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for( $i=0;  $i &lt; 10;  $i=$i++ 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 = 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true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if($i&lt;=10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i\n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perador Log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amp;&amp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||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Igual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!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Distinto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5467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 (Modificamos inicio.ph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form method=“</a:t>
            </a:r>
            <a:r>
              <a:rPr b="0" lang="es-CL" sz="2000" spc="-1" strike="noStrike">
                <a:solidFill>
                  <a:srgbClr val="ff0000"/>
                </a:solidFill>
                <a:latin typeface="Constantia"/>
              </a:rPr>
              <a:t>GET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“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text” size=“8” name=“nombre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sswo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password” size=“8” name="pass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"submit" value="CONTINUAR"&gt;&lt;/td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Reque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(La variable se envia de forma invisibl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(Las variables son visibles en la direcc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?id=Hola&amp;pass=passwo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-304920" y="4786200"/>
            <a:ext cx="9448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 y 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REQUE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 REQUE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Qué es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HP, acrónimo de "</a:t>
            </a:r>
            <a:r>
              <a:rPr b="1" lang="pt-BR" sz="2600" spc="-1" strike="noStrike">
                <a:solidFill>
                  <a:srgbClr val="000000"/>
                </a:solidFill>
                <a:latin typeface="Constantia"/>
              </a:rPr>
              <a:t>PHP: Hypertext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processor", es un lenguaje interpretado d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embebido en páginas HTML. La mayoría de su sintaxis es similar a C, Java y Perl, con solamente un par de caracteristicas PHP específicas. La meta de este lenguaje es permitir escribir a los creadores de páginas web, páginas dinámicas de una manera rápida y fác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nte: manual de 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jemplo (Agregamos el siguiente código al archivo inicio.php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nombre es &lt;?php print($_REQUEST[‘nombre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clave es &lt;?php print($_REQUEST[‘pass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cribir un arch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ile_put_contents(‘/home/user/a.txt’, “hola a todos”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r un archivo a un arreg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lineas = file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 un archivo entero en una cade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archivo = file_get_contents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(Agregamos el siguiente código al archivo inicio.php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$txt = “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Tu nombre es ”.$_REQUEST[‘nombre’].” \n Tu clave es “. $_REQUEST[‘pass’]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ile_put_contents(‘texto.txt’, $txt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**Verificar permi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hmod 777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leer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texto = file (‘texto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0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1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m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 ‘este’,  ‘es’,  ‘un’,  ‘texto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= implode(‘ ’, $va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 es un 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#es#un#texto’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 = explode(‘#’, $txt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0] = ‘este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1] = ‘es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2] = ‘un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3] = ‘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1,2,3,4,5,6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numer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$numer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d_persona’ =&gt; 304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mbre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john’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ellido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doe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llave =&gt; $dat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llave tiene valor $dat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ferenc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ttp://www.php.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785760" y="3214440"/>
            <a:ext cx="1357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09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1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16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8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25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7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0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9 Flecha curvada hacia la izquierda"/>
          <p:cNvSpPr/>
          <p:nvPr/>
        </p:nvSpPr>
        <p:spPr>
          <a:xfrm>
            <a:off x="6929280" y="4000680"/>
            <a:ext cx="285840" cy="428400"/>
          </a:xfrm>
          <a:custGeom>
            <a:avLst/>
            <a:gdLst>
              <a:gd name="textAreaLeft" fmla="*/ 38160 w 285840"/>
              <a:gd name="textAreaRight" fmla="*/ 247680 w 285840"/>
              <a:gd name="textAreaTop" fmla="*/ 80280 h 428400"/>
              <a:gd name="textAreaBottom" fmla="*/ 312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0 CuadroTexto"/>
          <p:cNvSpPr/>
          <p:nvPr/>
        </p:nvSpPr>
        <p:spPr>
          <a:xfrm>
            <a:off x="7189920" y="40006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Como Insertar Codigo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title&gt;Ejemplo PHP&lt;/title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&lt;?php print("Hola, este es un ejemplo con 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PHP!“); 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tml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Vari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be anteponer un signo ‘$’ delante del nomb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es necesaria la definición explicita del tipo de dato. Este viene dado por el contex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java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Int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numero = 1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String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frase = new String(‘hola mundo’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PHP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numero = 1;    // es un numero 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rase   = ‘hola mundo’;  //es un str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rimir una vari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4 Conector recto"/>
          <p:cNvSpPr/>
          <p:nvPr/>
        </p:nvSpPr>
        <p:spPr>
          <a:xfrm flipH="1">
            <a:off x="500076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3 Conector recto"/>
          <p:cNvSpPr/>
          <p:nvPr/>
        </p:nvSpPr>
        <p:spPr>
          <a:xfrm flipH="1">
            <a:off x="500076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8 CuadroTexto"/>
          <p:cNvSpPr/>
          <p:nvPr/>
        </p:nvSpPr>
        <p:spPr>
          <a:xfrm>
            <a:off x="449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9 CuadroTexto"/>
          <p:cNvSpPr/>
          <p:nvPr/>
        </p:nvSpPr>
        <p:spPr>
          <a:xfrm>
            <a:off x="528516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0 CuadroTexto"/>
          <p:cNvSpPr/>
          <p:nvPr/>
        </p:nvSpPr>
        <p:spPr>
          <a:xfrm>
            <a:off x="71362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8:49:00Z</dcterms:created>
  <dc:creator>Pedro</dc:creator>
  <dc:description/>
  <dc:language>en-US</dc:language>
  <cp:lastModifiedBy>Pedro</cp:lastModifiedBy>
  <dcterms:modified xsi:type="dcterms:W3CDTF">2008-04-23T01:21:47Z</dcterms:modified>
  <cp:revision>40</cp:revision>
  <dc:subject/>
  <dc:title>Guía PHP</dc:title>
</cp:coreProperties>
</file>