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10F-750C-460C-AD0C-4C85FEB1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7127-39BC-44C4-ADAC-DB6CE402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A108-D0A1-476E-937E-2EB2771C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240-4F63-4AB1-AFB0-8D131CAF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3D0-8045-498B-AD65-65F3B6EE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5EE1-8168-44C8-A7CA-46D4476D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2CE-91E0-4945-A3E5-D07E5E9B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8C2A-B1E0-4CA4-A5B5-B22183D5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4F1-469D-4BCB-8012-47EDA554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75B-90B6-4D45-96D4-B82CE0EE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6F95-5E47-4B5C-B168-43D69DEA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DB13-EF9B-4544-B771-5A100784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E4A9-8B3D-4FB1-9CDA-86CD6FF72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523880" y="1905120"/>
          <a:ext cx="6096240" cy="2971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pax/bus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US$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icul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qu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429360" y="86364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os de b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c</cp:lastModifiedBy>
  <dcterms:modified xsi:type="dcterms:W3CDTF">2003-10-14T15:13:07Z</dcterms:modified>
  <cp:revision>4</cp:revision>
  <dc:subject/>
  <dc:title>Presentación de PowerPoint</dc:title>
</cp:coreProperties>
</file>