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DF9-19D7-4926-A5EC-A32B5120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081-93D4-4110-9E6D-D7AFBE49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60D-60E4-47DF-AD83-2E3185CA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320-BB6D-4D11-A2F7-722B6B19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08B-3AC5-46B8-B799-BE0FB909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AE4-4554-4B5D-929F-90E208BA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7D8-C1AC-441D-96F0-E4C4E5A9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965-E377-42D3-B42C-5C86A8BB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6E2-C22D-479A-AD50-215B7F95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A6B-3EAA-4CEC-80E7-E75BC93B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1E1-5832-4872-B383-94CB37D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84A-B6A0-49DA-8EF8-647F254E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F2E2-6CEA-4CB4-B534-C650D9216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c</cp:lastModifiedBy>
  <dcterms:modified xsi:type="dcterms:W3CDTF">2003-10-14T15:13:07Z</dcterms:modified>
  <cp:revision>4</cp:revision>
  <dc:subject/>
  <dc:title>Presentación de PowerPoint</dc:title>
</cp:coreProperties>
</file>