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7C7-3498-4619-A094-1ED9BB41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F96-01A4-472E-AB78-4D9B0BCA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50F-C412-45D2-B6D4-471DCDB1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CFB-CAEB-4D65-87C6-94B4DF82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018-B9BF-4BF8-A00C-16B7A381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AC2-ACC7-4071-A3A7-1D0D6302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E7D-C60D-40C1-A074-85F74571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9DF-0194-4247-BC61-643B5A11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85A-99E8-4103-A972-C51E0E82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33B-9228-46F7-A675-A9778DBC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BE4-A00B-4294-BB3B-E4AE3A3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30D-5BDC-4F43-A70E-6995C07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4A9-F085-49E1-B2BA-4CFFAF992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c</cp:lastModifiedBy>
  <dcterms:modified xsi:type="dcterms:W3CDTF">2003-10-14T15:13:07Z</dcterms:modified>
  <cp:revision>4</cp:revision>
  <dc:subject/>
  <dc:title>Presentación de PowerPoint</dc:title>
</cp:coreProperties>
</file>