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C9B0-690A-4C3D-AA5E-68D97E4C3D2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D021-DA44-49A4-97EA-6400442187E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B43-9C13-4296-9AAA-6CD269A6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643-F310-4AC2-98F5-2E98DA8C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2B3-980B-4770-BF3D-8B47F1DF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515-DAF5-4C5B-B3BE-1B729E80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CAB7-E774-47EA-B24E-A69FE09A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B681-FF25-49D9-9FF6-5F28B543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C7B7-42C1-4B0B-AF34-67FB8D22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9624-B425-412F-8230-A1AA5CAC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4FB-5D4B-4585-97B4-9DB35CCB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56F4-6F3B-43FF-96C7-04E26F24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19BA-274D-419F-AF8F-703E2137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19C-01C8-4053-9C22-9D5375F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1DF6-7152-43AE-8548-1CC795C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5F6D-81E7-4A13-831C-E23176E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08B4-DBC4-4586-9CB3-8AA97F5D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E55F-89A8-4873-B969-BB128E37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AC13-86EE-481A-BBD2-E23610C7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5B18-53BA-4591-B26B-B3901310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1440-A936-43D3-9FA4-FAFEC9C5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21EE-FA68-4DA9-A814-E28EA8A4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B9C7-50E1-44D8-A88E-A7AC5116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0C95-E276-4060-AC05-936E5403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564-6463-46CC-AF5C-C6540080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BB39-1FBC-46F8-8098-B4C0F37A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BC1C-6D97-416F-88B1-8EC5E7D7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301A-C9C0-472E-8E95-8DFE3CD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ED38-6D78-4219-8F08-1E4564A8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54D2-C5F8-4A64-AAFF-9393D416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AF39-2B66-47C9-8CFB-B516DE20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1EA9-144B-4AC7-981D-71BC6E60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A9B1-8861-4CB9-90D3-BDE56B9B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79427-3F11-4B20-BB4E-91588466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99D14-A72B-4D1F-89E4-AAFCDE03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48C-4E77-4FC3-A6F1-33A6A18E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3089-A6B4-42DD-A97E-AAEF4A89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1A93F-8C6D-4867-9F4D-EBAFBF19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609A-FCF8-4B0A-80F5-B5C4D417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34CE-E311-48E2-987F-080A56A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2C5BD-48A7-46F4-8438-E90CD0F6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F625-24C2-4E5E-87FB-2802BA5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9CF97-2E09-490D-B08D-5885E022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806A-2200-42BE-A026-29FA5FCA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E8FF3-BB4D-4781-A421-A4DE57B3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46C-59ED-48B0-BEF3-99125050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A15-FC24-4203-BB92-2E0A7F9B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7B7-CF39-4236-9EDE-26C12D08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C84-A07F-407A-B823-8389A1EF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3EE-8CB1-40D1-8445-0B518652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B9E5-ED89-44DD-BC0C-1F488804D149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63D0-DB28-4ED5-A019-B5EC42F0635E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B6E2-7DD1-4634-9FE9-262F072F104F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C5B2-347A-40DC-B322-D6421CDBF270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aller de Proyect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4 Conector recto"/>
          <p:cNvSpPr/>
          <p:nvPr/>
        </p:nvSpPr>
        <p:spPr>
          <a:xfrm flipH="1">
            <a:off x="5143680" y="392904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33 Conector recto"/>
          <p:cNvSpPr/>
          <p:nvPr/>
        </p:nvSpPr>
        <p:spPr>
          <a:xfrm flipH="1">
            <a:off x="5143680" y="32860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8 CuadroTexto"/>
          <p:cNvSpPr/>
          <p:nvPr/>
        </p:nvSpPr>
        <p:spPr>
          <a:xfrm>
            <a:off x="4494960" y="34290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39 CuadroTexto"/>
          <p:cNvSpPr/>
          <p:nvPr/>
        </p:nvSpPr>
        <p:spPr>
          <a:xfrm>
            <a:off x="5250960" y="3429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40 CuadroTexto"/>
          <p:cNvSpPr/>
          <p:nvPr/>
        </p:nvSpPr>
        <p:spPr>
          <a:xfrm>
            <a:off x="7104240" y="342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0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Joh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2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H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id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valor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213212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Cl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(Modificamos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               = “PHP es 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 = “Sencill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1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‘nombre’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 $i &lt; 10 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for( $i=0;  $i &lt; 10;  $i=$i++ 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 = 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true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if($i&lt;=10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i\n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perador Log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amp;&amp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||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Igual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!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Distinto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67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 (Modificamos inicio.ph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form method=“</a:t>
            </a:r>
            <a:r>
              <a:rPr b="0" lang="es-CL" sz="2000" spc="-1" strike="noStrike">
                <a:solidFill>
                  <a:srgbClr val="ff0000"/>
                </a:solidFill>
                <a:latin typeface="Constantia"/>
              </a:rPr>
              <a:t>GET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“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text” size=“8” name=“nombre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password” size=“8” name="pass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Requ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(La variable se envia de forma invisibl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(Las variables son visibles en la direcc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?id=Hola&amp;pass=pass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-304920" y="4786200"/>
            <a:ext cx="9448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 y 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REQUE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 REQUE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Qué es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HP, acrónimo de "</a:t>
            </a: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PHP: Hypertext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processor", es un lenguaje interpretado d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nte: manual de 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jemplo (Agregamos el siguiente código al archivo inicio.ph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nombre es &lt;?php print($_REQUEST[‘nombre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clave es &lt;?php print($_REQUEST[‘pass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cribir un arch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le_put_contents(‘/home/user/a.txt’, “hola a todos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r un archivo a un arreg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lineas = file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 un archivo entero en una cade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archivo = file_get_contents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(Agregamos el siguiente código al archivo inicio.php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$txt = “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Tu nombre es ”.$_REQUEST[‘nombre’].” \n Tu clave es “. $_REQUEST[‘pass’]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ile_put_contents(‘texto.txt’, $txt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**Verificar permi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hmod 777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leer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texto = file (‘texto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0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1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m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 ‘este’,  ‘es’,  ‘un’,  ‘texto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= implode(‘ ’, $va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 es un 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#es#un#texto’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 = explode(‘#’, $txt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0] = ‘este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1] = ‘es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2] = ‘u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3] = ‘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1,2,3,4,5,6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numer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$numer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d_persona’ =&gt; 304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mbre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john’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ellido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doe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llave =&gt; $dat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llave tiene valor $dat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ferenc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ttp://www.php.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85760" y="3214440"/>
            <a:ext cx="135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09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16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25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7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0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Flecha curvada hacia la izquierda"/>
          <p:cNvSpPr/>
          <p:nvPr/>
        </p:nvSpPr>
        <p:spPr>
          <a:xfrm>
            <a:off x="6929280" y="4000680"/>
            <a:ext cx="285840" cy="428400"/>
          </a:xfrm>
          <a:custGeom>
            <a:avLst/>
            <a:gdLst>
              <a:gd name="textAreaLeft" fmla="*/ 38160 w 285840"/>
              <a:gd name="textAreaRight" fmla="*/ 247680 w 285840"/>
              <a:gd name="textAreaTop" fmla="*/ 80280 h 428400"/>
              <a:gd name="textAreaBottom" fmla="*/ 312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CuadroTexto"/>
          <p:cNvSpPr/>
          <p:nvPr/>
        </p:nvSpPr>
        <p:spPr>
          <a:xfrm>
            <a:off x="7189920" y="40006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Como Insertar Codigo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title&gt;Ejemplo PHP&lt;/title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&lt;?php print("Hola, este es un ejemplo con 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PHP!“); 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tml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Vari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anteponer un signo ‘$’ delante del nomb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s necesaria la definición explicita del tipo de dato. Este viene dado por el contex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java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Int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numero = 1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String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frase = new String(‘hola mundo’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PHP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umero = 1;    // es un numero 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rase   = ‘hola mundo’;  //es un str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rimir una vari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4 Conector recto"/>
          <p:cNvSpPr/>
          <p:nvPr/>
        </p:nvSpPr>
        <p:spPr>
          <a:xfrm flipH="1">
            <a:off x="500076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3 Conector recto"/>
          <p:cNvSpPr/>
          <p:nvPr/>
        </p:nvSpPr>
        <p:spPr>
          <a:xfrm flipH="1">
            <a:off x="500076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8 CuadroTexto"/>
          <p:cNvSpPr/>
          <p:nvPr/>
        </p:nvSpPr>
        <p:spPr>
          <a:xfrm>
            <a:off x="449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9 CuadroTexto"/>
          <p:cNvSpPr/>
          <p:nvPr/>
        </p:nvSpPr>
        <p:spPr>
          <a:xfrm>
            <a:off x="528516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0 CuadroTexto"/>
          <p:cNvSpPr/>
          <p:nvPr/>
        </p:nvSpPr>
        <p:spPr>
          <a:xfrm>
            <a:off x="71362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49:00Z</dcterms:created>
  <dc:creator>Pedro</dc:creator>
  <dc:description/>
  <dc:language>en-US</dc:language>
  <cp:lastModifiedBy>Pedro</cp:lastModifiedBy>
  <dcterms:modified xsi:type="dcterms:W3CDTF">2008-04-23T01:21:47Z</dcterms:modified>
  <cp:revision>40</cp:revision>
  <dc:subject/>
  <dc:title>Guía PHP</dc:title>
</cp:coreProperties>
</file>