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</p:sldIdLst>
  <p:sldSz cx="9144000" cy="6858000"/>
  <p:notesSz cx="7023100" cy="9309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7023600" cy="930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978000" y="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84040" y="698040"/>
            <a:ext cx="4654440" cy="3490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3240" rIns="9324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9960" cy="41893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97800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05D4D-862A-4581-96AA-5DA00C0F5165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996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3 Marcador de número de diapositiva"/>
          <p:cNvSpPr/>
          <p:nvPr/>
        </p:nvSpPr>
        <p:spPr>
          <a:xfrm>
            <a:off x="3978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26489-EDF4-4D25-B3AF-5DF943B858A0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D3A27-AF6F-41F9-A82D-55137C403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0FC43-67A0-4B5B-BAB8-CE02CD413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B192E-91C1-4CE0-836A-E1622D678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134A8-E2B2-4D22-947A-106443978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63D0A-F74D-4BFB-815C-9D24D1B60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55458-314E-4CBD-B668-5BEFAD4A4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77C4F-0F35-4FB1-8EA5-1E295490B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A4B61-763C-4DD5-A83B-BAE381E3A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67675-EDFC-4EC1-8F01-C060E32BB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97BCC-CA63-47F4-834D-0356873D8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71EBB-179A-4D47-8F94-E93967D7F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8E4F8-BD42-4B1E-A4F6-B180C8F52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EBBFC-B4E5-4020-BFD4-E50E2BA51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47479-3D17-48CD-826F-D409D3979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CEAF6-B7F0-46A4-9A73-52294EC7C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283CC-3C4B-481A-A918-52BD33654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8B80D-1652-422C-8BE7-7165F0D3F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950CDE-4E1A-41B7-B1D3-A915BFE68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D22E86-B8AF-4272-8324-FFCA6C2CB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AD8D28-88B5-486F-A52C-06AA79B77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146A44-C904-4890-AAAE-BB35587C8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C259BF-033E-4C55-8B4C-262C29AEE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8B870-4F06-4A07-BAF1-352FFDDF5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BFE1C1-E132-4F86-9374-C27B4855B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1035DA-7A11-41AC-8D5E-724C1ADB2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4A14E2-D1C6-4BE8-B23E-B715DF6FD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AF3A9E-EBFD-4964-A194-10C32B0D7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C8D743-61EC-4903-B128-3D7044C13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F9C7FC-36B8-4B6D-9E05-C308501F0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97406E-E9E6-4F54-B500-0B34916D2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06A09D-601C-43BD-97AD-E863EA1B0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F18586-1B87-491B-9B83-CD06374F9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02BDE2-5C87-4BC3-838D-712446D2D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06446-0233-4EC6-83BA-0F2AADFE9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96F2E4-A7F7-49D3-B9BC-2C83BB4F2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990FCD-C0CC-4495-BDD8-8D6E95966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8E2B16-2C7B-4956-959F-024D27B55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39E2A2-AD69-4D00-BDC3-FB0EDF59A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C93EDA-EA1D-44A0-A042-32F9EC402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957653-3ADD-4E03-8BC2-06FFC5595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FE9A58-B072-4C95-8EE2-078EB10CC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5B982C-29C5-4358-967C-7610645D4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8DFCAB-92C8-42A0-AFDF-9A9670D50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28C13-807E-47CC-84B6-919F91824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AEF90-851A-41A4-A2CE-D4BA4B201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289BD-40DD-4DB5-80D8-E02AB93E4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588EA-F8EB-4F5C-8F5F-3DAE28E74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9C63F-07B0-499F-BADA-F41AC2DBC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F30A7-F8F0-44AB-8024-FE518FF3F486}" type="slidenum">
              <a:rPr b="0" lang="es-CL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71ADE-5477-4B1B-B765-A1A33F16B253}" type="slidenum">
              <a:rPr b="0" lang="es-CL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B7E4A-5B17-417D-B00F-42C50AF314AA}" type="slidenum">
              <a:rPr b="0" lang="es-CL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13 Recortar y redondear rectángulo de esquina sencilla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14 Triángulo rectángulo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15 Forma libre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16 Forma libre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600D0-F992-4068-8140-348ED10D0536}" type="slidenum">
              <a:rPr b="0" lang="es-CL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8.jpeg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1 Título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308800" cy="190188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Constantia"/>
              </a:rPr>
              <a:t>Taller de Proyecto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Arreglos Asociativo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$dato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7" name="4 Rectángulo"/>
          <p:cNvSpPr/>
          <p:nvPr/>
        </p:nvSpPr>
        <p:spPr>
          <a:xfrm>
            <a:off x="857160" y="3929040"/>
            <a:ext cx="7429680" cy="642960"/>
          </a:xfrm>
          <a:prstGeom prst="rect">
            <a:avLst/>
          </a:prstGeom>
          <a:solidFill>
            <a:srgbClr val="ffffff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6 Conector recto"/>
          <p:cNvSpPr/>
          <p:nvPr/>
        </p:nvSpPr>
        <p:spPr>
          <a:xfrm flipH="1">
            <a:off x="1498680" y="3930480"/>
            <a:ext cx="1440" cy="64296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10 Conector recto"/>
          <p:cNvSpPr/>
          <p:nvPr/>
        </p:nvSpPr>
        <p:spPr>
          <a:xfrm flipH="1">
            <a:off x="2784600" y="3930480"/>
            <a:ext cx="1440" cy="64296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12 Conector recto"/>
          <p:cNvSpPr/>
          <p:nvPr/>
        </p:nvSpPr>
        <p:spPr>
          <a:xfrm flipH="1">
            <a:off x="4284720" y="3930480"/>
            <a:ext cx="1440" cy="64296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14 Conector recto"/>
          <p:cNvSpPr/>
          <p:nvPr/>
        </p:nvSpPr>
        <p:spPr>
          <a:xfrm flipH="1">
            <a:off x="5143680" y="3929040"/>
            <a:ext cx="1440" cy="64296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16 Conector recto"/>
          <p:cNvSpPr/>
          <p:nvPr/>
        </p:nvSpPr>
        <p:spPr>
          <a:xfrm flipH="1">
            <a:off x="6571800" y="3930480"/>
            <a:ext cx="1800" cy="64296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17 CuadroTexto"/>
          <p:cNvSpPr/>
          <p:nvPr/>
        </p:nvSpPr>
        <p:spPr>
          <a:xfrm>
            <a:off x="1045800" y="407196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nstanti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18 CuadroTexto"/>
          <p:cNvSpPr/>
          <p:nvPr/>
        </p:nvSpPr>
        <p:spPr>
          <a:xfrm>
            <a:off x="1765080" y="407196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nstantia"/>
              </a:rPr>
              <a:t>Joh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19 CuadroTexto"/>
          <p:cNvSpPr/>
          <p:nvPr/>
        </p:nvSpPr>
        <p:spPr>
          <a:xfrm>
            <a:off x="3198600" y="4071960"/>
            <a:ext cx="69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nstantia"/>
              </a:rPr>
              <a:t>Ho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20 CuadroTexto"/>
          <p:cNvSpPr/>
          <p:nvPr/>
        </p:nvSpPr>
        <p:spPr>
          <a:xfrm>
            <a:off x="4494600" y="407196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nstanti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21 CuadroTexto"/>
          <p:cNvSpPr/>
          <p:nvPr/>
        </p:nvSpPr>
        <p:spPr>
          <a:xfrm>
            <a:off x="5160960" y="407196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nstantia"/>
              </a:rPr>
              <a:t>213212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22 CuadroTexto"/>
          <p:cNvSpPr/>
          <p:nvPr/>
        </p:nvSpPr>
        <p:spPr>
          <a:xfrm>
            <a:off x="7128000" y="4071960"/>
            <a:ext cx="74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nstantia"/>
              </a:rPr>
              <a:t>Cl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25 Rectángulo"/>
          <p:cNvSpPr/>
          <p:nvPr/>
        </p:nvSpPr>
        <p:spPr>
          <a:xfrm>
            <a:off x="857160" y="3286080"/>
            <a:ext cx="7429680" cy="642960"/>
          </a:xfrm>
          <a:prstGeom prst="rect">
            <a:avLst/>
          </a:prstGeom>
          <a:solidFill>
            <a:srgbClr val="ffffff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27 Conector recto"/>
          <p:cNvSpPr/>
          <p:nvPr/>
        </p:nvSpPr>
        <p:spPr>
          <a:xfrm flipH="1">
            <a:off x="1498680" y="3286080"/>
            <a:ext cx="1440" cy="64440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29 Conector recto"/>
          <p:cNvSpPr/>
          <p:nvPr/>
        </p:nvSpPr>
        <p:spPr>
          <a:xfrm flipH="1">
            <a:off x="2784600" y="3286080"/>
            <a:ext cx="1440" cy="64440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31 Conector recto"/>
          <p:cNvSpPr/>
          <p:nvPr/>
        </p:nvSpPr>
        <p:spPr>
          <a:xfrm flipH="1">
            <a:off x="4284720" y="3286080"/>
            <a:ext cx="1440" cy="64440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33 Conector recto"/>
          <p:cNvSpPr/>
          <p:nvPr/>
        </p:nvSpPr>
        <p:spPr>
          <a:xfrm flipH="1">
            <a:off x="5143680" y="3286080"/>
            <a:ext cx="1440" cy="64296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34 Conector recto"/>
          <p:cNvSpPr/>
          <p:nvPr/>
        </p:nvSpPr>
        <p:spPr>
          <a:xfrm flipH="1">
            <a:off x="6571800" y="3286080"/>
            <a:ext cx="1800" cy="64440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35 CuadroTexto"/>
          <p:cNvSpPr/>
          <p:nvPr/>
        </p:nvSpPr>
        <p:spPr>
          <a:xfrm>
            <a:off x="1071720" y="342900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nstanti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36 CuadroTexto"/>
          <p:cNvSpPr/>
          <p:nvPr/>
        </p:nvSpPr>
        <p:spPr>
          <a:xfrm>
            <a:off x="1760040" y="342900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nstanti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37 CuadroTexto"/>
          <p:cNvSpPr/>
          <p:nvPr/>
        </p:nvSpPr>
        <p:spPr>
          <a:xfrm>
            <a:off x="3208680" y="342900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nstanti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38 CuadroTexto"/>
          <p:cNvSpPr/>
          <p:nvPr/>
        </p:nvSpPr>
        <p:spPr>
          <a:xfrm>
            <a:off x="4494960" y="3429000"/>
            <a:ext cx="39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nstantia"/>
              </a:rPr>
              <a:t>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39 CuadroTexto"/>
          <p:cNvSpPr/>
          <p:nvPr/>
        </p:nvSpPr>
        <p:spPr>
          <a:xfrm>
            <a:off x="5250960" y="3429000"/>
            <a:ext cx="75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nstantia"/>
              </a:rPr>
              <a:t>val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40 CuadroTexto"/>
          <p:cNvSpPr/>
          <p:nvPr/>
        </p:nvSpPr>
        <p:spPr>
          <a:xfrm>
            <a:off x="7104240" y="3429000"/>
            <a:ext cx="104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nstantia"/>
              </a:rPr>
              <a:t>nomb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Arreglos Asociativo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$datos[0]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#1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$datos[1]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# Joh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$datos[2]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#Hol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$datos[‘id’]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#2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$datos[‘valor’]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# 21321212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$datos[‘nombre’]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# Clas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Arreglos Asociativo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jemplo(Modificamos inicio.php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$datos[1]               = “PHP es ”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$datos[‘nombre’] = “Sencillo”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print($datos[1]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print($datos[‘nombre’]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Iteracion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while ( $i &lt; 10 ){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print($i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$i++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2600" spc="-1" strike="noStrike">
                <a:solidFill>
                  <a:srgbClr val="000000"/>
                </a:solidFill>
                <a:latin typeface="Constantia"/>
              </a:rPr>
              <a:t>for( $i=0;  $i &lt; 10;  $i=$i++ )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{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print ($i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Iteracion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$i = 0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while (true){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nn-NO" sz="26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nn-NO" sz="2600" spc="-1" strike="noStrike">
                <a:solidFill>
                  <a:srgbClr val="000000"/>
                </a:solidFill>
                <a:latin typeface="Constantia"/>
              </a:rPr>
              <a:t>if($i&lt;=10)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{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print “$i\n”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else{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break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$i++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Operador Logico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&amp;&amp;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#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||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#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&lt;=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#Menor o igua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&gt;=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#Mayor o igua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&gt;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#Mayor qu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&lt;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#Menor qu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==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#Igual qu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!=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#Distinto qu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Formulario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302" name="Picture 3" descr=""/>
          <p:cNvPicPr/>
          <p:nvPr/>
        </p:nvPicPr>
        <p:blipFill>
          <a:blip r:embed="rId1"/>
          <a:stretch/>
        </p:blipFill>
        <p:spPr>
          <a:xfrm>
            <a:off x="1857240" y="2214720"/>
            <a:ext cx="5467320" cy="38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Formulario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Ejemplo (Modificamos inicio.php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&lt;form method=“</a:t>
            </a:r>
            <a:r>
              <a:rPr b="0" lang="es-CL" sz="2000" spc="-1" strike="noStrike">
                <a:solidFill>
                  <a:srgbClr val="ff0000"/>
                </a:solidFill>
                <a:latin typeface="Constantia"/>
              </a:rPr>
              <a:t>GET</a:t>
            </a: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“&gt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Nombr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&lt;input type=“text” size=“8” name=“nombre"&gt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Password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&lt;input type=“password” size=“8” name="pass"&gt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&lt;input type="submit" value="CONTINUAR"&gt;&lt;/td&gt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&lt;/form&gt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Tipos de Reques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POST(La variable se envia de forma invisible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21b2c9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21b2c9"/>
                </a:solidFill>
                <a:latin typeface="Constantia"/>
              </a:rPr>
              <a:t>http://www.hola.com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GET(Las variables son visibles en la direccion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21b2c9"/>
                </a:solidFill>
                <a:latin typeface="Constantia"/>
              </a:rPr>
              <a:t>http://www.hola.com?id=Hola&amp;pass=passwor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21b2c9"/>
                </a:solidFill>
                <a:latin typeface="Constantia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07" name="Picture 5" descr=""/>
          <p:cNvPicPr/>
          <p:nvPr/>
        </p:nvPicPr>
        <p:blipFill>
          <a:blip r:embed="rId1"/>
          <a:stretch/>
        </p:blipFill>
        <p:spPr>
          <a:xfrm>
            <a:off x="-304920" y="4786200"/>
            <a:ext cx="9448920" cy="10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Request en PHP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POS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$_POST[‘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nombre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’]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$_POST[‘pass’]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GE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$_GET[‘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nombre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’]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$_GET[‘pass’]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POST y GE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$_REQUEST[‘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nombre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’]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$_ REQUEST[‘pass’]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¿Qué es PHP?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onstantia"/>
              </a:rPr>
              <a:t>PHP, acrónimo de "</a:t>
            </a:r>
            <a:r>
              <a:rPr b="1" lang="pt-BR" sz="2600" spc="-1" strike="noStrike">
                <a:solidFill>
                  <a:srgbClr val="000000"/>
                </a:solidFill>
                <a:latin typeface="Constantia"/>
              </a:rPr>
              <a:t>PHP: Hypertext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Preprocessor", es un lenguaje interpretado de 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alto nivel embebido en páginas HTML. La mayoría de su sintaxis es similar a C, Java y Perl, con solamente un par de caracteristicas PHP específicas. La meta de este lenguaje es permitir escribir a los creadores de páginas web, páginas dinámicas de una manera rápida y fácil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Fuente: manual de 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Request en PHP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nstantia"/>
              </a:rPr>
              <a:t>Ejemplo (Agregamos el siguiente código al archivo inicio.php)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Constantia"/>
              </a:rPr>
              <a:t>Tu nombre es &lt;?php print($_REQUEST[‘nombre’]);?&gt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s-CL" sz="2800" spc="-1" strike="noStrike">
                <a:solidFill>
                  <a:srgbClr val="000000"/>
                </a:solidFill>
                <a:latin typeface="Constantia"/>
              </a:rPr>
              <a:t>&lt;br&gt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s-CL" sz="2800" spc="-1" strike="noStrike">
                <a:solidFill>
                  <a:srgbClr val="000000"/>
                </a:solidFill>
                <a:latin typeface="Constantia"/>
              </a:rPr>
              <a:t>Tu clave es &lt;?php print($_REQUEST[‘pass’]);?&gt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Archivo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scribir un archiv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26760" indent="-24084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file_put_contents(‘/home/user/a.txt’, “hola a todos”)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26760" indent="-240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eer un archivo a un arregl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26760" indent="-24084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$lineas = file(‘/home/user/a.txt’)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26760" indent="-24084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ee un archivo entero en una caden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26760" indent="-24084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$archivo = file_get_contents(‘/home/user/a.txt’)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Archivo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Ejemplo</a:t>
            </a:r>
            <a:r>
              <a:rPr b="0" lang="es-CL" sz="2200" spc="-1" strike="noStrike">
                <a:solidFill>
                  <a:srgbClr val="000000"/>
                </a:solidFill>
                <a:latin typeface="Constantia"/>
              </a:rPr>
              <a:t> (Agregamos el siguiente código al archivo inicio.php)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$txt = “</a:t>
            </a:r>
            <a:r>
              <a:rPr b="0" lang="es-CL" sz="1900" spc="-1" strike="noStrike">
                <a:solidFill>
                  <a:srgbClr val="000000"/>
                </a:solidFill>
                <a:latin typeface="Constantia"/>
              </a:rPr>
              <a:t>Tu nombre es ”.$_REQUEST[‘nombre’].” \n Tu clave es “. $_REQUEST[‘pass’];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1" marL="264600" indent="-26460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Constantia"/>
              </a:rPr>
              <a:t>file_put_contents(‘texto.txt’, $txt);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**Verificar permiso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cd .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chmod 777 pub_www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cd pub_www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Archivo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jemplo (Creamos el archivo leer.php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$texto = file (‘texto.txt’)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print($texto[0])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print($texto[1])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Otras funciones útiles..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Implode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$var = array( ‘este’,  ‘es’,  ‘un’,  ‘texto’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$txt = implode(‘ ’, $var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Resultado: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$txt -&gt; ‘este es un texto’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Otras funciones útiles..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Explode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$txt -&gt; ‘este#es#un#texto’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$resultado = explode(‘#’, $txt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Resultado: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$resultado[0] = ‘este’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$resultado[1] = ‘es’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$resultado[2] = ‘un’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$resultado[3] = ‘texto’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Otras funciones útiles..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Foreach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$var = array(1,2,3,4,5,6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foreach( $var as $numero){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print $numero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Otras funciones útiles..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Foreach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$var = array(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‘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id_persona’ =&gt; 304,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‘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nombre’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=&gt; ‘john’,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‘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apellido’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=&gt; ‘doe’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foreach( $var as $llave =&gt; $dato){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print “$llave tiene valor $dato”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Referencia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http://www.php.ne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785760" y="3214440"/>
            <a:ext cx="1357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FI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1 Título" descr=""/>
          <p:cNvPicPr/>
          <p:nvPr/>
        </p:nvPicPr>
        <p:blipFill>
          <a:blip r:embed="rId1"/>
          <a:stretch/>
        </p:blipFill>
        <p:spPr>
          <a:xfrm>
            <a:off x="73080" y="701640"/>
            <a:ext cx="8699400" cy="115092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2" descr="C:\Documents and Settings\Pedro\Configuración local\Archivos temporales de Internet\Content.IE5\S5A7C5YB\MPj04243890000[1].jpg"/>
          <p:cNvPicPr/>
          <p:nvPr/>
        </p:nvPicPr>
        <p:blipFill>
          <a:blip r:embed="rId2"/>
          <a:stretch/>
        </p:blipFill>
        <p:spPr>
          <a:xfrm>
            <a:off x="428760" y="3857760"/>
            <a:ext cx="1195200" cy="78552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3" descr="C:\Documents and Settings\Pedro\Configuración local\Archivos temporales de Internet\Content.IE5\3LN71IY7\MCj01974380000[1].wmf"/>
          <p:cNvPicPr/>
          <p:nvPr/>
        </p:nvPicPr>
        <p:blipFill>
          <a:blip r:embed="rId3"/>
          <a:stretch/>
        </p:blipFill>
        <p:spPr>
          <a:xfrm>
            <a:off x="6072120" y="3714840"/>
            <a:ext cx="857160" cy="1209600"/>
          </a:xfrm>
          <a:prstGeom prst="rect">
            <a:avLst/>
          </a:prstGeom>
          <a:ln w="0">
            <a:noFill/>
          </a:ln>
        </p:spPr>
      </p:pic>
      <p:sp>
        <p:nvSpPr>
          <p:cNvPr id="209" name="6 CuadroTexto"/>
          <p:cNvSpPr/>
          <p:nvPr/>
        </p:nvSpPr>
        <p:spPr>
          <a:xfrm>
            <a:off x="371880" y="4857840"/>
            <a:ext cx="110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nstantia"/>
              </a:rPr>
              <a:t>Brow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0" name="9 Conector recto de flecha"/>
          <p:cNvCxnSpPr/>
          <p:nvPr/>
        </p:nvCxnSpPr>
        <p:spPr>
          <a:xfrm>
            <a:off x="1643040" y="4000320"/>
            <a:ext cx="4448880" cy="3708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sp>
        <p:nvSpPr>
          <p:cNvPr id="211" name="10 CuadroTexto"/>
          <p:cNvSpPr/>
          <p:nvPr/>
        </p:nvSpPr>
        <p:spPr>
          <a:xfrm>
            <a:off x="3211560" y="3714840"/>
            <a:ext cx="63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nstantia"/>
              </a:rPr>
              <a:t>UR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11 CuadroTexto"/>
          <p:cNvSpPr/>
          <p:nvPr/>
        </p:nvSpPr>
        <p:spPr>
          <a:xfrm>
            <a:off x="6024600" y="5000760"/>
            <a:ext cx="112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nstantia"/>
              </a:rPr>
              <a:t>Servi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1 Título" descr=""/>
          <p:cNvPicPr/>
          <p:nvPr/>
        </p:nvPicPr>
        <p:blipFill>
          <a:blip r:embed="rId1"/>
          <a:stretch/>
        </p:blipFill>
        <p:spPr>
          <a:xfrm>
            <a:off x="73080" y="701640"/>
            <a:ext cx="8699400" cy="115092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2" descr="C:\Documents and Settings\Pedro\Configuración local\Archivos temporales de Internet\Content.IE5\S5A7C5YB\MPj04243890000[1].jpg"/>
          <p:cNvPicPr/>
          <p:nvPr/>
        </p:nvPicPr>
        <p:blipFill>
          <a:blip r:embed="rId2"/>
          <a:stretch/>
        </p:blipFill>
        <p:spPr>
          <a:xfrm>
            <a:off x="428760" y="3857760"/>
            <a:ext cx="1195200" cy="78552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3" descr="C:\Documents and Settings\Pedro\Configuración local\Archivos temporales de Internet\Content.IE5\3LN71IY7\MCj01974380000[1].wmf"/>
          <p:cNvPicPr/>
          <p:nvPr/>
        </p:nvPicPr>
        <p:blipFill>
          <a:blip r:embed="rId3"/>
          <a:stretch/>
        </p:blipFill>
        <p:spPr>
          <a:xfrm>
            <a:off x="6072120" y="3714840"/>
            <a:ext cx="857160" cy="1209600"/>
          </a:xfrm>
          <a:prstGeom prst="rect">
            <a:avLst/>
          </a:prstGeom>
          <a:ln w="0">
            <a:noFill/>
          </a:ln>
        </p:spPr>
      </p:pic>
      <p:sp>
        <p:nvSpPr>
          <p:cNvPr id="216" name="6 CuadroTexto"/>
          <p:cNvSpPr/>
          <p:nvPr/>
        </p:nvSpPr>
        <p:spPr>
          <a:xfrm>
            <a:off x="371880" y="4857840"/>
            <a:ext cx="110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nstantia"/>
              </a:rPr>
              <a:t>Brow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7" name="9 Conector recto de flecha"/>
          <p:cNvCxnSpPr/>
          <p:nvPr/>
        </p:nvCxnSpPr>
        <p:spPr>
          <a:xfrm>
            <a:off x="1643040" y="4000320"/>
            <a:ext cx="4448880" cy="3708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sp>
        <p:nvSpPr>
          <p:cNvPr id="218" name="10 CuadroTexto"/>
          <p:cNvSpPr/>
          <p:nvPr/>
        </p:nvSpPr>
        <p:spPr>
          <a:xfrm>
            <a:off x="3211560" y="3714840"/>
            <a:ext cx="63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nstantia"/>
              </a:rPr>
              <a:t>UR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11 CuadroTexto"/>
          <p:cNvSpPr/>
          <p:nvPr/>
        </p:nvSpPr>
        <p:spPr>
          <a:xfrm>
            <a:off x="6024600" y="5000760"/>
            <a:ext cx="112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nstantia"/>
              </a:rPr>
              <a:t>Servi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0" name="12 Conector recto de flecha"/>
          <p:cNvCxnSpPr/>
          <p:nvPr/>
        </p:nvCxnSpPr>
        <p:spPr>
          <a:xfrm flipH="1" flipV="1">
            <a:off x="1571400" y="4571640"/>
            <a:ext cx="4500720" cy="216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sp>
        <p:nvSpPr>
          <p:cNvPr id="221" name="13 CuadroTexto"/>
          <p:cNvSpPr/>
          <p:nvPr/>
        </p:nvSpPr>
        <p:spPr>
          <a:xfrm>
            <a:off x="2684160" y="4643280"/>
            <a:ext cx="153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nstantia"/>
              </a:rPr>
              <a:t>Código 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1 Título" descr=""/>
          <p:cNvPicPr/>
          <p:nvPr/>
        </p:nvPicPr>
        <p:blipFill>
          <a:blip r:embed="rId1"/>
          <a:stretch/>
        </p:blipFill>
        <p:spPr>
          <a:xfrm>
            <a:off x="73080" y="701640"/>
            <a:ext cx="8699400" cy="115092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2" descr="C:\Documents and Settings\Pedro\Configuración local\Archivos temporales de Internet\Content.IE5\S5A7C5YB\MPj04243890000[1].jpg"/>
          <p:cNvPicPr/>
          <p:nvPr/>
        </p:nvPicPr>
        <p:blipFill>
          <a:blip r:embed="rId2"/>
          <a:stretch/>
        </p:blipFill>
        <p:spPr>
          <a:xfrm>
            <a:off x="428760" y="3857760"/>
            <a:ext cx="1195200" cy="78552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3" descr="C:\Documents and Settings\Pedro\Configuración local\Archivos temporales de Internet\Content.IE5\3LN71IY7\MCj01974380000[1].wmf"/>
          <p:cNvPicPr/>
          <p:nvPr/>
        </p:nvPicPr>
        <p:blipFill>
          <a:blip r:embed="rId3"/>
          <a:stretch/>
        </p:blipFill>
        <p:spPr>
          <a:xfrm>
            <a:off x="6072120" y="3714840"/>
            <a:ext cx="857160" cy="1209600"/>
          </a:xfrm>
          <a:prstGeom prst="rect">
            <a:avLst/>
          </a:prstGeom>
          <a:ln w="0">
            <a:noFill/>
          </a:ln>
        </p:spPr>
      </p:pic>
      <p:sp>
        <p:nvSpPr>
          <p:cNvPr id="225" name="6 CuadroTexto"/>
          <p:cNvSpPr/>
          <p:nvPr/>
        </p:nvSpPr>
        <p:spPr>
          <a:xfrm>
            <a:off x="371880" y="4857840"/>
            <a:ext cx="110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nstantia"/>
              </a:rPr>
              <a:t>Brow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6" name="9 Conector recto de flecha"/>
          <p:cNvCxnSpPr/>
          <p:nvPr/>
        </p:nvCxnSpPr>
        <p:spPr>
          <a:xfrm>
            <a:off x="1643040" y="4000320"/>
            <a:ext cx="4448880" cy="3708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sp>
        <p:nvSpPr>
          <p:cNvPr id="227" name="10 CuadroTexto"/>
          <p:cNvSpPr/>
          <p:nvPr/>
        </p:nvSpPr>
        <p:spPr>
          <a:xfrm>
            <a:off x="3211560" y="3714840"/>
            <a:ext cx="63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nstantia"/>
              </a:rPr>
              <a:t>UR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11 CuadroTexto"/>
          <p:cNvSpPr/>
          <p:nvPr/>
        </p:nvSpPr>
        <p:spPr>
          <a:xfrm>
            <a:off x="6024600" y="5000760"/>
            <a:ext cx="112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nstantia"/>
              </a:rPr>
              <a:t>Servi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9" name="12 Conector recto de flecha"/>
          <p:cNvCxnSpPr/>
          <p:nvPr/>
        </p:nvCxnSpPr>
        <p:spPr>
          <a:xfrm flipH="1" flipV="1">
            <a:off x="1571400" y="4571640"/>
            <a:ext cx="4500720" cy="216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sp>
        <p:nvSpPr>
          <p:cNvPr id="230" name="13 CuadroTexto"/>
          <p:cNvSpPr/>
          <p:nvPr/>
        </p:nvSpPr>
        <p:spPr>
          <a:xfrm>
            <a:off x="2684160" y="4643280"/>
            <a:ext cx="153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nstantia"/>
              </a:rPr>
              <a:t>Código 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19 Flecha curvada hacia la izquierda"/>
          <p:cNvSpPr/>
          <p:nvPr/>
        </p:nvSpPr>
        <p:spPr>
          <a:xfrm>
            <a:off x="6929280" y="4000680"/>
            <a:ext cx="285840" cy="428400"/>
          </a:xfrm>
          <a:custGeom>
            <a:avLst/>
            <a:gdLst>
              <a:gd name="textAreaLeft" fmla="*/ 38160 w 285840"/>
              <a:gd name="textAreaRight" fmla="*/ 247680 w 285840"/>
              <a:gd name="textAreaTop" fmla="*/ 80280 h 428400"/>
              <a:gd name="textAreaBottom" fmla="*/ 312480 h 428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100" stAng="-5400000" swAng="5400000"/>
                <a:lnTo>
                  <a:pt x="21600" y="11700"/>
                </a:lnTo>
                <a:arcTo wR="21600" hR="8100" stAng="0" swAng="3327084"/>
                <a:lnTo>
                  <a:pt x="5400" y="21343"/>
                </a:lnTo>
                <a:lnTo>
                  <a:pt x="0" y="18000"/>
                </a:lnTo>
                <a:lnTo>
                  <a:pt x="5400" y="14143"/>
                </a:lnTo>
                <a:lnTo>
                  <a:pt x="5400" y="15943"/>
                </a:lnTo>
                <a:arcTo wR="21600" hR="8100" stAng="3327084" swAng="-3033971"/>
                <a:lnTo>
                  <a:pt x="21060" y="9900"/>
                </a:lnTo>
                <a:arcTo wR="21600" hR="8100" stAng="-293113" swAng="-5106887"/>
                <a:close/>
              </a:path>
              <a:path fill="darkenLess" w="21600" h="21600">
                <a:moveTo>
                  <a:pt x="0" y="0"/>
                </a:moveTo>
                <a:arcTo wR="21600" hR="8100" stAng="-5400000" swAng="5400000"/>
                <a:lnTo>
                  <a:pt x="21600" y="11700"/>
                </a:lnTo>
                <a:arcTo wR="21600" hR="8100" stAng="0" swAng="-293113"/>
                <a:lnTo>
                  <a:pt x="21060" y="9900"/>
                </a:lnTo>
                <a:arcTo wR="21600" hR="8100" stAng="-293113" swAng="-5106887"/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20 CuadroTexto"/>
          <p:cNvSpPr/>
          <p:nvPr/>
        </p:nvSpPr>
        <p:spPr>
          <a:xfrm>
            <a:off x="7189920" y="4000680"/>
            <a:ext cx="144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nstantia"/>
              </a:rPr>
              <a:t>Código PH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¿Como Insertar Codigo PHP?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&lt;html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&lt;head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&lt;title&gt;Ejemplo PHP&lt;/title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&lt;/head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&lt;body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ff0000"/>
                </a:solidFill>
                <a:latin typeface="Constantia"/>
              </a:rPr>
              <a:t>&lt;?php print("Hola, este es un ejemplo con </a:t>
            </a:r>
            <a:r>
              <a:rPr b="0" lang="es-CL" sz="2600" spc="-1" strike="noStrike">
                <a:solidFill>
                  <a:srgbClr val="ff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ff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ff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ff0000"/>
                </a:solidFill>
                <a:latin typeface="Constantia"/>
              </a:rPr>
              <a:t>PHP!“); 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&lt;/body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&lt;/html&gt;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Variabl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Se debe anteponer un signo ‘$’ delante del nombr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No es necesaria la definición explicita del tipo de dato. Este viene dado por el contexto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jemplo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En java…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877680" indent="-23616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ff0000"/>
                </a:solidFill>
                <a:latin typeface="Constantia"/>
              </a:rPr>
              <a:t>Int</a:t>
            </a:r>
            <a:r>
              <a:rPr b="0" lang="es-CL" sz="2100" spc="-1" strike="noStrike">
                <a:solidFill>
                  <a:srgbClr val="000000"/>
                </a:solidFill>
                <a:latin typeface="Constantia"/>
              </a:rPr>
              <a:t> numero = 1;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877680" indent="-23616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ff0000"/>
                </a:solidFill>
                <a:latin typeface="Constantia"/>
              </a:rPr>
              <a:t>String</a:t>
            </a:r>
            <a:r>
              <a:rPr b="0" lang="es-CL" sz="2100" spc="-1" strike="noStrike">
                <a:solidFill>
                  <a:srgbClr val="000000"/>
                </a:solidFill>
                <a:latin typeface="Constantia"/>
              </a:rPr>
              <a:t> frase = new String(‘hola mundo’);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En PHP…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877680" indent="-23616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ff0000"/>
                </a:solidFill>
                <a:latin typeface="Constantia"/>
              </a:rPr>
              <a:t>$</a:t>
            </a:r>
            <a:r>
              <a:rPr b="0" lang="es-CL" sz="2100" spc="-1" strike="noStrike">
                <a:solidFill>
                  <a:srgbClr val="000000"/>
                </a:solidFill>
                <a:latin typeface="Constantia"/>
              </a:rPr>
              <a:t>numero = 1;    // es un numero </a:t>
            </a:r>
            <a:r>
              <a:rPr b="0" lang="es-CL" sz="21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1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877680" indent="-236160">
              <a:spcBef>
                <a:spcPts val="476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ff0000"/>
                </a:solidFill>
                <a:latin typeface="Constantia"/>
              </a:rPr>
              <a:t>$</a:t>
            </a:r>
            <a:r>
              <a:rPr b="0" lang="es-CL" sz="1900" spc="-1" strike="noStrike">
                <a:solidFill>
                  <a:srgbClr val="000000"/>
                </a:solidFill>
                <a:latin typeface="Constantia"/>
              </a:rPr>
              <a:t>frase   = ‘hola mundo’;  //es un string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Imprimir una variabl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$texto = “Hola Mundo”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print($texto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jemplo (Creamos el archivo inicio.php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$texto = “Hola Mundo”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print($texto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Arreglo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$dato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4 Rectángulo"/>
          <p:cNvSpPr/>
          <p:nvPr/>
        </p:nvSpPr>
        <p:spPr>
          <a:xfrm>
            <a:off x="857160" y="3929040"/>
            <a:ext cx="7429680" cy="642960"/>
          </a:xfrm>
          <a:prstGeom prst="rect">
            <a:avLst/>
          </a:prstGeom>
          <a:solidFill>
            <a:srgbClr val="ffffff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6 Conector recto"/>
          <p:cNvSpPr/>
          <p:nvPr/>
        </p:nvSpPr>
        <p:spPr>
          <a:xfrm flipH="1">
            <a:off x="1498680" y="3930480"/>
            <a:ext cx="1440" cy="64296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10 Conector recto"/>
          <p:cNvSpPr/>
          <p:nvPr/>
        </p:nvSpPr>
        <p:spPr>
          <a:xfrm flipH="1">
            <a:off x="2784600" y="3930480"/>
            <a:ext cx="1440" cy="64296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12 Conector recto"/>
          <p:cNvSpPr/>
          <p:nvPr/>
        </p:nvSpPr>
        <p:spPr>
          <a:xfrm flipH="1">
            <a:off x="4284720" y="3930480"/>
            <a:ext cx="1440" cy="64296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14 Conector recto"/>
          <p:cNvSpPr/>
          <p:nvPr/>
        </p:nvSpPr>
        <p:spPr>
          <a:xfrm flipH="1">
            <a:off x="5000760" y="3930480"/>
            <a:ext cx="1440" cy="64296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16 Conector recto"/>
          <p:cNvSpPr/>
          <p:nvPr/>
        </p:nvSpPr>
        <p:spPr>
          <a:xfrm flipH="1">
            <a:off x="6571800" y="3930480"/>
            <a:ext cx="1800" cy="64296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17 CuadroTexto"/>
          <p:cNvSpPr/>
          <p:nvPr/>
        </p:nvSpPr>
        <p:spPr>
          <a:xfrm>
            <a:off x="1045800" y="407196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nstanti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18 CuadroTexto"/>
          <p:cNvSpPr/>
          <p:nvPr/>
        </p:nvSpPr>
        <p:spPr>
          <a:xfrm>
            <a:off x="1765080" y="407196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nstantia"/>
              </a:rPr>
              <a:t>Joh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19 CuadroTexto"/>
          <p:cNvSpPr/>
          <p:nvPr/>
        </p:nvSpPr>
        <p:spPr>
          <a:xfrm>
            <a:off x="3198600" y="4071960"/>
            <a:ext cx="69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nstantia"/>
              </a:rPr>
              <a:t>Ho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20 CuadroTexto"/>
          <p:cNvSpPr/>
          <p:nvPr/>
        </p:nvSpPr>
        <p:spPr>
          <a:xfrm>
            <a:off x="4494600" y="407196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nstanti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21 CuadroTexto"/>
          <p:cNvSpPr/>
          <p:nvPr/>
        </p:nvSpPr>
        <p:spPr>
          <a:xfrm>
            <a:off x="5160960" y="407196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nstantia"/>
              </a:rPr>
              <a:t>213212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22 CuadroTexto"/>
          <p:cNvSpPr/>
          <p:nvPr/>
        </p:nvSpPr>
        <p:spPr>
          <a:xfrm>
            <a:off x="7128000" y="4071960"/>
            <a:ext cx="74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nstantia"/>
              </a:rPr>
              <a:t>Cl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25 Rectángulo"/>
          <p:cNvSpPr/>
          <p:nvPr/>
        </p:nvSpPr>
        <p:spPr>
          <a:xfrm>
            <a:off x="857160" y="3286080"/>
            <a:ext cx="7429680" cy="642960"/>
          </a:xfrm>
          <a:prstGeom prst="rect">
            <a:avLst/>
          </a:prstGeom>
          <a:solidFill>
            <a:srgbClr val="ffffff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27 Conector recto"/>
          <p:cNvSpPr/>
          <p:nvPr/>
        </p:nvSpPr>
        <p:spPr>
          <a:xfrm flipH="1">
            <a:off x="1498680" y="3286080"/>
            <a:ext cx="1440" cy="64440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29 Conector recto"/>
          <p:cNvSpPr/>
          <p:nvPr/>
        </p:nvSpPr>
        <p:spPr>
          <a:xfrm flipH="1">
            <a:off x="2784600" y="3286080"/>
            <a:ext cx="1440" cy="64440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31 Conector recto"/>
          <p:cNvSpPr/>
          <p:nvPr/>
        </p:nvSpPr>
        <p:spPr>
          <a:xfrm flipH="1">
            <a:off x="4284720" y="3286080"/>
            <a:ext cx="1440" cy="64440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33 Conector recto"/>
          <p:cNvSpPr/>
          <p:nvPr/>
        </p:nvSpPr>
        <p:spPr>
          <a:xfrm flipH="1">
            <a:off x="5000760" y="3286080"/>
            <a:ext cx="1440" cy="64440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34 Conector recto"/>
          <p:cNvSpPr/>
          <p:nvPr/>
        </p:nvSpPr>
        <p:spPr>
          <a:xfrm flipH="1">
            <a:off x="6571800" y="3286080"/>
            <a:ext cx="1800" cy="64440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35 CuadroTexto"/>
          <p:cNvSpPr/>
          <p:nvPr/>
        </p:nvSpPr>
        <p:spPr>
          <a:xfrm>
            <a:off x="1071720" y="342900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nstanti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36 CuadroTexto"/>
          <p:cNvSpPr/>
          <p:nvPr/>
        </p:nvSpPr>
        <p:spPr>
          <a:xfrm>
            <a:off x="1760040" y="342900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nstanti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37 CuadroTexto"/>
          <p:cNvSpPr/>
          <p:nvPr/>
        </p:nvSpPr>
        <p:spPr>
          <a:xfrm>
            <a:off x="3208680" y="342900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nstanti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38 CuadroTexto"/>
          <p:cNvSpPr/>
          <p:nvPr/>
        </p:nvSpPr>
        <p:spPr>
          <a:xfrm>
            <a:off x="4491720" y="342900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nstanti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39 CuadroTexto"/>
          <p:cNvSpPr/>
          <p:nvPr/>
        </p:nvSpPr>
        <p:spPr>
          <a:xfrm>
            <a:off x="5285160" y="342900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nstanti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40 CuadroTexto"/>
          <p:cNvSpPr/>
          <p:nvPr/>
        </p:nvSpPr>
        <p:spPr>
          <a:xfrm>
            <a:off x="7136280" y="342900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nstantia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2T18:49:00Z</dcterms:created>
  <dc:creator>Pedro</dc:creator>
  <dc:description/>
  <dc:language>en-US</dc:language>
  <cp:lastModifiedBy>Pedro</cp:lastModifiedBy>
  <dcterms:modified xsi:type="dcterms:W3CDTF">2008-04-23T01:21:47Z</dcterms:modified>
  <cp:revision>40</cp:revision>
  <dc:subject/>
  <dc:title>Guía PHP</dc:title>
</cp:coreProperties>
</file>