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BAD9-815F-471F-88FC-4DF5DA2C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0B5A-4203-4A2E-9820-4206D2A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7027-FB2A-4359-9315-98BFDA58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FADE-6835-4A99-9024-8C9DA55F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84A-77D3-4659-B3FA-89378F2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0E4-1837-4E10-A521-EE9EF75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45C-77BC-4613-BA0A-2061AE3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57D-B9B6-4CB0-9BF9-B6FD184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28C2-EEC9-45C0-ABF3-48BF09B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537-E063-4766-A886-F2F4E092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372-BF2C-4DB3-9696-D584F2D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1B9E-6621-4FAC-A195-FBC82747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24D-2624-4975-A99D-68D850A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22D-8619-4020-8883-52D0CCD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09D-5B0C-4251-9E2C-0F7418C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EEDD-F446-4DFA-BD67-FB807659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BF7-96AB-47A1-9590-8EDF7B1F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9AD1-E92C-4928-BBC7-69487CD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1B75-7CEA-4AD6-B774-B2AA286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4F1D-55F4-455E-9D03-9B53030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9B23-E18A-45C3-A640-43503B8A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0732-7FF1-4AA6-94A5-2228C89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D6BA-7CD9-4DA1-B187-02543CC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ADA6-DB76-4B60-9DE3-86946343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DD2-0B10-4775-9A38-509AB5315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1ED-DD1D-4FBF-94A6-887F6AEDC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slc.ws/spanish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OLIM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619280" y="620640"/>
          <a:ext cx="5129280" cy="40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51292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724360" y="486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uretano (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s de los polí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186000"/>
            <a:ext cx="4619880" cy="55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as: cadenas lineales de polímero, una al lado de otra, a lo largo de un 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860640"/>
            <a:ext cx="82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é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ómeros: pueden ser estirados gran longitud, luego recuperan su forma sin deformación perma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71640" y="1268280"/>
          <a:ext cx="6818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6818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400720" cy="177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48000" y="2708280"/>
            <a:ext cx="1728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422100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22100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4724280"/>
            <a:ext cx="5904000" cy="1359000"/>
            <a:chOff x="1692360" y="4724280"/>
            <a:chExt cx="590400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1692360" y="4724280"/>
              <a:ext cx="590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564000" y="4797360"/>
              <a:ext cx="1224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p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6093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preno (cau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74760" y="5601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meros inorgánicos (no contienen átomos de carbono en la cadena princip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s: elastómeros, aceites, ad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2919240"/>
            <a:ext cx="78678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o de polimer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º de unidades que se repiten en la ca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molecular = grado de polimerización X peso molecular de la unidad re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Ciencia de los polímeros”. 2ª edición, Reverté, Barcelona , 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Textbook of polymer science”. 2ª edición, Wiley-Interscience, New York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, R. J. y Lovell, P. A.  “Introduction to polymers”. 2ª edición, Chapman &amp; Hall, Londres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mos Carpio, M. A. “Ingeniería de los materiales plásticos”. Ediciones Díaz de Santos, Madrid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quera, P. “Ciencia de los polímeros : apuntes curso ID58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slc.ws/spanish/index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ágina de polímeros de Facultad de Ciencias Químicas, Universidad Nacional de Córdoba, Córdoba,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213000"/>
            <a:ext cx="5761080" cy="124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6280"/>
            <a:ext cx="828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 grande, constituida por la repetición de pequeñas unidades química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etición puede ser lineal o ram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024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460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nidad repetitiva es equivalente (o casi) al monómero (molécula de partida para la formación del polí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98840"/>
          <a:ext cx="324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98840"/>
                    <a:ext cx="324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8360" y="177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me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repeti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140360" y="2525760"/>
          <a:ext cx="18097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525760"/>
                    <a:ext cx="1809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48360" y="2492280"/>
          <a:ext cx="11509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2492280"/>
                    <a:ext cx="115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58920" y="3102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etileno (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102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920" y="3860640"/>
            <a:ext cx="5905440" cy="200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932360" y="5805360"/>
            <a:ext cx="1655640" cy="8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380360" y="4869000"/>
          <a:ext cx="107928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869000"/>
                    <a:ext cx="10792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237440" y="6165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ileno (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040360" cy="23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672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5184720" cy="1684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300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ruro de vi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530064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loruro de vinilo (P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47640" y="907920"/>
          <a:ext cx="51134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07920"/>
                    <a:ext cx="51134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1600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fluor 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20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tetrafloretileno (PTFE – Tefl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87880" cy="127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997600" cy="21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58136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rilato de m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4581360"/>
            <a:ext cx="30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 Metacrilato de metilo (P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708280"/>
            <a:ext cx="19447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8301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arbonato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4596120" cy="19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112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etilentereftalato (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3456000"/>
          <a:ext cx="70959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456000"/>
                    <a:ext cx="70959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485928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661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ET proviene de dos monómeros diferentes, es un Copol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2286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2286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79640" y="3284640"/>
            <a:ext cx="4103640" cy="21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643280" y="620640"/>
          <a:ext cx="288144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620640"/>
                    <a:ext cx="2881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70836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989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il acri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6021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“acríl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9:26:06Z</dcterms:created>
  <dc:creator>Quimica</dc:creator>
  <dc:description/>
  <dc:language>en-US</dc:language>
  <cp:lastModifiedBy>Quimica</cp:lastModifiedBy>
  <dcterms:modified xsi:type="dcterms:W3CDTF">2008-03-25T20:51:16Z</dcterms:modified>
  <cp:revision>14</cp:revision>
  <dc:subject/>
  <dc:title>POLIMEROS</dc:title>
</cp:coreProperties>
</file>