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3D25-2F85-4952-83F8-A39BEE2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97A5-422D-4A68-A84D-127DF0C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5A53-054B-41CA-B758-8459BC2F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44B0-BA36-4149-9ECB-9F1AACDC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16A-3331-459E-87FF-9F7D3DD0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47C8-69A9-4BC7-8788-CE6F5F4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BD74-E714-4495-BF83-9C052B30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2B4A-2BD6-4C36-95AE-234CA7C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6087-ADF7-4E1E-8047-6AECC9AF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822A-D51A-4FFD-BDB4-9368DE5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E8B7-D126-41A5-A6BD-02B1E07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D46A-0E83-4F26-88D9-264C42B9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3D5-2128-4584-B18D-BBEDE74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C64-002B-4B01-9744-432A253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25C-721C-4F2A-A65F-D225247C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273A-5D8E-4A1E-8620-3BC186C4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94CA-5B2E-4836-BF27-35C31E0D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A4C2-167D-4830-AC3E-90281243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F766-01CA-4873-A03B-3D6E751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5C8B-4DF7-400B-A4D8-50B9CD6E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1B58-4231-4BCD-96B8-C8A5B25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BABF-CB3E-4351-BB1C-2443A75A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063E-1B62-47C0-96E0-A9CC842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17ED-8C2C-4D92-B9C1-16E99EB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8D7-42B2-4D47-928D-7A02400C3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BB5-CA6F-4B27-9D63-9B58FD7C3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slc.ws/spanish/index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POLIM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619280" y="620640"/>
          <a:ext cx="5129280" cy="40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51292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724360" y="486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uretano (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os de los polí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3186000"/>
            <a:ext cx="4619880" cy="552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5280" y="184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as: cadenas lineales de polímero, una al lado de otra, a lo largo de un 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860640"/>
            <a:ext cx="82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é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40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ómeros: pueden ser estirados gran longitud, luego recuperan su forma sin deformación perma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71640" y="1268280"/>
          <a:ext cx="68184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68184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400720" cy="177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348000" y="2708280"/>
            <a:ext cx="1728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4221000"/>
            <a:ext cx="15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422100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bu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4724280"/>
            <a:ext cx="5904000" cy="1359000"/>
            <a:chOff x="1692360" y="4724280"/>
            <a:chExt cx="5904000" cy="135900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1692360" y="4724280"/>
              <a:ext cx="590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564000" y="4797360"/>
              <a:ext cx="12240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79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op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60930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isopreno (cau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74760" y="5601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meros inorgánicos (no contienen átomos de carbono en la cadena princip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s: elastómeros, aceites, ad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2919240"/>
            <a:ext cx="78678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o de polimer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º de unidades que se repiten en la ca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molecular = grado de polimerización X peso molecular de la unidad re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Ciencia de los polímeros”. 2ª edición, Reverté, Barcelona , 197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llmeyer, F. W. “Textbook of polymer science”. 2ª edición, Wiley-Interscience, New York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, R. J. y Lovell, P. A.  “Introduction to polymers”. 2ª edición, Chapman &amp; Hall, Londres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mos Carpio, M. A. “Ingeniería de los materiales plásticos”. Ediciones Díaz de Santos, Madrid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quera, P. “Ciencia de los polímeros : apuntes curso ID58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pslc.ws/spanish/index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ágina de polímeros de Facultad de Ciencias Químicas, Universidad Nacional de Córdoba, Córdoba,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213000"/>
            <a:ext cx="5761080" cy="124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76280"/>
            <a:ext cx="828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écula grande, constituida por la repetición de pequeñas unidades química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etición puede ser lineal o ram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024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460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unidad repetitiva es equivalente (o casi) al monómero (molécula de partida para la formación del polí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598840"/>
          <a:ext cx="324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98840"/>
                    <a:ext cx="324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8360" y="1773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me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repetit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ó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140360" y="2525760"/>
          <a:ext cx="18097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525760"/>
                    <a:ext cx="1809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48360" y="2492280"/>
          <a:ext cx="115092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2492280"/>
                    <a:ext cx="115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58920" y="3102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etileno (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1021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920" y="3860640"/>
            <a:ext cx="5905440" cy="200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932360" y="5805360"/>
            <a:ext cx="1655640" cy="88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380360" y="4869000"/>
          <a:ext cx="107928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869000"/>
                    <a:ext cx="10792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237440" y="6165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ileno (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040360" cy="2398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672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5184720" cy="1684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300640"/>
            <a:ext cx="19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ruro de vin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530064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loruro de vinilo (P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547640" y="907920"/>
          <a:ext cx="51134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907920"/>
                    <a:ext cx="51134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1600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trafluor et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20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tetrafloretileno (PTFE – Tefl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87880" cy="1274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997600" cy="21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58136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rilato de me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8720" y="4581360"/>
            <a:ext cx="30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 Metacrilato de metilo (PM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708280"/>
            <a:ext cx="19447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3080" y="8301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carbonato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4596120" cy="198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112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ietilentereftalato (P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3456000"/>
          <a:ext cx="70959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456000"/>
                    <a:ext cx="70959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485928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661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ET proviene de dos monómeros diferentes, es un Copolí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71640" y="620640"/>
          <a:ext cx="2286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20640"/>
                    <a:ext cx="2286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979640" y="3284640"/>
            <a:ext cx="4103640" cy="210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4643280" y="620640"/>
          <a:ext cx="288144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620640"/>
                    <a:ext cx="28814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70836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1989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rilonitr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til acri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6021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“acríl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9:26:06Z</dcterms:created>
  <dc:creator>Quimica</dc:creator>
  <dc:description/>
  <dc:language>en-US</dc:language>
  <cp:lastModifiedBy>Quimica</cp:lastModifiedBy>
  <dcterms:modified xsi:type="dcterms:W3CDTF">2008-03-25T20:51:16Z</dcterms:modified>
  <cp:revision>14</cp:revision>
  <dc:subject/>
  <dc:title>POLIMEROS</dc:title>
</cp:coreProperties>
</file>