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6663-EC48-4137-B56C-3CA5AA762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4C54-1FC2-483D-84F4-D165071CF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9D07-B9C2-4191-A487-A0BFA9850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8976-B8FD-4364-90AB-F8C54F3FE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8427D-2295-47D5-A375-E06AB77E6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B9451-4A20-4183-9C28-752B1F37D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82B58-C8A5-47BB-B1AD-C2E7991C9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0E2CD-2E79-4446-A193-E33ECD7ED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9C3CE-8A82-4DF3-8D4D-EC42098E4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3F295-0491-4F3C-9609-F1A89A2F8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F4D43-D2C9-41B1-B4FE-01572BF02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C87E-3CE7-423E-8DCC-1B037FAC1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735AD-D6D5-4BDC-B58C-BC378AE23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6D2BF-16E1-431B-9CD0-38DAC385A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FA9C0-9EB6-42E0-AED7-311337958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552EB-23ED-4B3F-A03F-D2DE77ED5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64F7A-76E8-4AEB-9FA8-1BB66BCBD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96F3-1DC8-46B3-888E-4EFC7E1FD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8CDC-84D3-4244-A41A-EB2772665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51FD-6032-4D96-8D19-9CE435BAE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8F1B-1B78-495E-88DE-F39DE4B0F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38A2-0BE0-4530-B5A2-03972FB46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4006-DBA8-4B9B-ACB6-61C5A4D3E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EB5F-B054-47F7-9B85-DE4F4F839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748DA-515F-4072-9DCF-E9C9F91E1E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FF7CF-4157-4D2F-8C35-820B6C3A75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Polímeros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piedades de interé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ropiedades Mecánica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ortamiento bajo tensión o esfuerz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1225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¿Es resistente? ¿Cuánto se puede estirar antes de rompers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1225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¿Cuán rígido es? ¿Cuánto se puede flectar o doblar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1225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¿Es frágil? ¿Se rompe si se golpea con fuerza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1225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¿Es duro o blando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1225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¿Vuelve a su forma original después de estirarlo repetidament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46040" y="476280"/>
            <a:ext cx="8229600" cy="26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fuerzo: fuerza por unidad de área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 esfuerzo tiene unidades de presió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formación: cambio en la longitud de la muestr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132000" y="3860640"/>
            <a:ext cx="1756080" cy="24368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5940360" y="3716280"/>
            <a:ext cx="2473560" cy="273708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3419640" y="2482920"/>
                <a:ext cx="3097080" cy="84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formación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L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547640" y="2060640"/>
            <a:ext cx="5567400" cy="30430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684360" y="76500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urva esfuerzo - deform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1619280" y="2057400"/>
            <a:ext cx="5400720" cy="31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b7"/>
                </a:solidFill>
                <a:latin typeface="Arial Black"/>
              </a:rPr>
              <a:t>Módulo de Young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mbién llamado módulo de elasticida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ndiente inicial de la curva tensión/ deform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teriales rígidos tienen alto módulo de Young (fibras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astómeros tienen valores baj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851280" y="4094280"/>
            <a:ext cx="4537080" cy="27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684360" y="404640"/>
            <a:ext cx="784836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enacid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ea bajo la curva tensión-deformación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 una medida de la energía absorbida por el polímero, antes de rompers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619280" y="2924280"/>
            <a:ext cx="4824360" cy="26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788000" y="1341360"/>
            <a:ext cx="3906720" cy="410364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84360" y="549360"/>
            <a:ext cx="74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ómo se hace la medició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84360" y="1701720"/>
            <a:ext cx="3958920" cy="37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pone una probeta de dimensiones conocidas entre dos mordazas, una fija y la otra móvi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ando se estira la muestra, se mide la fuerza ejercida por el instrumento y la longitud de la probe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116000" y="1654200"/>
            <a:ext cx="6962760" cy="17748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611280" y="3935520"/>
            <a:ext cx="77770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RMOPLÁSTICO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s fuerzas entre moléculas son débiles. El material se ablanda cuando se calienta, se puede moldear, y luego enfriar, repetidamen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55640" y="33336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asificación de los polímer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539280" y="54900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TERMORRIGID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Toman forma definitiva cuando se enfría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Son polímeros tridimensionales, con cierto grado de entrecruzamiento. Este restringe el movimiento de las cadenas, y rigidiza el materi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003640" y="3860640"/>
            <a:ext cx="3403800" cy="27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68000" y="83664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ASTOMER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 pueden estirar, y vuelven a su longitud inicial cuando se retira la fuerz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n polímeros con bajo entrecruzamient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Debe estar sobre su temperatura de transición vítrea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s “elásticos” son elastómer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364000" y="4221000"/>
            <a:ext cx="2735280" cy="22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755640" y="1052640"/>
            <a:ext cx="3144960" cy="44719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116000" y="333360"/>
            <a:ext cx="684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LIMERO: tiene zonas cristalinas y amorf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16360" y="170028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ONA CRISTALI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788000" y="314172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ONA AMORF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268880" y="3573360"/>
            <a:ext cx="4695840" cy="27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región amorfa puede estar en estado vítreo (rígido) o elastomérico (como goma). Depende de la temperatu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mperatura de transición vítrea (Tg): aquella en que ocurre la transición entre “orden” y “desorden”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3132000" y="1916280"/>
            <a:ext cx="1440000" cy="720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3357720"/>
            <a:ext cx="1439640" cy="0"/>
          </a:xfrm>
          <a:prstGeom prst="line">
            <a:avLst/>
          </a:prstGeom>
          <a:ln w="93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2916360" y="3500280"/>
            <a:ext cx="1655640" cy="1368720"/>
          </a:xfrm>
          <a:prstGeom prst="line">
            <a:avLst/>
          </a:prstGeom>
          <a:ln w="93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95280" y="401400"/>
            <a:ext cx="8353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jo Tg: moléculas inmóviles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ólido rígi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bre Tg: Sólido amorfo desordenado con porciones de moléculas que se pueden mov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55640" y="2637000"/>
            <a:ext cx="6480360" cy="40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Polímero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s-ES" sz="1800" spc="-1" strike="noStrike" baseline="-25000">
                <a:solidFill>
                  <a:srgbClr val="ffffff"/>
                </a:solidFill>
                <a:latin typeface="Arial"/>
              </a:rPr>
              <a:t>g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lang="es-ES" sz="18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C)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lyethylene (LDPE)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-125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lypropylene (atactic)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-20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ly(vinyl acetate) (PVAc)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28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ly(ethyleneterephthalate) (PET)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69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ly(vinyl alcohol) (PVA)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85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ly(vinyl chloride) (PVC)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8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lypropylene (isotactic)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100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lystyrene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100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ly(methylmethacrylate) (atactic)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10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ropiedades Térmica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116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Temperatura de fusión (Tm 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Temperatura de transición vítrea (Tg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ropiedades Mecánica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7720" y="2171880"/>
            <a:ext cx="8007480" cy="32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Si Ud.: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Mid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stira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resistencia a la trac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omprime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resistencia a la compres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obla o flecta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resistencia a la flex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Tuerce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resistencia torsi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Golpea violentamente con un martill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resistencia al impac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2374920"/>
            <a:ext cx="9144000" cy="360"/>
          </a:xfrm>
          <a:prstGeom prst="rect">
            <a:avLst/>
          </a:prstGeom>
          <a:solidFill>
            <a:srgbClr val="f5f5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4T23:23:32Z</dcterms:created>
  <dc:creator>teresa.velilla</dc:creator>
  <dc:description/>
  <dc:language>en-US</dc:language>
  <cp:lastModifiedBy>Sala</cp:lastModifiedBy>
  <dcterms:modified xsi:type="dcterms:W3CDTF">2008-04-29T17:52:58Z</dcterms:modified>
  <cp:revision>13</cp:revision>
  <dc:subject/>
  <dc:title>Diapositiva 1</dc:title>
</cp:coreProperties>
</file>