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60E-650E-4D56-A81C-AB9CA72D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A67-3910-4D9E-93AF-61627FB0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29A-2996-4969-BB54-50F625F9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1DA-27EB-4149-A058-4F2B88B5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40B5-05A6-494E-BC8F-089ED3FB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255E-6AB2-44CD-BFA1-C0AB97E4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21BC-AA09-4807-8147-F45CFCD9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CC65-E3EB-42AB-AD89-D72A657D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A701-F743-4668-81A9-A4125C07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F95B-8E88-4E93-916D-628CA6BA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8A6-2F1E-4B5C-8D67-3872A68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542-9139-44EA-B865-FB9F7181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064F-C2D2-4502-9E49-DB7EE1A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3110-39A5-4D93-8F9A-D265315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81DA-51CA-4EA7-9BEE-B9215C74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9C5E-C752-4F81-9EB5-D3001929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2906-4D82-418C-AD23-12D75138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42D-2F3D-42BA-9EB7-77AD81EB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317-8A0E-43C8-8051-1D4C2A56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3B2-3AE5-4227-9004-52E20F8E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F60-C24E-451C-A48A-2CF2A9C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5D6-EE6D-4644-8DDB-E26D9DE9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619-0F6F-4381-8E05-C49F63B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812-58BB-46B6-B3BC-CE81868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F157-0850-40EB-AC22-70C004977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DBDA-8498-4BC0-871C-7C82660F3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olímero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edades de 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rtamiento bajo tensión o esfuer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resistente? ¿Cuánto se puede estirar antes de romper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 rígido es? ¿Cuánto se puede flectar o dobl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frágil? ¿Se rompe si se golpea con fuerz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duro o blan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Vuelve a su forma original después de estirarlo repetidame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4604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fuerzo: fuerza por unidad de á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esfuerzo tiene unidades de 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mación: cambio en la longitud de la mues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1756080" cy="2436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3716280"/>
            <a:ext cx="2473560" cy="273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19640" y="2482920"/>
                <a:ext cx="3097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ormación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567400" cy="304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76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va esfuerzo - de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19280" y="2057400"/>
            <a:ext cx="5400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Módulo de You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bién llamad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iente inicial de la curva tensión/ de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es rígidos tienen alto módulo de Young (fibr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ómeros tienen valores ba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51280" y="4094280"/>
            <a:ext cx="4537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404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a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bajo la curva tensión-de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a medida de la energía absorbida por el polímero, antes de romp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48243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906720" cy="410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549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se hace la medi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701720"/>
            <a:ext cx="39589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one una probeta de dimensiones conocidas entre dos mordazas, una fija y la otra mó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estira la muestra, se mide la fuerza ejercida por el instrumento y la longitud de la prob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654200"/>
            <a:ext cx="6962760" cy="177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3935520"/>
            <a:ext cx="777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OPLÁS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fuerzas entre moléculas son débiles. El material se ablanda cuando se calienta, se puede moldear, y luego enfriar, repetid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ificación de los polím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RMORRIG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man forma definitiva cuando se enfrí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 polímeros tridimensionales, con cierto grado de entrecruzamiento. Este restringe el movimiento de las cadenas, y rigidiza el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4038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OM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n estirar, y vuelven a su longitud inicial cuando se retira la fuer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olímeros con bajo entrecruz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ebe estar sobre su temperatura de transición vítre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“elásticos” son elastóm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4221000"/>
            <a:ext cx="2735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144960" cy="447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33336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MERO: tiene zonas cristalinas y amorf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CRIST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1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AMOR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8880" y="3573360"/>
            <a:ext cx="46958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gión amorfa puede estar en estado vítreo (rígido) o elastomérico (como goma). Depende de la tempera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 de transición vítrea (Tg): aquella en que ocurre la transición entre “orden” y “desorden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32000" y="1916280"/>
            <a:ext cx="144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357720"/>
            <a:ext cx="1439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16360" y="3500280"/>
            <a:ext cx="1655640" cy="13687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4014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jo Tg: moléculas inmóvi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ólido rí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bre Tg: Sólido amorfo desordenado con porciones de moléculas que se pueden mo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637000"/>
            <a:ext cx="648036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límer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s-E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ethylene (LDPE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1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2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cetate) (PVA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ethyleneterephthalate) (PET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lcohol) (PV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chloride) (PV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iso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styren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methylmethacrylate)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Térm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fusión (Tm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transición vítrea (T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171880"/>
            <a:ext cx="800748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Ud.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i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rim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bla o flect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er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tor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olpea violentamente con un mart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l imp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374920"/>
            <a:ext cx="9144000" cy="360"/>
          </a:xfrm>
          <a:prstGeom prst="rect">
            <a:avLst/>
          </a:prstGeom>
          <a:solidFill>
            <a:srgbClr val="f5f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3:23:32Z</dcterms:created>
  <dc:creator>teresa.velilla</dc:creator>
  <dc:description/>
  <dc:language>en-US</dc:language>
  <cp:lastModifiedBy>Sala</cp:lastModifiedBy>
  <dcterms:modified xsi:type="dcterms:W3CDTF">2008-04-29T17:52:58Z</dcterms:modified>
  <cp:revision>13</cp:revision>
  <dc:subject/>
  <dc:title>Diapositiva 1</dc:title>
</cp:coreProperties>
</file>